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25D7-CF32-4FC8-B560-DE4B4D6EC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1328-EC42-4117-9508-5AC0D18E9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1FE1-3A1D-4D26-B0C2-4A3704E4C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D2C9-93F0-4160-AD92-3ADD4F16D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9CE7-AB37-4471-9074-59414DA4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50C30-593C-4888-8CA5-39ADD2CB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FC0A-3DAB-42E7-86CC-F9E8AB4F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67BD-70B3-4EA8-B4CB-B06EC3AF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3F95-DD93-4BDF-B3A3-D02EF119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90110-F2EB-4D70-BAC8-71B3EF6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D171-7484-4BA7-AA68-2774162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9B5B-397D-49F1-9350-DB416B650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B3C4-55B2-47FD-828C-35C4974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08A4-2332-41FA-9144-9D051A6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0D522-C31F-494E-ACF3-247A61C7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90696-8206-40EF-AC1E-5FE8C605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9AD0-F952-467C-879A-DD475E13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5B86E-032F-4FC5-9ECF-7013EC87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F8B66-094C-4743-A29E-4331E619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485B4-49FA-496D-A48B-CB707481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7DBBC-61AB-4034-B31C-075CA88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5DC78-0E1D-465E-BC9E-3B306C4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C932-C3B5-45A8-834B-45B765EAC6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818E8-8129-405D-883D-AB6C556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AE032-45CA-4303-862A-CC87E121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53ED7-F5E5-44F8-BF1E-DFE8DCD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9FC7B-5A4E-4FC3-BE9D-229AD55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92C30-74AA-4CBF-834F-34C2F75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9EDB9-DB27-47F5-B947-C5AA9903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531B4-FC97-451C-896D-0AB2A044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B31CE-A50B-44FA-A353-1774C865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CAFB2-C25E-4F66-8B8D-58559B3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6B90C-4EC2-4A54-9959-CA1D54B4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7B39-442E-454F-A1A4-06F92037E9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0566D-164E-4597-AC9C-15403A1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FB683-431E-46F4-AEE3-3E4227E2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F0776-CB4A-4FF9-8D0A-DFF9DD6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4AD34-8BFD-4A3D-B7D8-BD345D5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19F63-3DBD-4DA4-BD1C-E16E61F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8439E-7176-4FDA-8BFD-53BCAEF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0AF73-A3AD-4EF4-B14B-448381F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83216-C658-4F55-9F4F-65FDB9A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0D193-CF0F-4042-8423-7011647B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A152-886D-433A-B227-4191DFD60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187B-48F0-449E-B369-2790EC9E8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1EC2-2171-44AA-882B-E34465DC4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619F-EBFF-4442-9826-949087FAA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4E6C-4BC2-4ECA-93C4-8A71079EE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522-A71E-4693-BEFA-6C3AD0EF49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304920" y="304920"/>
            <a:ext cx="1320840" cy="1320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28760" y="776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宋体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B54C-7C12-4C69-9171-2A484B8F16F9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385920" y="6516720"/>
            <a:ext cx="2133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联素材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3lian.c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2601-1607-48B7-835A-FA7F0B17A8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385920" y="6516720"/>
            <a:ext cx="2133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PPT 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三联素材（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www.3lian.com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CDA-8BBD-46AA-83FD-5B59059E7E39}" type="slidenum">
              <a:rPr b="0" lang="zh-CN" sz="1200" spc="-1" strike="noStrike">
                <a:solidFill>
                  <a:srgbClr val="2b166e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3884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cccc00"/>
              </a:solidFill>
              <a:uFillTx/>
              <a:latin typeface="Verdana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240" y="148608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漂亮的动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62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3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5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8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9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ffffff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3a5467"/>
                </a:gs>
                <a:gs pos="100000">
                  <a:srgbClr val="6c9b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562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6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78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2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50000">
                  <a:srgbClr val="ffffff"/>
                </a:gs>
                <a:gs pos="100000">
                  <a:srgbClr val="458f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04242"/>
                </a:gs>
                <a:gs pos="100000">
                  <a:srgbClr val="458f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50000">
                  <a:srgbClr val="254d4d"/>
                </a:gs>
                <a:gs pos="100000">
                  <a:srgbClr val="458f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c5b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88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9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0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1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93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4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5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6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97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403" name="Rectangle 4"/>
            <p:cNvSpPr/>
            <p:nvPr/>
          </p:nvSpPr>
          <p:spPr>
            <a:xfrm rot="13770000">
              <a:off x="4808160" y="36237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 rot="20856000">
              <a:off x="2937960" y="32238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 rot="18394200">
              <a:off x="4913280" y="2238120"/>
              <a:ext cx="531720" cy="122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813120" y="2276640"/>
              <a:ext cx="1498680" cy="1420920"/>
              <a:chOff x="3813120" y="2276640"/>
              <a:chExt cx="1498680" cy="14209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813120" y="2276640"/>
                <a:ext cx="1498680" cy="1420920"/>
                <a:chOff x="3813120" y="2276640"/>
                <a:chExt cx="1498680" cy="1420920"/>
              </a:xfrm>
            </p:grpSpPr>
            <p:sp>
              <p:nvSpPr>
                <p:cNvPr id="408" name="Oval 9"/>
                <p:cNvSpPr/>
                <p:nvPr/>
              </p:nvSpPr>
              <p:spPr>
                <a:xfrm>
                  <a:off x="3813120" y="22766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>
                  <a:off x="3984480" y="2300040"/>
                  <a:ext cx="1155960" cy="536040"/>
                </a:xfrm>
                <a:custGeom>
                  <a:avLst/>
                  <a:gdLst>
                    <a:gd name="textAreaLeft" fmla="*/ 0 w 1155960"/>
                    <a:gd name="textAreaRight" fmla="*/ 1156320 w 115596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11"/>
              <p:cNvSpPr/>
              <p:nvPr/>
            </p:nvSpPr>
            <p:spPr>
              <a:xfrm>
                <a:off x="3845520" y="2894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097240" y="1447920"/>
              <a:ext cx="909360" cy="770040"/>
              <a:chOff x="5097240" y="1447920"/>
              <a:chExt cx="909360" cy="7700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123880" y="1447920"/>
                <a:ext cx="810720" cy="770040"/>
                <a:chOff x="5123880" y="1447920"/>
                <a:chExt cx="810720" cy="770040"/>
              </a:xfrm>
            </p:grpSpPr>
            <p:sp>
              <p:nvSpPr>
                <p:cNvPr id="413" name="Oval 14"/>
                <p:cNvSpPr/>
                <p:nvPr/>
              </p:nvSpPr>
              <p:spPr>
                <a:xfrm>
                  <a:off x="5123880" y="1447920"/>
                  <a:ext cx="81072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12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14" name="未知"/>
                <p:cNvSpPr/>
                <p:nvPr/>
              </p:nvSpPr>
              <p:spPr>
                <a:xfrm>
                  <a:off x="5216040" y="1460520"/>
                  <a:ext cx="624960" cy="29052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16"/>
              <p:cNvSpPr/>
              <p:nvPr/>
            </p:nvSpPr>
            <p:spPr>
              <a:xfrm>
                <a:off x="5097240" y="17452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752480" y="2571840"/>
              <a:ext cx="1622520" cy="1598760"/>
              <a:chOff x="1752480" y="2571840"/>
              <a:chExt cx="1622520" cy="15987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752480" y="2571840"/>
                <a:ext cx="1622520" cy="1598760"/>
                <a:chOff x="1752480" y="2571840"/>
                <a:chExt cx="1622520" cy="1598760"/>
              </a:xfrm>
            </p:grpSpPr>
            <p:sp>
              <p:nvSpPr>
                <p:cNvPr id="418" name="Oval 19"/>
                <p:cNvSpPr/>
                <p:nvPr/>
              </p:nvSpPr>
              <p:spPr>
                <a:xfrm>
                  <a:off x="1752480" y="25718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28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19" name="未知"/>
                <p:cNvSpPr/>
                <p:nvPr/>
              </p:nvSpPr>
              <p:spPr>
                <a:xfrm>
                  <a:off x="1937880" y="2598120"/>
                  <a:ext cx="1251720" cy="603360"/>
                </a:xfrm>
                <a:custGeom>
                  <a:avLst/>
                  <a:gdLst>
                    <a:gd name="textAreaLeft" fmla="*/ 0 w 1251720"/>
                    <a:gd name="textAreaRight" fmla="*/ 1252080 w 125172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21"/>
              <p:cNvSpPr/>
              <p:nvPr/>
            </p:nvSpPr>
            <p:spPr>
              <a:xfrm>
                <a:off x="178560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060880" y="3756240"/>
              <a:ext cx="1873080" cy="1776240"/>
              <a:chOff x="5060880" y="3756240"/>
              <a:chExt cx="1873080" cy="177624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5060880" y="3756240"/>
                <a:ext cx="1873080" cy="1776240"/>
                <a:chOff x="5060880" y="3756240"/>
                <a:chExt cx="1873080" cy="1776240"/>
              </a:xfrm>
            </p:grpSpPr>
            <p:sp>
              <p:nvSpPr>
                <p:cNvPr id="423" name="Oval 24"/>
                <p:cNvSpPr/>
                <p:nvPr/>
              </p:nvSpPr>
              <p:spPr>
                <a:xfrm>
                  <a:off x="5060880" y="37562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5274720" y="378684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26"/>
              <p:cNvSpPr/>
              <p:nvPr/>
            </p:nvSpPr>
            <p:spPr>
              <a:xfrm>
                <a:off x="5274000" y="4525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6" name="Oval 27"/>
            <p:cNvSpPr/>
            <p:nvPr/>
          </p:nvSpPr>
          <p:spPr>
            <a:xfrm>
              <a:off x="1939680" y="4229280"/>
              <a:ext cx="131940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7" name="Oval 28"/>
            <p:cNvSpPr/>
            <p:nvPr/>
          </p:nvSpPr>
          <p:spPr>
            <a:xfrm>
              <a:off x="3936960" y="3699000"/>
              <a:ext cx="1320840" cy="412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8" name="Oval 29"/>
            <p:cNvSpPr/>
            <p:nvPr/>
          </p:nvSpPr>
          <p:spPr>
            <a:xfrm>
              <a:off x="5373720" y="5532480"/>
              <a:ext cx="131904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248080" y="2276640"/>
              <a:ext cx="60480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33" name="AutoShape 4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4" name="AutoShape 5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5" name="AutoShape 6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6" name="AutoShape 7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7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8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9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0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1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2" name="Oval 23"/>
            <p:cNvSpPr/>
            <p:nvPr/>
          </p:nvSpPr>
          <p:spPr>
            <a:xfrm>
              <a:off x="3544920" y="2895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3" name="Oval 24"/>
            <p:cNvSpPr/>
            <p:nvPr/>
          </p:nvSpPr>
          <p:spPr>
            <a:xfrm>
              <a:off x="3543120" y="289404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4" name="Oval 25"/>
            <p:cNvSpPr/>
            <p:nvPr/>
          </p:nvSpPr>
          <p:spPr>
            <a:xfrm>
              <a:off x="3643200" y="29862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3695400" y="30337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6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8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9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0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1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62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66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8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9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0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1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73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4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5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6" name="Oval 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7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78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81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2" name="AutoShape 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3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4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5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6" name="Oval 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7" name="Oval 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8" name="Oval 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9" name="Oval 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0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1" name="Text Box 29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2" name="AutoShape 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3" name="AutoShape 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95" name="AutoShape 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6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7" name="AutoShape 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8" name="AutoShape 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00" name="Oval 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1" name="Oval 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Oval 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Oval 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Oval 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05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6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7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8" name="AutoShape 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512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513" name="Rectangle 5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Rectangle 6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61760" y="2685960"/>
              <a:ext cx="1932120" cy="3264840"/>
              <a:chOff x="761760" y="2685960"/>
              <a:chExt cx="1932120" cy="32648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1166040" y="3524040"/>
                <a:ext cx="1527840" cy="2426760"/>
                <a:chOff x="1166040" y="3524040"/>
                <a:chExt cx="1527840" cy="242676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1166040" y="3681720"/>
                  <a:ext cx="1422000" cy="2269080"/>
                  <a:chOff x="1166040" y="3681720"/>
                  <a:chExt cx="1422000" cy="2269080"/>
                </a:xfrm>
              </p:grpSpPr>
              <p:sp>
                <p:nvSpPr>
                  <p:cNvPr id="518" name="未知"/>
                  <p:cNvSpPr/>
                  <p:nvPr/>
                </p:nvSpPr>
                <p:spPr>
                  <a:xfrm rot="3876600">
                    <a:off x="738000" y="4569480"/>
                    <a:ext cx="2277720" cy="49284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未知"/>
                  <p:cNvSpPr/>
                  <p:nvPr/>
                </p:nvSpPr>
                <p:spPr>
                  <a:xfrm rot="3876600">
                    <a:off x="21067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602720" y="3524040"/>
                  <a:ext cx="1091160" cy="1740960"/>
                  <a:chOff x="1602720" y="3524040"/>
                  <a:chExt cx="1091160" cy="1740960"/>
                </a:xfrm>
              </p:grpSpPr>
              <p:sp>
                <p:nvSpPr>
                  <p:cNvPr id="521" name="未知"/>
                  <p:cNvSpPr/>
                  <p:nvPr/>
                </p:nvSpPr>
                <p:spPr>
                  <a:xfrm flipV="1" rot="3876600">
                    <a:off x="1274040" y="4205520"/>
                    <a:ext cx="1747800" cy="37800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未知"/>
                  <p:cNvSpPr/>
                  <p:nvPr/>
                </p:nvSpPr>
                <p:spPr>
                  <a:xfrm flipV="1" rot="3876600">
                    <a:off x="23090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761760" y="2685960"/>
                <a:ext cx="1272960" cy="1310400"/>
                <a:chOff x="761760" y="2685960"/>
                <a:chExt cx="1272960" cy="1310400"/>
              </a:xfrm>
            </p:grpSpPr>
            <p:sp>
              <p:nvSpPr>
                <p:cNvPr id="524" name="Oval 16"/>
                <p:cNvSpPr/>
                <p:nvPr/>
              </p:nvSpPr>
              <p:spPr>
                <a:xfrm>
                  <a:off x="7617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5" name="Oval 17"/>
                <p:cNvSpPr/>
                <p:nvPr/>
              </p:nvSpPr>
              <p:spPr>
                <a:xfrm>
                  <a:off x="7617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6" name="Oval 18"/>
                <p:cNvSpPr/>
                <p:nvPr/>
              </p:nvSpPr>
              <p:spPr>
                <a:xfrm>
                  <a:off x="846000" y="277092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7" name="Oval 19"/>
                <p:cNvSpPr/>
                <p:nvPr/>
              </p:nvSpPr>
              <p:spPr>
                <a:xfrm>
                  <a:off x="846000" y="277380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8" name="Oval 20"/>
                <p:cNvSpPr/>
                <p:nvPr/>
              </p:nvSpPr>
              <p:spPr>
                <a:xfrm>
                  <a:off x="900720" y="282888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915840" y="2844720"/>
                  <a:ext cx="964080" cy="993960"/>
                  <a:chOff x="915840" y="2844720"/>
                  <a:chExt cx="964080" cy="993960"/>
                </a:xfrm>
              </p:grpSpPr>
              <p:sp>
                <p:nvSpPr>
                  <p:cNvPr id="530" name="Oval 22"/>
                  <p:cNvSpPr/>
                  <p:nvPr/>
                </p:nvSpPr>
                <p:spPr>
                  <a:xfrm>
                    <a:off x="91584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23"/>
                  <p:cNvSpPr/>
                  <p:nvPr/>
                </p:nvSpPr>
                <p:spPr>
                  <a:xfrm>
                    <a:off x="92808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Oval 24"/>
                  <p:cNvSpPr/>
                  <p:nvPr/>
                </p:nvSpPr>
                <p:spPr>
                  <a:xfrm>
                    <a:off x="93816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Oval 25"/>
                  <p:cNvSpPr/>
                  <p:nvPr/>
                </p:nvSpPr>
                <p:spPr>
                  <a:xfrm>
                    <a:off x="99036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4" name="Text Box 26"/>
              <p:cNvSpPr/>
              <p:nvPr/>
            </p:nvSpPr>
            <p:spPr>
              <a:xfrm rot="3925800">
                <a:off x="113076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5" name="Text Box 27"/>
              <p:cNvSpPr/>
              <p:nvPr/>
            </p:nvSpPr>
            <p:spPr>
              <a:xfrm rot="3925800">
                <a:off x="158976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2509560" y="2685960"/>
              <a:ext cx="1930320" cy="3264840"/>
              <a:chOff x="2509560" y="2685960"/>
              <a:chExt cx="1930320" cy="326484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911680" y="3523680"/>
                <a:ext cx="1528200" cy="2427120"/>
                <a:chOff x="2911680" y="3523680"/>
                <a:chExt cx="1528200" cy="24271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2911680" y="3681720"/>
                  <a:ext cx="1422360" cy="2269080"/>
                  <a:chOff x="2911680" y="3681720"/>
                  <a:chExt cx="1422360" cy="2269080"/>
                </a:xfrm>
              </p:grpSpPr>
              <p:sp>
                <p:nvSpPr>
                  <p:cNvPr id="539" name="未知"/>
                  <p:cNvSpPr/>
                  <p:nvPr/>
                </p:nvSpPr>
                <p:spPr>
                  <a:xfrm rot="3876600">
                    <a:off x="2484000" y="4569480"/>
                    <a:ext cx="2277720" cy="49320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未知"/>
                  <p:cNvSpPr/>
                  <p:nvPr/>
                </p:nvSpPr>
                <p:spPr>
                  <a:xfrm rot="3876600">
                    <a:off x="38527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3348720" y="3523680"/>
                  <a:ext cx="1091160" cy="1741320"/>
                  <a:chOff x="3348720" y="3523680"/>
                  <a:chExt cx="1091160" cy="1741320"/>
                </a:xfrm>
              </p:grpSpPr>
              <p:sp>
                <p:nvSpPr>
                  <p:cNvPr id="542" name="未知"/>
                  <p:cNvSpPr/>
                  <p:nvPr/>
                </p:nvSpPr>
                <p:spPr>
                  <a:xfrm flipV="1" rot="3876600">
                    <a:off x="3020400" y="4204440"/>
                    <a:ext cx="1747800" cy="37836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未知"/>
                  <p:cNvSpPr/>
                  <p:nvPr/>
                </p:nvSpPr>
                <p:spPr>
                  <a:xfrm flipV="1" rot="3876600">
                    <a:off x="40550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2509560" y="2685960"/>
                <a:ext cx="1272960" cy="1310400"/>
                <a:chOff x="2509560" y="2685960"/>
                <a:chExt cx="1272960" cy="1310400"/>
              </a:xfrm>
            </p:grpSpPr>
            <p:sp>
              <p:nvSpPr>
                <p:cNvPr id="545" name="Oval 37"/>
                <p:cNvSpPr/>
                <p:nvPr/>
              </p:nvSpPr>
              <p:spPr>
                <a:xfrm>
                  <a:off x="25095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6" name="Oval 38"/>
                <p:cNvSpPr/>
                <p:nvPr/>
              </p:nvSpPr>
              <p:spPr>
                <a:xfrm>
                  <a:off x="25095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7" name="Oval 39"/>
                <p:cNvSpPr/>
                <p:nvPr/>
              </p:nvSpPr>
              <p:spPr>
                <a:xfrm>
                  <a:off x="2593800" y="277092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0"/>
                <p:cNvSpPr/>
                <p:nvPr/>
              </p:nvSpPr>
              <p:spPr>
                <a:xfrm>
                  <a:off x="2593800" y="277380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1"/>
                <p:cNvSpPr/>
                <p:nvPr/>
              </p:nvSpPr>
              <p:spPr>
                <a:xfrm>
                  <a:off x="2648520" y="282888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2663640" y="2844720"/>
                  <a:ext cx="964080" cy="993960"/>
                  <a:chOff x="2663640" y="2844720"/>
                  <a:chExt cx="964080" cy="993960"/>
                </a:xfrm>
              </p:grpSpPr>
              <p:sp>
                <p:nvSpPr>
                  <p:cNvPr id="551" name="Oval 43"/>
                  <p:cNvSpPr/>
                  <p:nvPr/>
                </p:nvSpPr>
                <p:spPr>
                  <a:xfrm>
                    <a:off x="266364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Oval 44"/>
                  <p:cNvSpPr/>
                  <p:nvPr/>
                </p:nvSpPr>
                <p:spPr>
                  <a:xfrm>
                    <a:off x="267588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45"/>
                  <p:cNvSpPr/>
                  <p:nvPr/>
                </p:nvSpPr>
                <p:spPr>
                  <a:xfrm>
                    <a:off x="268596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46"/>
                  <p:cNvSpPr/>
                  <p:nvPr/>
                </p:nvSpPr>
                <p:spPr>
                  <a:xfrm>
                    <a:off x="273816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Text Box 47"/>
              <p:cNvSpPr/>
              <p:nvPr/>
            </p:nvSpPr>
            <p:spPr>
              <a:xfrm rot="3925800">
                <a:off x="287208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6" name="Text Box 48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4717440" y="3524040"/>
                <a:ext cx="1527840" cy="2426760"/>
                <a:chOff x="4717440" y="3524040"/>
                <a:chExt cx="1527840" cy="242676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4717440" y="3681720"/>
                  <a:ext cx="1422000" cy="2269080"/>
                  <a:chOff x="4717440" y="3681720"/>
                  <a:chExt cx="1422000" cy="2269080"/>
                </a:xfrm>
              </p:grpSpPr>
              <p:sp>
                <p:nvSpPr>
                  <p:cNvPr id="560" name="未知"/>
                  <p:cNvSpPr/>
                  <p:nvPr/>
                </p:nvSpPr>
                <p:spPr>
                  <a:xfrm rot="3876600">
                    <a:off x="4289400" y="4569480"/>
                    <a:ext cx="2277720" cy="49284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未知"/>
                  <p:cNvSpPr/>
                  <p:nvPr/>
                </p:nvSpPr>
                <p:spPr>
                  <a:xfrm rot="3876600">
                    <a:off x="56581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5154120" y="3524040"/>
                  <a:ext cx="1091160" cy="1740960"/>
                  <a:chOff x="5154120" y="3524040"/>
                  <a:chExt cx="1091160" cy="1740960"/>
                </a:xfrm>
              </p:grpSpPr>
              <p:sp>
                <p:nvSpPr>
                  <p:cNvPr id="563" name="未知"/>
                  <p:cNvSpPr/>
                  <p:nvPr/>
                </p:nvSpPr>
                <p:spPr>
                  <a:xfrm flipV="1" rot="3876600">
                    <a:off x="4825440" y="4205520"/>
                    <a:ext cx="1747800" cy="37800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未知"/>
                  <p:cNvSpPr/>
                  <p:nvPr/>
                </p:nvSpPr>
                <p:spPr>
                  <a:xfrm flipV="1" rot="3876600">
                    <a:off x="58604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4313160" y="2685960"/>
                <a:ext cx="1274760" cy="1310400"/>
                <a:chOff x="4313160" y="2685960"/>
                <a:chExt cx="1274760" cy="1310400"/>
              </a:xfrm>
            </p:grpSpPr>
            <p:sp>
              <p:nvSpPr>
                <p:cNvPr id="566" name="Oval 58"/>
                <p:cNvSpPr/>
                <p:nvPr/>
              </p:nvSpPr>
              <p:spPr>
                <a:xfrm>
                  <a:off x="4313160" y="2685960"/>
                  <a:ext cx="12747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9"/>
                <p:cNvSpPr/>
                <p:nvPr/>
              </p:nvSpPr>
              <p:spPr>
                <a:xfrm>
                  <a:off x="4313160" y="2685960"/>
                  <a:ext cx="12747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0"/>
                <p:cNvSpPr/>
                <p:nvPr/>
              </p:nvSpPr>
              <p:spPr>
                <a:xfrm>
                  <a:off x="4397400" y="2770920"/>
                  <a:ext cx="110556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1"/>
                <p:cNvSpPr/>
                <p:nvPr/>
              </p:nvSpPr>
              <p:spPr>
                <a:xfrm>
                  <a:off x="4397400" y="2773800"/>
                  <a:ext cx="110556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2"/>
                <p:cNvSpPr/>
                <p:nvPr/>
              </p:nvSpPr>
              <p:spPr>
                <a:xfrm>
                  <a:off x="4452120" y="2828880"/>
                  <a:ext cx="99612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572" name="Oval 64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Oval 65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Oval 66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67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6" name="Text Box 68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7" name="Text Box 69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089400" y="2541600"/>
              <a:ext cx="2122920" cy="3476160"/>
              <a:chOff x="6089400" y="2541600"/>
              <a:chExt cx="2122920" cy="34761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684480" y="3591360"/>
                <a:ext cx="1527840" cy="2426400"/>
                <a:chOff x="6684480" y="3591360"/>
                <a:chExt cx="1527840" cy="242640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581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>
                      <a:gd name="textAreaLeft" fmla="*/ 0 w 2277360"/>
                      <a:gd name="textAreaRight" fmla="*/ 2277720 w 227736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121520" y="3591360"/>
                  <a:ext cx="1090800" cy="1740600"/>
                  <a:chOff x="7121520" y="3591360"/>
                  <a:chExt cx="1090800" cy="1740600"/>
                </a:xfrm>
              </p:grpSpPr>
              <p:sp>
                <p:nvSpPr>
                  <p:cNvPr id="584" name="未知"/>
                  <p:cNvSpPr/>
                  <p:nvPr/>
                </p:nvSpPr>
                <p:spPr>
                  <a:xfrm flipV="1" rot="3876600">
                    <a:off x="6792840" y="4272120"/>
                    <a:ext cx="1747440" cy="378000"/>
                  </a:xfrm>
                  <a:custGeom>
                    <a:avLst/>
                    <a:gdLst>
                      <a:gd name="textAreaLeft" fmla="*/ 0 w 1747440"/>
                      <a:gd name="textAreaRight" fmla="*/ 1747800 w 174744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6" name="Oval 78"/>
              <p:cNvSpPr/>
              <p:nvPr/>
            </p:nvSpPr>
            <p:spPr>
              <a:xfrm>
                <a:off x="6089400" y="2541600"/>
                <a:ext cx="1528920" cy="1571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7" name="Oval 79"/>
              <p:cNvSpPr/>
              <p:nvPr/>
            </p:nvSpPr>
            <p:spPr>
              <a:xfrm>
                <a:off x="6089400" y="2541600"/>
                <a:ext cx="1528920" cy="157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8" name="Oval 80"/>
              <p:cNvSpPr/>
              <p:nvPr/>
            </p:nvSpPr>
            <p:spPr>
              <a:xfrm>
                <a:off x="6190920" y="2644920"/>
                <a:ext cx="1328400" cy="1364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9" name="Oval 81"/>
              <p:cNvSpPr/>
              <p:nvPr/>
            </p:nvSpPr>
            <p:spPr>
              <a:xfrm>
                <a:off x="6192720" y="2647800"/>
                <a:ext cx="1328040" cy="136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0" name="Oval 82"/>
              <p:cNvSpPr/>
              <p:nvPr/>
            </p:nvSpPr>
            <p:spPr>
              <a:xfrm>
                <a:off x="6256440" y="2712960"/>
                <a:ext cx="119628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6275520" y="2732400"/>
                <a:ext cx="1159200" cy="1191240"/>
                <a:chOff x="6275520" y="2732400"/>
                <a:chExt cx="1159200" cy="1191240"/>
              </a:xfrm>
            </p:grpSpPr>
            <p:sp>
              <p:nvSpPr>
                <p:cNvPr id="592" name="Oval 84"/>
                <p:cNvSpPr/>
                <p:nvPr/>
              </p:nvSpPr>
              <p:spPr>
                <a:xfrm>
                  <a:off x="627552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3" name="Oval 85"/>
                <p:cNvSpPr/>
                <p:nvPr/>
              </p:nvSpPr>
              <p:spPr>
                <a:xfrm>
                  <a:off x="629028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4" name="Oval 86"/>
                <p:cNvSpPr/>
                <p:nvPr/>
              </p:nvSpPr>
              <p:spPr>
                <a:xfrm>
                  <a:off x="630216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5" name="Oval 87"/>
                <p:cNvSpPr/>
                <p:nvPr/>
              </p:nvSpPr>
              <p:spPr>
                <a:xfrm>
                  <a:off x="636516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Text Box 88"/>
              <p:cNvSpPr/>
              <p:nvPr/>
            </p:nvSpPr>
            <p:spPr>
              <a:xfrm rot="3925800">
                <a:off x="663804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7" name="Text Box 89"/>
              <p:cNvSpPr/>
              <p:nvPr/>
            </p:nvSpPr>
            <p:spPr>
              <a:xfrm rot="3925800">
                <a:off x="709524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99" name="Text Box 9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0" name="Text Box 9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1" name="Text Box 93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2" name="Text Box 94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603" name="AutoShape 95"/>
              <p:cNvCxnSpPr>
                <a:stCxn id="599" idx="3"/>
                <a:endCxn id="60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604" name="AutoShape 96"/>
              <p:cNvCxnSpPr>
                <a:stCxn id="600" idx="3"/>
                <a:endCxn id="60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605" name="AutoShape 9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609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610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612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306464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3" name="未知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8f8f">
                        <a:alpha val="0"/>
                      </a:srgbClr>
                    </a:gs>
                    <a:gs pos="50000">
                      <a:srgbClr val="9ac2c2"/>
                    </a:gs>
                    <a:gs pos="100000">
                      <a:srgbClr val="458f8f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4" name="Text Box 9"/>
                <p:cNvSpPr/>
                <p:nvPr/>
              </p:nvSpPr>
              <p:spPr>
                <a:xfrm>
                  <a:off x="191484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617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619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4d4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16"/>
                <p:cNvSpPr/>
                <p:nvPr/>
              </p:nvSpPr>
              <p:spPr>
                <a:xfrm>
                  <a:off x="1914840" y="33858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17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624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626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2bfd6"/>
                    </a:gs>
                    <a:gs pos="100000">
                      <a:srgbClr val="6c9bb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7" name="未知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c9bbe">
                        <a:alpha val="0"/>
                      </a:srgbClr>
                    </a:gs>
                    <a:gs pos="100000">
                      <a:srgbClr val="b8ce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8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127880" y="1863720"/>
            <a:ext cx="6214680" cy="1324080"/>
            <a:chOff x="1127880" y="1863720"/>
            <a:chExt cx="6214680" cy="1324080"/>
          </a:xfrm>
        </p:grpSpPr>
        <p:sp>
          <p:nvSpPr>
            <p:cNvPr id="637" name="Rectangle 8"/>
            <p:cNvSpPr/>
            <p:nvPr/>
          </p:nvSpPr>
          <p:spPr>
            <a:xfrm rot="3418800">
              <a:off x="1335960" y="2071440"/>
              <a:ext cx="87300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258280" y="2245680"/>
              <a:ext cx="901080" cy="124200"/>
              <a:chOff x="2258280" y="2245680"/>
              <a:chExt cx="901080" cy="124200"/>
            </a:xfrm>
          </p:grpSpPr>
          <p:sp>
            <p:nvSpPr>
              <p:cNvPr id="639" name="Oval 10"/>
              <p:cNvSpPr/>
              <p:nvPr/>
            </p:nvSpPr>
            <p:spPr>
              <a:xfrm>
                <a:off x="225828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0" name="Rectangle 11"/>
              <p:cNvSpPr/>
              <p:nvPr/>
            </p:nvSpPr>
            <p:spPr>
              <a:xfrm>
                <a:off x="234468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1" name="Oval 12"/>
              <p:cNvSpPr/>
              <p:nvPr/>
            </p:nvSpPr>
            <p:spPr>
              <a:xfrm>
                <a:off x="302292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2" name="Oval 13"/>
              <p:cNvSpPr/>
              <p:nvPr/>
            </p:nvSpPr>
            <p:spPr>
              <a:xfrm>
                <a:off x="309600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43" name="Rectangle 14"/>
            <p:cNvSpPr/>
            <p:nvPr/>
          </p:nvSpPr>
          <p:spPr>
            <a:xfrm rot="3418800">
              <a:off x="3000600" y="2009160"/>
              <a:ext cx="87300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3922920" y="2245680"/>
              <a:ext cx="901080" cy="124200"/>
              <a:chOff x="3922920" y="2245680"/>
              <a:chExt cx="901080" cy="124200"/>
            </a:xfrm>
          </p:grpSpPr>
          <p:sp>
            <p:nvSpPr>
              <p:cNvPr id="645" name="Oval 16"/>
              <p:cNvSpPr/>
              <p:nvPr/>
            </p:nvSpPr>
            <p:spPr>
              <a:xfrm>
                <a:off x="392292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6" name="Rectangle 17"/>
              <p:cNvSpPr/>
              <p:nvPr/>
            </p:nvSpPr>
            <p:spPr>
              <a:xfrm>
                <a:off x="400932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7" name="Oval 18"/>
              <p:cNvSpPr/>
              <p:nvPr/>
            </p:nvSpPr>
            <p:spPr>
              <a:xfrm>
                <a:off x="468756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8" name="Oval 19"/>
              <p:cNvSpPr/>
              <p:nvPr/>
            </p:nvSpPr>
            <p:spPr>
              <a:xfrm>
                <a:off x="476064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49" name="Rectangle 20"/>
            <p:cNvSpPr/>
            <p:nvPr/>
          </p:nvSpPr>
          <p:spPr>
            <a:xfrm rot="3418800">
              <a:off x="4590720" y="2008800"/>
              <a:ext cx="873000" cy="969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587560" y="2245680"/>
              <a:ext cx="1178640" cy="124200"/>
              <a:chOff x="5587560" y="2245680"/>
              <a:chExt cx="1178640" cy="124200"/>
            </a:xfrm>
          </p:grpSpPr>
          <p:sp>
            <p:nvSpPr>
              <p:cNvPr id="651" name="Oval 22"/>
              <p:cNvSpPr/>
              <p:nvPr/>
            </p:nvSpPr>
            <p:spPr>
              <a:xfrm>
                <a:off x="5587560" y="2245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2" name="Rectangle 23"/>
              <p:cNvSpPr/>
              <p:nvPr/>
            </p:nvSpPr>
            <p:spPr>
              <a:xfrm>
                <a:off x="5700600" y="2246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3" name="Oval 24"/>
              <p:cNvSpPr/>
              <p:nvPr/>
            </p:nvSpPr>
            <p:spPr>
              <a:xfrm>
                <a:off x="6587640" y="22471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4" name="Oval 25"/>
              <p:cNvSpPr/>
              <p:nvPr/>
            </p:nvSpPr>
            <p:spPr>
              <a:xfrm>
                <a:off x="6683040" y="22870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55" name="Rectangle 26"/>
            <p:cNvSpPr/>
            <p:nvPr/>
          </p:nvSpPr>
          <p:spPr>
            <a:xfrm rot="3418800">
              <a:off x="6261120" y="2009160"/>
              <a:ext cx="87300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5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838080" y="2284560"/>
          <a:ext cx="7315200" cy="289872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70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1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2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3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bbbbff"/>
                </a:gs>
                <a:gs pos="100000">
                  <a:srgbClr val="9999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4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5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1b3650"/>
                </a:gs>
                <a:gs pos="100000">
                  <a:srgbClr val="33669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6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6f6f00"/>
                </a:gs>
                <a:gs pos="100000">
                  <a:srgbClr val="cccc00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7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9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0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82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25e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3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5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86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8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55640" y="1413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D1150-8DFA-46CA-AB02-1557F29A8B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83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84" name="AutoShape 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>
                <a:off x="1873080" y="2063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87" name="Line 8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91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92" name="AutoShape 13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AutoShape 14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AutoShape 15"/>
              <p:cNvSpPr/>
              <p:nvPr/>
            </p:nvSpPr>
            <p:spPr>
              <a:xfrm>
                <a:off x="1873080" y="2977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95" name="Line 16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Text Box 17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99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200" name="AutoShape 21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1" name="AutoShape 22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2" name="AutoShape 23"/>
              <p:cNvSpPr/>
              <p:nvPr/>
            </p:nvSpPr>
            <p:spPr>
              <a:xfrm>
                <a:off x="1873080" y="387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3" name="Line 24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208" name="AutoShape 29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9" name="AutoShape 30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0" name="AutoShape 31"/>
              <p:cNvSpPr/>
              <p:nvPr/>
            </p:nvSpPr>
            <p:spPr>
              <a:xfrm>
                <a:off x="1873080" y="47847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11" name="Line 32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14" name="Text Box 35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96" name="AutoShape 4"/>
            <p:cNvSpPr/>
            <p:nvPr/>
          </p:nvSpPr>
          <p:spPr>
            <a:xfrm>
              <a:off x="2129400" y="2440800"/>
              <a:ext cx="5072760" cy="24760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97" name="AutoShape 5"/>
            <p:cNvSpPr/>
            <p:nvPr/>
          </p:nvSpPr>
          <p:spPr>
            <a:xfrm>
              <a:off x="1918440" y="175248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bdff"/>
                </a:gs>
                <a:gs pos="50000">
                  <a:srgbClr val="9999ff"/>
                </a:gs>
                <a:gs pos="100000">
                  <a:srgbClr val="bdbd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98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702" name="Oval 10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282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未知"/>
                  <p:cNvSpPr/>
                  <p:nvPr/>
                </p:nvSpPr>
                <p:spPr>
                  <a:xfrm>
                    <a:off x="1375200" y="4156200"/>
                    <a:ext cx="1051560" cy="515880"/>
                  </a:xfrm>
                  <a:custGeom>
                    <a:avLst/>
                    <a:gdLst>
                      <a:gd name="textAreaLeft" fmla="*/ 0 w 1051560"/>
                      <a:gd name="textAreaRight" fmla="*/ 1051920 w 1051560"/>
                      <a:gd name="textAreaTop" fmla="*/ 0 h 515880"/>
                      <a:gd name="textAreaBottom" fmla="*/ 516240 h 5158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Text Box 12"/>
                <p:cNvSpPr/>
                <p:nvPr/>
              </p:nvSpPr>
              <p:spPr>
                <a:xfrm>
                  <a:off x="1316880" y="4827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Oval 13"/>
              <p:cNvSpPr/>
              <p:nvPr/>
            </p:nvSpPr>
            <p:spPr>
              <a:xfrm>
                <a:off x="1359000" y="557820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709" name="Oval 17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6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未知"/>
                  <p:cNvSpPr/>
                  <p:nvPr/>
                </p:nvSpPr>
                <p:spPr>
                  <a:xfrm>
                    <a:off x="6762240" y="4115520"/>
                    <a:ext cx="1078560" cy="521640"/>
                  </a:xfrm>
                  <a:custGeom>
                    <a:avLst/>
                    <a:gdLst>
                      <a:gd name="textAreaLeft" fmla="*/ 0 w 1078560"/>
                      <a:gd name="textAreaRight" fmla="*/ 1078920 w 1078560"/>
                      <a:gd name="textAreaTop" fmla="*/ 0 h 521640"/>
                      <a:gd name="textAreaBottom" fmla="*/ 522000 h 521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Text Box 19"/>
                <p:cNvSpPr/>
                <p:nvPr/>
              </p:nvSpPr>
              <p:spPr>
                <a:xfrm>
                  <a:off x="6683040" y="4737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Oval 20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715" name="Oval 23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716" name="未知"/>
                <p:cNvSpPr/>
                <p:nvPr/>
              </p:nvSpPr>
              <p:spPr>
                <a:xfrm>
                  <a:off x="3127680" y="415476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Text Box 25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8" name="Oval 26"/>
              <p:cNvSpPr/>
              <p:nvPr/>
            </p:nvSpPr>
            <p:spPr>
              <a:xfrm>
                <a:off x="2967120" y="557784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4854600" y="4092840"/>
                <a:ext cx="1397880" cy="1372320"/>
                <a:chOff x="4854600" y="4092840"/>
                <a:chExt cx="1397880" cy="1372320"/>
              </a:xfrm>
            </p:grpSpPr>
            <p:sp>
              <p:nvSpPr>
                <p:cNvPr id="721" name="Oval 29"/>
                <p:cNvSpPr/>
                <p:nvPr/>
              </p:nvSpPr>
              <p:spPr>
                <a:xfrm>
                  <a:off x="4854600" y="409284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2349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722" name="未知"/>
                <p:cNvSpPr/>
                <p:nvPr/>
              </p:nvSpPr>
              <p:spPr>
                <a:xfrm>
                  <a:off x="5014440" y="411480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Text Box 31"/>
              <p:cNvSpPr/>
              <p:nvPr/>
            </p:nvSpPr>
            <p:spPr>
              <a:xfrm>
                <a:off x="4924440" y="475308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24" name="Oval 32"/>
              <p:cNvSpPr/>
              <p:nvPr/>
            </p:nvSpPr>
            <p:spPr>
              <a:xfrm>
                <a:off x="4854600" y="553788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WordArt 2"/>
          <p:cNvSpPr txBox="1"/>
          <p:nvPr/>
        </p:nvSpPr>
        <p:spPr>
          <a:xfrm>
            <a:off x="2286000" y="24382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58f8f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58f8f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f8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22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2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5d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2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22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c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2d2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ed8d8"/>
                  </a:gs>
                  <a:gs pos="100000">
                    <a:srgbClr val="458f8f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771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236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3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42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6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25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25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1" name="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282" name="AutoShape 5"/>
              <p:cNvSpPr/>
              <p:nvPr/>
            </p:nvSpPr>
            <p:spPr>
              <a:xfrm flipH="1" rot="16200000">
                <a:off x="2928240" y="325332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3" name="AutoShape 6"/>
              <p:cNvSpPr/>
              <p:nvPr/>
            </p:nvSpPr>
            <p:spPr>
              <a:xfrm flipH="1" rot="5400000">
                <a:off x="5530680" y="320292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4" name="AutoShape 7"/>
              <p:cNvSpPr/>
              <p:nvPr/>
            </p:nvSpPr>
            <p:spPr>
              <a:xfrm flipH="1" rot="10800000">
                <a:off x="423720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5" name="Oval 8"/>
              <p:cNvSpPr/>
              <p:nvPr/>
            </p:nvSpPr>
            <p:spPr>
              <a:xfrm>
                <a:off x="330480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Oval 9"/>
              <p:cNvSpPr/>
              <p:nvPr/>
            </p:nvSpPr>
            <p:spPr>
              <a:xfrm>
                <a:off x="343764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Oval 10"/>
              <p:cNvSpPr/>
              <p:nvPr/>
            </p:nvSpPr>
            <p:spPr>
              <a:xfrm>
                <a:off x="3560400" y="2471040"/>
                <a:ext cx="1819440" cy="18784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ffffff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8" name="Oval 11"/>
              <p:cNvSpPr/>
              <p:nvPr/>
            </p:nvSpPr>
            <p:spPr>
              <a:xfrm>
                <a:off x="355896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9" name="Oval 12"/>
              <p:cNvSpPr/>
              <p:nvPr/>
            </p:nvSpPr>
            <p:spPr>
              <a:xfrm>
                <a:off x="3678840" y="2595960"/>
                <a:ext cx="1581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53538a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0" name="Oval 13"/>
              <p:cNvSpPr/>
              <p:nvPr/>
            </p:nvSpPr>
            <p:spPr>
              <a:xfrm>
                <a:off x="367884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9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308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5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0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322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50000">
                    <a:srgbClr val="5e5e00"/>
                  </a:gs>
                  <a:gs pos="100000">
                    <a:srgbClr val="cc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50000">
                    <a:srgbClr val="474776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50000">
                    <a:srgbClr val="324858"/>
                  </a:gs>
                  <a:gs pos="100000">
                    <a:srgbClr val="6c9bb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8f8f"/>
                  </a:gs>
                  <a:gs pos="50000">
                    <a:srgbClr val="204242"/>
                  </a:gs>
                  <a:gs pos="100000">
                    <a:srgbClr val="458f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0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cccc00"/>
                  </a:gs>
                  <a:gs pos="50000">
                    <a:srgbClr val="949400"/>
                  </a:gs>
                  <a:gs pos="100000">
                    <a:srgbClr val="cc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6f6fb9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9bbe"/>
                  </a:gs>
                  <a:gs pos="50000">
                    <a:srgbClr val="4e708a"/>
                  </a:gs>
                  <a:gs pos="100000">
                    <a:srgbClr val="6c9bb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58f8f"/>
                  </a:gs>
                  <a:gs pos="50000">
                    <a:srgbClr val="326868"/>
                  </a:gs>
                  <a:gs pos="100000">
                    <a:srgbClr val="458f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38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2a2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ac5d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351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2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a"/>
                  </a:gs>
                  <a:gs pos="50000">
                    <a:srgbClr val="6c9bbe"/>
                  </a:gs>
                  <a:gs pos="100000">
                    <a:srgbClr val="2a3c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3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4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5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6" name="Text Box 22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57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Text Box 24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20:34Z</dcterms:created>
  <dc:creator/>
  <dc:description/>
  <cp:keywords>幻灯片之家 http:/www.eeppt.com</cp:keywords>
  <dc:language>en-US</dc:language>
  <cp:lastModifiedBy/>
  <dcterms:modified xsi:type="dcterms:W3CDTF">2015-07-08T01:30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720b000000000001024140</vt:lpwstr>
  </property>
</Properties>
</file>