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38E-BF7E-4038-A512-ABB21AFA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CEE-F391-43D3-882D-F5281885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7D9-8781-4713-8852-B7FDF90D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380-7DA1-45CB-A069-55E9136A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504-BCD3-494B-A36E-2624F179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896-9B46-409E-B273-3169F289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72B-5AD6-452A-8936-B38C720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78F-D4A6-40AD-A1CB-402BB44F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E63-84FE-4258-9250-2098B4E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218-7958-4309-83D9-13208491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1C6-1A09-4ED0-8E41-476EBD16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3D8-8803-4D45-8A65-F2B68576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4859280" y="242568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" descr="E:\矢量图素材\中国风\莲\33¹.png"/>
          <p:cNvPicPr/>
          <p:nvPr/>
        </p:nvPicPr>
        <p:blipFill>
          <a:blip r:embed="rId4"/>
          <a:srcRect l="22381" t="0" r="15558" b="23436"/>
          <a:stretch/>
        </p:blipFill>
        <p:spPr>
          <a:xfrm>
            <a:off x="2046240" y="-3240"/>
            <a:ext cx="5675400" cy="4372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C:\Documents and Settings\Administrator\桌面\å¢¨è¿¹.png"/>
          <p:cNvPicPr/>
          <p:nvPr/>
        </p:nvPicPr>
        <p:blipFill>
          <a:blip r:embed="rId5"/>
          <a:stretch/>
        </p:blipFill>
        <p:spPr>
          <a:xfrm>
            <a:off x="1363680" y="-3240"/>
            <a:ext cx="5356080" cy="5713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575316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"/>
          <p:cNvGrpSpPr/>
          <p:nvPr/>
        </p:nvGrpSpPr>
        <p:grpSpPr>
          <a:xfrm>
            <a:off x="826920" y="-49320"/>
            <a:ext cx="792360" cy="790560"/>
            <a:chOff x="826920" y="-49320"/>
            <a:chExt cx="792360" cy="790560"/>
          </a:xfrm>
        </p:grpSpPr>
        <p:pic>
          <p:nvPicPr>
            <p:cNvPr id="48" name="Picture 4" descr="E:\矢量图素材\中国风\莲\33¹.png"/>
            <p:cNvPicPr/>
            <p:nvPr/>
          </p:nvPicPr>
          <p:blipFill>
            <a:blip r:embed="rId4"/>
            <a:stretch/>
          </p:blipFill>
          <p:spPr>
            <a:xfrm>
              <a:off x="835200" y="-49320"/>
              <a:ext cx="78408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" descr="C:\Documents and Settings\Administrator\桌面\å¢¨è¿¹.png"/>
            <p:cNvPicPr/>
            <p:nvPr/>
          </p:nvPicPr>
          <p:blipFill>
            <a:blip r:embed="rId5"/>
            <a:stretch/>
          </p:blipFill>
          <p:spPr>
            <a:xfrm>
              <a:off x="826920" y="50400"/>
              <a:ext cx="648360" cy="6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8DC8-EF0F-4EB4-8190-E7D27D74A3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1080" y="2570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6592320" y="2782800"/>
            <a:ext cx="17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素材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5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0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5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0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30384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31F-DEE7-44B5-B962-03B1899D22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矩形 2" descr=""/>
          <p:cNvPicPr/>
          <p:nvPr/>
        </p:nvPicPr>
        <p:blipFill>
          <a:blip r:embed="rId1"/>
          <a:stretch/>
        </p:blipFill>
        <p:spPr>
          <a:xfrm>
            <a:off x="4737240" y="2266920"/>
            <a:ext cx="4833720" cy="16891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6372360" y="326880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/>
  <dc:description/>
  <cp:keywords>幻灯片之家 http:/www.eeppt.com</cp:keywords>
  <dc:language>en-US</dc:language>
  <cp:lastModifiedBy/>
  <dcterms:modified xsi:type="dcterms:W3CDTF">2015-07-10T02:17:32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