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440" y="336924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440" y="336924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600" y="336924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4760" y="144756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440" y="336924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36924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4760" y="336924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8440" y="144756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600" y="144756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8440" y="228600"/>
            <a:ext cx="836460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600" y="144756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8440" y="336924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440" y="144756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60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600" y="336924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60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8440" y="336924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8440" y="336924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8440" y="336924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600" y="336924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44756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4760" y="144756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8440" y="336924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36924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4760" y="336924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600" y="144756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228600"/>
            <a:ext cx="836460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756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440" y="336924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600" y="336924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44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44756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440" y="336924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4756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8440" y="144756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836460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77" name="Chart 26" descr=""/>
          <p:cNvPicPr/>
          <p:nvPr/>
        </p:nvPicPr>
        <p:blipFill>
          <a:blip r:embed="rId1"/>
          <a:stretch/>
        </p:blipFill>
        <p:spPr>
          <a:xfrm>
            <a:off x="839880" y="1263600"/>
            <a:ext cx="7373880" cy="4600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46280" y="6175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5769000"/>
            <a:ext cx="61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精美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模板 </a:t>
            </a:r>
            <a:r>
              <a:rPr b="1" lang="zh-CN" sz="1800" spc="-1" strike="noStrike" u="sng">
                <a:solidFill>
                  <a:srgbClr val="f0ed7b"/>
                </a:solidFill>
                <a:uFillTx/>
                <a:latin typeface="Arial"/>
                <a:hlinkClick r:id="rId2"/>
              </a:rPr>
              <a:t>http://www.eeppt.com/moban/jingpin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21680" y="549360"/>
            <a:ext cx="36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图表素材精美柱状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9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2:40:17Z</dcterms:created>
  <dc:creator/>
  <dc:description/>
  <cp:keywords>幻灯片之家 http:/www.eeppt.com</cp:keywords>
  <dc:language>en-US</dc:language>
  <cp:lastModifiedBy/>
  <dcterms:modified xsi:type="dcterms:W3CDTF">2015-07-06T04:31:42Z</dcterms:modified>
  <cp:revision>1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