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4AC2-30AC-4836-AA5E-A1C03E830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E9CF-D2CA-40A2-8D29-851FC16B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EF9C-098E-4C30-8780-C921F5C3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C699-7090-4ABA-A5DF-C47393F9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1D0F-71F1-4412-ACE3-E83F9971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E631-AB0F-451C-86B6-BF86BED6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5E55-5529-4D8A-AA7B-666F488E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B4F5-B77C-4424-8CC3-31F9222F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1AF0-7268-4B55-98DC-A6304D05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85B2-F681-4FF4-8CD3-2401DEC7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5556-C8C5-402C-B3C8-FD84AFC7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2675-C347-434E-9260-6A107689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4C4B-8B10-4D83-8B70-AA9BD39918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www.eeppt.com/sucai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1979640" y="142884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noFill/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755640" y="211284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noFill/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755640" y="351648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noFill/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3203640" y="211284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noFill/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AutoShape 5" descr=""/>
          <p:cNvPicPr/>
          <p:nvPr/>
        </p:nvPicPr>
        <p:blipFill>
          <a:blip r:embed="rId1"/>
          <a:stretch/>
        </p:blipFill>
        <p:spPr>
          <a:xfrm>
            <a:off x="1736640" y="2627280"/>
            <a:ext cx="2000160" cy="180504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6"/>
          <p:cNvSpPr/>
          <p:nvPr/>
        </p:nvSpPr>
        <p:spPr>
          <a:xfrm>
            <a:off x="1979640" y="423720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noFill/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AutoShape 7" descr=""/>
          <p:cNvPicPr/>
          <p:nvPr/>
        </p:nvPicPr>
        <p:blipFill>
          <a:blip r:embed="rId2"/>
          <a:stretch/>
        </p:blipFill>
        <p:spPr>
          <a:xfrm>
            <a:off x="2955960" y="3309840"/>
            <a:ext cx="2000160" cy="1805040"/>
          </a:xfrm>
          <a:prstGeom prst="rect">
            <a:avLst/>
          </a:prstGeom>
          <a:ln w="0">
            <a:noFill/>
          </a:ln>
        </p:spPr>
      </p:pic>
      <p:pic>
        <p:nvPicPr>
          <p:cNvPr id="48" name="AutoShape 8" descr=""/>
          <p:cNvPicPr/>
          <p:nvPr/>
        </p:nvPicPr>
        <p:blipFill>
          <a:blip r:embed="rId3"/>
          <a:stretch/>
        </p:blipFill>
        <p:spPr>
          <a:xfrm>
            <a:off x="5522760" y="2859120"/>
            <a:ext cx="3084840" cy="2693880"/>
          </a:xfrm>
          <a:prstGeom prst="rect">
            <a:avLst/>
          </a:prstGeom>
          <a:ln w="0">
            <a:noFill/>
          </a:ln>
        </p:spPr>
      </p:pic>
      <p:cxnSp>
        <p:nvCxnSpPr>
          <p:cNvPr id="49" name="AutoShape 9"/>
          <p:cNvCxnSpPr>
            <a:stCxn id="47" idx="2"/>
            <a:endCxn id="48" idx="2"/>
          </p:cNvCxnSpPr>
          <p:nvPr/>
        </p:nvCxnSpPr>
        <p:spPr>
          <a:xfrm>
            <a:off x="3956040" y="5114880"/>
            <a:ext cx="3109320" cy="4384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755640" y="63104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5200" y="692280"/>
            <a:ext cx="255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图表素材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FE82-1926-41CF-A2F4-AEEFC2BF5E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22Z</dcterms:created>
  <dc:creator/>
  <dc:description/>
  <cp:keywords>幻灯片之家 http:/www.eeppt.com</cp:keywords>
  <dc:language>en-US</dc:language>
  <cp:lastModifiedBy/>
  <dcterms:modified xsi:type="dcterms:W3CDTF">2015-07-13T09:41:34Z</dcterms:modified>
  <cp:revision>75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3403000000000001024140</vt:lpwstr>
  </property>
  <property fmtid="{D5CDD505-2E9C-101B-9397-08002B2CF9AE}" pid="4" name="Presentation">
    <vt:lpwstr>锐普图表</vt:lpwstr>
  </property>
  <property fmtid="{D5CDD505-2E9C-101B-9397-08002B2CF9AE}" pid="5" name="SlideDescription">
    <vt:lpwstr/>
  </property>
</Properties>
</file>