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CD9F-CFE3-471B-8182-BCC4191A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BA1-76B6-4574-B131-F758DCCA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DD8-51B4-4A3B-9B66-2A377E10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5AD-AB29-4DC4-877D-B007620A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D6F-5CB2-44CB-A974-30EAFED5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FAAC-B6D9-44D7-8B46-2799CC20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0F9-D3E1-497B-91A0-7A8D2BB1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AFD-263F-4CDA-8283-CD536534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085B-E330-45F2-8039-348D00A7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DFDF-BAF6-4A9A-974C-0915156E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AA6-16C4-4178-909C-3EB84B5C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4D7F-083B-4C5B-9E27-FE2085D5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F034-1A22-45E7-B641-2B2044AF1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6933600" y="2205000"/>
            <a:ext cx="1958760" cy="200520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4567320" y="2552760"/>
            <a:ext cx="4325760" cy="129528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ffcc00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383480" y="2841480"/>
            <a:ext cx="7427880" cy="72072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ffff00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69440" y="2913120"/>
            <a:ext cx="407880" cy="360360"/>
            <a:chOff x="7669440" y="2913120"/>
            <a:chExt cx="407880" cy="360360"/>
          </a:xfrm>
        </p:grpSpPr>
        <p:sp>
          <p:nvSpPr>
            <p:cNvPr id="45" name=""/>
            <p:cNvSpPr/>
            <p:nvPr/>
          </p:nvSpPr>
          <p:spPr>
            <a:xfrm flipH="1">
              <a:off x="7669080" y="2913120"/>
              <a:ext cx="40788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7751880" y="2986200"/>
              <a:ext cx="24444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324000" y="2409840"/>
            <a:ext cx="1468440" cy="171612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630440" y="3201840"/>
            <a:ext cx="5386320" cy="0"/>
          </a:xfrm>
          <a:prstGeom prst="line">
            <a:avLst/>
          </a:prstGeom>
          <a:ln w="57240">
            <a:solidFill>
              <a:srgbClr val="6666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29667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50763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71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03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5084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995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40360" y="5084640"/>
            <a:ext cx="165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995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5092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995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164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ee995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94640" y="117360"/>
            <a:ext cx="301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表素材之鱼骨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flipH="1">
            <a:off x="6933600" y="2205000"/>
            <a:ext cx="1958760" cy="200520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0066ff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567320" y="2552760"/>
            <a:ext cx="4325760" cy="129528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0066ff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1383480" y="2841480"/>
            <a:ext cx="7427880" cy="72072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99ccff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7669440" y="2913120"/>
            <a:ext cx="407880" cy="360360"/>
            <a:chOff x="7669440" y="2913120"/>
            <a:chExt cx="407880" cy="360360"/>
          </a:xfrm>
        </p:grpSpPr>
        <p:sp>
          <p:nvSpPr>
            <p:cNvPr id="63" name=""/>
            <p:cNvSpPr/>
            <p:nvPr/>
          </p:nvSpPr>
          <p:spPr>
            <a:xfrm flipH="1">
              <a:off x="7669080" y="2913120"/>
              <a:ext cx="40788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751880" y="2986200"/>
              <a:ext cx="24444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324000" y="2409840"/>
            <a:ext cx="1468440" cy="171612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6699ff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630440" y="3201840"/>
            <a:ext cx="5386320" cy="0"/>
          </a:xfrm>
          <a:prstGeom prst="line">
            <a:avLst/>
          </a:prstGeom>
          <a:ln w="57240">
            <a:solidFill>
              <a:srgbClr val="6666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9667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50763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771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003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79640" y="5084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40360" y="5084640"/>
            <a:ext cx="165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05092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fd4fe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60944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3B7-2E12-4E99-9E67-FD10292D445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flipH="1">
            <a:off x="6933600" y="2205000"/>
            <a:ext cx="1958760" cy="200520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67320" y="2552760"/>
            <a:ext cx="4325760" cy="129528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99cc00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383480" y="2841480"/>
            <a:ext cx="7427880" cy="72072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ccff33">
              <a:alpha val="60000"/>
            </a:srgbClr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69440" y="2913120"/>
            <a:ext cx="407880" cy="360360"/>
            <a:chOff x="7669440" y="2913120"/>
            <a:chExt cx="407880" cy="360360"/>
          </a:xfrm>
        </p:grpSpPr>
        <p:sp>
          <p:nvSpPr>
            <p:cNvPr id="84" name=""/>
            <p:cNvSpPr/>
            <p:nvPr/>
          </p:nvSpPr>
          <p:spPr>
            <a:xfrm flipH="1">
              <a:off x="7669080" y="2913120"/>
              <a:ext cx="407880" cy="3603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7751880" y="2986200"/>
              <a:ext cx="244440" cy="2160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324000" y="2409840"/>
            <a:ext cx="1468440" cy="1716120"/>
          </a:xfrm>
          <a:custGeom>
            <a:avLst/>
            <a:gdLst/>
            <a:ahLst/>
            <a:rect l="l" t="t" r="r" b="b"/>
            <a:pathLst>
              <a:path w="953" h="1081">
                <a:moveTo>
                  <a:pt x="8" y="507"/>
                </a:moveTo>
                <a:cubicBezTo>
                  <a:pt x="16" y="341"/>
                  <a:pt x="507" y="106"/>
                  <a:pt x="643" y="53"/>
                </a:cubicBezTo>
                <a:cubicBezTo>
                  <a:pt x="779" y="0"/>
                  <a:pt x="779" y="83"/>
                  <a:pt x="824" y="189"/>
                </a:cubicBezTo>
                <a:cubicBezTo>
                  <a:pt x="869" y="295"/>
                  <a:pt x="953" y="544"/>
                  <a:pt x="915" y="688"/>
                </a:cubicBezTo>
                <a:cubicBezTo>
                  <a:pt x="877" y="832"/>
                  <a:pt x="748" y="1081"/>
                  <a:pt x="597" y="1051"/>
                </a:cubicBezTo>
                <a:cubicBezTo>
                  <a:pt x="446" y="1021"/>
                  <a:pt x="0" y="673"/>
                  <a:pt x="8" y="507"/>
                </a:cubicBezTo>
                <a:close/>
              </a:path>
            </a:pathLst>
          </a:custGeom>
          <a:solidFill>
            <a:srgbClr val="009900"/>
          </a:solidFill>
          <a:ln w="9360">
            <a:solidFill>
              <a:srgbClr val="5f5f5f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630440" y="3201840"/>
            <a:ext cx="5386320" cy="0"/>
          </a:xfrm>
          <a:prstGeom prst="line">
            <a:avLst/>
          </a:prstGeom>
          <a:ln w="57240">
            <a:solidFill>
              <a:srgbClr val="6666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29667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5076360" y="1484280"/>
            <a:ext cx="957240" cy="165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771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03640" y="3212640"/>
            <a:ext cx="64800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5084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995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5084640"/>
            <a:ext cx="165708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995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995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836640"/>
            <a:ext cx="165744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4e995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6:54:25Z</dcterms:created>
  <dc:creator/>
  <dc:description/>
  <cp:keywords>幻灯片之家 http:/www.eeppt.com</cp:keywords>
  <dc:language>en-US</dc:language>
  <cp:lastModifiedBy/>
  <dcterms:modified xsi:type="dcterms:W3CDTF">2015-07-13T09:19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