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EED-CA20-4D1F-96DB-E4780D8A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F29-8E2F-45FB-9224-59F84B37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474-FDE6-4CAF-93C6-5948F6EF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1B6-09AC-4C9B-B1E8-EF29EA74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C49-22A1-4E8D-A60A-1A4548D8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E37F-49C5-49EC-95C0-099EE7BC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341-7656-477C-A18A-6C9DF96F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206-893C-44AB-8E2B-B4673AAB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213-E18B-401A-809C-D10DF526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B3D-FF9D-4740-86C7-A84B6500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F69-610B-441B-9B1F-88304B9B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321-6A6D-4F99-A851-745CC908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E401-80B5-4F88-913D-2CDC90073384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biaoge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4.jpeg"/><Relationship Id="rId17" Type="http://schemas.openxmlformats.org/officeDocument/2006/relationships/image" Target="../media/image5.png"/><Relationship Id="rId18" Type="http://schemas.openxmlformats.org/officeDocument/2006/relationships/hyperlink" Target="http://www.eeppt.com/moban/kejian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447920" y="2133720"/>
            <a:ext cx="62481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  hu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ǒ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  miè    ti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á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n    lì    n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n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一   火   灭， 田   力  男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rén  mù  xi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ū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  sh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ǒ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u   mù   k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à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n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人  木  休，  手    目  看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3" name="Picture 7" descr="dyd"/>
          <p:cNvPicPr/>
          <p:nvPr/>
        </p:nvPicPr>
        <p:blipFill>
          <a:blip r:embed="rId2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1447920" y="1981080"/>
            <a:ext cx="69339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èr   mù  lín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s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n   mù  s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800080"/>
                </a:solidFill>
                <a:latin typeface="Book Antiqua"/>
                <a:ea typeface="楷体_GB2312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二  木 林，   三   木  森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èr   rén  cóng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s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n  rén zhòng</a:t>
            </a:r>
            <a:r>
              <a:rPr b="1" lang="en-US" sz="3200" spc="-1" strike="noStrike">
                <a:solidFill>
                  <a:srgbClr val="800080"/>
                </a:solidFill>
                <a:latin typeface="Book Antiqua"/>
                <a:ea typeface="楷体_GB2312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二  人  从，　 三    人   众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6" name="Picture 5" descr="dyd"/>
          <p:cNvPicPr/>
          <p:nvPr/>
        </p:nvPicPr>
        <p:blipFill>
          <a:blip r:embed="rId2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xyx"/>
          <p:cNvPicPr/>
          <p:nvPr/>
        </p:nvPicPr>
        <p:blipFill>
          <a:blip r:embed="rId2"/>
          <a:stretch/>
        </p:blipFill>
        <p:spPr>
          <a:xfrm>
            <a:off x="1219320" y="1127160"/>
            <a:ext cx="1977840" cy="549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3"/>
          <a:stretch/>
        </p:blipFill>
        <p:spPr>
          <a:xfrm>
            <a:off x="1828800" y="2470320"/>
            <a:ext cx="2514600" cy="2366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4"/>
          <a:stretch/>
        </p:blipFill>
        <p:spPr>
          <a:xfrm>
            <a:off x="5334120" y="2394000"/>
            <a:ext cx="2408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9"/>
          <p:cNvSpPr/>
          <p:nvPr/>
        </p:nvSpPr>
        <p:spPr>
          <a:xfrm>
            <a:off x="2519280" y="2986200"/>
            <a:ext cx="505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笔尖    鲜花    竹子    森林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2595600" y="4038480"/>
            <a:ext cx="505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明天    尘土    手心    灭火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15242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705720" cy="4237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3564000" y="836640"/>
            <a:ext cx="1257120" cy="933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zyz"/>
          <p:cNvPicPr/>
          <p:nvPr/>
        </p:nvPicPr>
        <p:blipFill>
          <a:blip r:embed="rId4"/>
          <a:stretch/>
        </p:blipFill>
        <p:spPr>
          <a:xfrm>
            <a:off x="1219320" y="1093680"/>
            <a:ext cx="1931760" cy="582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A63-58CA-46FE-AC67-5837FEEB86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6"/>
          <p:cNvSpPr/>
          <p:nvPr/>
        </p:nvSpPr>
        <p:spPr>
          <a:xfrm>
            <a:off x="1986840" y="193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小知识：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600200" y="2714760"/>
            <a:ext cx="6477120" cy="1288440"/>
          </a:xfrm>
          <a:prstGeom prst="rect">
            <a:avLst/>
          </a:prstGeom>
          <a:solidFill>
            <a:srgbClr val="ffefef"/>
          </a:solidFill>
          <a:ln cap="rnd" w="5724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我们学习的汉字中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有许多字是由两个或两个以上汉字组成的，它的意思就是这几个汉字意思的组合，这样的汉字叫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会意字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2" name="Picture 8" descr="zyz"/>
          <p:cNvPicPr/>
          <p:nvPr/>
        </p:nvPicPr>
        <p:blipFill>
          <a:blip r:embed="rId2"/>
          <a:stretch/>
        </p:blipFill>
        <p:spPr>
          <a:xfrm>
            <a:off x="1219320" y="1093680"/>
            <a:ext cx="1931760" cy="5828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"/>
          <p:cNvSpPr/>
          <p:nvPr/>
        </p:nvSpPr>
        <p:spPr>
          <a:xfrm>
            <a:off x="3492360" y="1052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8"/>
          <p:cNvSpPr/>
          <p:nvPr/>
        </p:nvSpPr>
        <p:spPr>
          <a:xfrm>
            <a:off x="3863520" y="1981080"/>
            <a:ext cx="11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采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手在树上，采摘东西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676520" y="304812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灾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室中失火，酿成火灾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682640" y="4038480"/>
            <a:ext cx="641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苗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田间长草，植物幼苗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3869280" y="5029200"/>
            <a:ext cx="13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瓣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用手分物，瓣为两截。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8" name="Picture 13" descr="zyz"/>
          <p:cNvPicPr/>
          <p:nvPr/>
        </p:nvPicPr>
        <p:blipFill>
          <a:blip r:embed="rId2"/>
          <a:stretch/>
        </p:blipFill>
        <p:spPr>
          <a:xfrm>
            <a:off x="1219320" y="1093680"/>
            <a:ext cx="1931760" cy="582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333cc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2685960" y="515772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www.1ppt.com/excel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表格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5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3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3" name="Picture 15" descr="luckmoon1060435430a003DSCF0006"/>
          <p:cNvPicPr/>
          <p:nvPr/>
        </p:nvPicPr>
        <p:blipFill>
          <a:blip r:embed="rId16"/>
          <a:srcRect l="11404" t="3501" r="19299" b="21933"/>
          <a:stretch/>
        </p:blipFill>
        <p:spPr>
          <a:xfrm>
            <a:off x="1260360" y="1981080"/>
            <a:ext cx="6019920" cy="3886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6"/>
          <p:cNvSpPr/>
          <p:nvPr/>
        </p:nvSpPr>
        <p:spPr>
          <a:xfrm>
            <a:off x="7415280" y="3260880"/>
            <a:ext cx="13111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日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5" name="Picture 18" descr="dyd"/>
          <p:cNvPicPr/>
          <p:nvPr/>
        </p:nvPicPr>
        <p:blipFill>
          <a:blip r:embed="rId17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6381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  <a:hlinkClick r:id="rId18"/>
              </a:rPr>
              <a:t>ppt课件模板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6"/>
          <p:cNvSpPr/>
          <p:nvPr/>
        </p:nvSpPr>
        <p:spPr>
          <a:xfrm>
            <a:off x="7147080" y="3352680"/>
            <a:ext cx="13111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月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8" name="Picture 22" descr="明月（1）"/>
          <p:cNvPicPr/>
          <p:nvPr/>
        </p:nvPicPr>
        <p:blipFill>
          <a:blip r:embed="rId2"/>
          <a:stretch/>
        </p:blipFill>
        <p:spPr>
          <a:xfrm>
            <a:off x="1295280" y="1809720"/>
            <a:ext cx="5639040" cy="422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dyd"/>
          <p:cNvPicPr/>
          <p:nvPr/>
        </p:nvPicPr>
        <p:blipFill>
          <a:blip r:embed="rId3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4175280" y="4876920"/>
            <a:ext cx="13111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明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1" name="Picture 13" descr="dyd"/>
          <p:cNvPicPr/>
          <p:nvPr/>
        </p:nvPicPr>
        <p:blipFill>
          <a:blip r:embed="rId2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6"/>
          <p:cNvGrpSpPr/>
          <p:nvPr/>
        </p:nvGrpSpPr>
        <p:grpSpPr>
          <a:xfrm>
            <a:off x="762120" y="1981080"/>
            <a:ext cx="7848000" cy="2590920"/>
            <a:chOff x="762120" y="1981080"/>
            <a:chExt cx="7848000" cy="2590920"/>
          </a:xfrm>
        </p:grpSpPr>
        <p:pic>
          <p:nvPicPr>
            <p:cNvPr id="53" name="Picture 14" descr="luckmoon1060435430a003DSCF0006"/>
            <p:cNvPicPr/>
            <p:nvPr/>
          </p:nvPicPr>
          <p:blipFill>
            <a:blip r:embed="rId3"/>
            <a:srcRect l="11404" t="3501" r="19299" b="21933"/>
            <a:stretch/>
          </p:blipFill>
          <p:spPr>
            <a:xfrm>
              <a:off x="762120" y="1981080"/>
              <a:ext cx="3962160" cy="25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5" descr="明月（1）"/>
            <p:cNvPicPr/>
            <p:nvPr/>
          </p:nvPicPr>
          <p:blipFill>
            <a:blip r:embed="rId4"/>
            <a:stretch/>
          </p:blipFill>
          <p:spPr>
            <a:xfrm>
              <a:off x="4952880" y="1981080"/>
              <a:ext cx="3657240" cy="2590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162920" y="3108240"/>
            <a:ext cx="13111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鱼 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6" name="Picture 9" descr="liyu"/>
          <p:cNvPicPr/>
          <p:nvPr/>
        </p:nvPicPr>
        <p:blipFill>
          <a:blip r:embed="rId2"/>
          <a:stretch/>
        </p:blipFill>
        <p:spPr>
          <a:xfrm>
            <a:off x="1219320" y="2311560"/>
            <a:ext cx="5486400" cy="271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dyd"/>
          <p:cNvPicPr/>
          <p:nvPr/>
        </p:nvPicPr>
        <p:blipFill>
          <a:blip r:embed="rId3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6172200" y="3124080"/>
            <a:ext cx="13111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羊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0" name="Picture 6" descr="长角羚羊"/>
          <p:cNvPicPr/>
          <p:nvPr/>
        </p:nvPicPr>
        <p:blipFill>
          <a:blip r:embed="rId2"/>
          <a:stretch/>
        </p:blipFill>
        <p:spPr>
          <a:xfrm>
            <a:off x="2209680" y="1676520"/>
            <a:ext cx="3210120" cy="481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dyd"/>
          <p:cNvPicPr/>
          <p:nvPr/>
        </p:nvPicPr>
        <p:blipFill>
          <a:blip r:embed="rId3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4114800" y="5181480"/>
            <a:ext cx="13111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鲜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3" name="Picture 11" descr="dyd"/>
          <p:cNvPicPr/>
          <p:nvPr/>
        </p:nvPicPr>
        <p:blipFill>
          <a:blip r:embed="rId2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13"/>
          <p:cNvGrpSpPr/>
          <p:nvPr/>
        </p:nvGrpSpPr>
        <p:grpSpPr>
          <a:xfrm>
            <a:off x="1143000" y="1676520"/>
            <a:ext cx="6400800" cy="3132000"/>
            <a:chOff x="1143000" y="1676520"/>
            <a:chExt cx="6400800" cy="3132000"/>
          </a:xfrm>
        </p:grpSpPr>
        <p:pic>
          <p:nvPicPr>
            <p:cNvPr id="65" name="Picture 10" descr="align=center"/>
            <p:cNvPicPr/>
            <p:nvPr/>
          </p:nvPicPr>
          <p:blipFill>
            <a:blip r:embed="rId3"/>
            <a:stretch/>
          </p:blipFill>
          <p:spPr>
            <a:xfrm>
              <a:off x="5486400" y="1676520"/>
              <a:ext cx="2057400" cy="31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2" descr="liyu"/>
            <p:cNvPicPr/>
            <p:nvPr/>
          </p:nvPicPr>
          <p:blipFill>
            <a:blip r:embed="rId4"/>
            <a:stretch/>
          </p:blipFill>
          <p:spPr>
            <a:xfrm>
              <a:off x="1143000" y="2311560"/>
              <a:ext cx="3809880" cy="1886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9" descr="dyd"/>
          <p:cNvPicPr/>
          <p:nvPr/>
        </p:nvPicPr>
        <p:blipFill>
          <a:blip r:embed="rId2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6"/>
          <p:cNvSpPr/>
          <p:nvPr/>
        </p:nvSpPr>
        <p:spPr>
          <a:xfrm flipH="1">
            <a:off x="1676520" y="1752480"/>
            <a:ext cx="3124080" cy="2743200"/>
          </a:xfrm>
          <a:prstGeom prst="cloudCallout">
            <a:avLst>
              <a:gd name="adj1" fmla="val -92990"/>
              <a:gd name="adj2" fmla="val 62726"/>
            </a:avLst>
          </a:prstGeom>
          <a:solidFill>
            <a:srgbClr val="ffefef"/>
          </a:solidFill>
          <a:ln cap="rnd" w="2844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  <a:ea typeface="楷体_GB2312"/>
              </a:rPr>
              <a:t>试试小组合作学习其它字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9" name="Picture 10" descr="teacher00"/>
          <p:cNvPicPr/>
          <p:nvPr/>
        </p:nvPicPr>
        <p:blipFill>
          <a:blip r:embed="rId3"/>
          <a:stretch/>
        </p:blipFill>
        <p:spPr>
          <a:xfrm>
            <a:off x="4648320" y="3124080"/>
            <a:ext cx="3078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33"/>
          <p:cNvSpPr/>
          <p:nvPr/>
        </p:nvSpPr>
        <p:spPr>
          <a:xfrm>
            <a:off x="1295280" y="1981080"/>
            <a:ext cx="70106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rì   yuè  míng   yú  y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ng  xi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n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日  月  明，  鱼  羊    鲜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xi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o   tǔ chén        xi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o   d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  ji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n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小   土   尘，    小   大  尖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1" name="Picture 1036" descr="dyd"/>
          <p:cNvPicPr/>
          <p:nvPr/>
        </p:nvPicPr>
        <p:blipFill>
          <a:blip r:embed="rId2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2:41:56Z</dcterms:created>
  <dc:creator/>
  <dc:description/>
  <cp:keywords>幻灯片之家 http:/www.eeppt.com</cp:keywords>
  <dc:language>en-US</dc:language>
  <cp:lastModifiedBy/>
  <dcterms:modified xsi:type="dcterms:W3CDTF">2015-07-03T13:29:01Z</dcterms:modified>
  <cp:revision>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