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303-8595-4E6B-BE9B-45CE9C09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C17-6D5F-4244-8711-848F65C1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47F-F57F-4537-ABAB-34CED1F5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ABA-9FC9-4D08-89D0-EED7C9D4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FD1-A0D4-4C65-9B82-7BC87E9F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706-817F-4503-A2A0-111F0D1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0DD-4483-45EA-AFD3-144778A2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939-CDBD-4256-AD19-75637DA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332-D8D7-40F6-A130-8CEF0255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B45-F08A-4314-86E0-40A5E37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BF9-628E-4246-B2F3-21B192A9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513-A9B1-4BFA-A54C-4B6F679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D7FC-4A5E-4F6D-A26C-2AE1CE632C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E3C0-6BF0-4F20-ADD2-694D02068F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58280" y="83664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圣诞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B7B-D6F5-4AB6-99D9-379615B281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56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34:00Z</dcterms:created>
  <dc:creator/>
  <dc:description/>
  <cp:keywords>幻灯片之家 http:/www.eeppt.com</cp:keywords>
  <dc:language>en-US</dc:language>
  <cp:lastModifiedBy/>
  <dcterms:modified xsi:type="dcterms:W3CDTF">2015-07-09T08:15:4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