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gif" ContentType="image/gif"/>
  <Override PartName="/ppt/media/image10.gif" ContentType="image/gif"/>
  <Override PartName="/ppt/media/image6.gif" ContentType="image/gif"/>
  <Override PartName="/ppt/media/image7.jpeg" ContentType="image/jpeg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3315-BEFF-4BDE-8065-9A063656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A643-2C60-4B98-B1FA-A60B22AF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000-70DA-422A-BD7C-A26C2568C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6976-834D-45B2-B7A7-CC73DA17F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266A7-929A-46C9-A083-1328D9409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8582-5B40-4CF2-9320-006060B0B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F8B3-B7A4-4C4B-ACCE-10A96D4F1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73BD-AB6E-4635-AB70-977DC95D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945-4C8A-4580-A01E-92C32E78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786C-ED6E-4FC4-91A6-A1FD8E60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F929-A335-40FB-B3FC-2DD169A2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E168-29A9-41B7-B2A8-DB137BE5D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E761C-E365-43E1-9E80-E3F437CCF2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2117880" y="26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2133720" y="582480"/>
            <a:ext cx="3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5096880" y="2759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杜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24480" y="1052640"/>
            <a:ext cx="255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石壕吏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33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298440" y="333864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9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0"/>
          <p:cNvSpPr/>
          <p:nvPr/>
        </p:nvSpPr>
        <p:spPr>
          <a:xfrm>
            <a:off x="0" y="4871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98440" y="2666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 flipH="1">
            <a:off x="611280" y="189000"/>
            <a:ext cx="807696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运用想象，还原情形，进行情景对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三男邺城戍，一男附书至，二男新战死，存    者且偷生，死者长已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室中更无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惟有乳下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有孙母未去，出入无完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老妇力虽衰，请从吏夜归，急应河阳役，犹 得备晨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0F21-7565-41AF-A744-1B2DF5A2E5E7}" type="slidenum">
              <a:t>12</a:t>
            </a:fld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1026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027"/>
          <p:cNvSpPr/>
          <p:nvPr/>
        </p:nvSpPr>
        <p:spPr>
          <a:xfrm>
            <a:off x="1523880" y="30700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这个故事的结局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028" descr="q6"/>
          <p:cNvPicPr/>
          <p:nvPr/>
        </p:nvPicPr>
        <p:blipFill>
          <a:blip r:embed="rId1"/>
          <a:stretch/>
        </p:blipFill>
        <p:spPr>
          <a:xfrm>
            <a:off x="7924680" y="6858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5" name="WordArt 1030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5086440"/>
            <a:ext cx="6112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1279080" y="90360"/>
            <a:ext cx="1297800" cy="1434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比一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891080" y="2209680"/>
            <a:ext cx="53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有感情地大声朗读全诗，根据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内容的理解，力争以最短的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背出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5" descr="clock"/>
          <p:cNvPicPr/>
          <p:nvPr/>
        </p:nvPicPr>
        <p:blipFill>
          <a:blip r:embed="rId1"/>
          <a:stretch/>
        </p:blipFill>
        <p:spPr>
          <a:xfrm>
            <a:off x="7616880" y="457200"/>
            <a:ext cx="765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525600" y="166680"/>
            <a:ext cx="37558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</a:t>
            </a: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793960" y="2116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默写全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2707200" y="3071880"/>
            <a:ext cx="46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练笔：把本诗改写成一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2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26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1027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28"/>
          <p:cNvSpPr/>
          <p:nvPr/>
        </p:nvSpPr>
        <p:spPr>
          <a:xfrm>
            <a:off x="1631160" y="1143000"/>
            <a:ext cx="59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唐肃宗乾元元年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5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春天，郭子仪等九节度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2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0"/>
          <p:cNvSpPr/>
          <p:nvPr/>
        </p:nvSpPr>
        <p:spPr>
          <a:xfrm>
            <a:off x="443988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六十万大军包围安庆绪于邺城，由于指挥不统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1"/>
          <p:cNvSpPr/>
          <p:nvPr/>
        </p:nvSpPr>
        <p:spPr>
          <a:xfrm>
            <a:off x="1364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2"/>
          <p:cNvSpPr/>
          <p:nvPr/>
        </p:nvSpPr>
        <p:spPr>
          <a:xfrm>
            <a:off x="1860840" y="23623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被史思明援军打败唐王朝为补充兵力，便在洛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3"/>
          <p:cNvSpPr/>
          <p:nvPr/>
        </p:nvSpPr>
        <p:spPr>
          <a:xfrm>
            <a:off x="-9216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4"/>
          <p:cNvSpPr/>
          <p:nvPr/>
        </p:nvSpPr>
        <p:spPr>
          <a:xfrm>
            <a:off x="2053080" y="3048120"/>
            <a:ext cx="48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潼关一带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强行抓人当兵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民苦不堪言。这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5"/>
          <p:cNvSpPr/>
          <p:nvPr/>
        </p:nvSpPr>
        <p:spPr>
          <a:xfrm>
            <a:off x="212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6"/>
          <p:cNvSpPr/>
          <p:nvPr/>
        </p:nvSpPr>
        <p:spPr>
          <a:xfrm>
            <a:off x="1829160" y="3733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古代伟大的现实主义诗人杜甫经过此处，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7"/>
          <p:cNvSpPr/>
          <p:nvPr/>
        </p:nvSpPr>
        <p:spPr>
          <a:xfrm>
            <a:off x="-9216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38"/>
          <p:cNvSpPr/>
          <p:nvPr/>
        </p:nvSpPr>
        <p:spPr>
          <a:xfrm>
            <a:off x="1829160" y="4419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所见所闻进行了高度的艺术概括，写成了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39"/>
          <p:cNvSpPr/>
          <p:nvPr/>
        </p:nvSpPr>
        <p:spPr>
          <a:xfrm>
            <a:off x="5936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0"/>
          <p:cNvSpPr/>
          <p:nvPr/>
        </p:nvSpPr>
        <p:spPr>
          <a:xfrm>
            <a:off x="2003040" y="5029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组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石壕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三吏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41"/>
          <p:cNvSpPr/>
          <p:nvPr/>
        </p:nvSpPr>
        <p:spPr>
          <a:xfrm>
            <a:off x="1364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042"/>
          <p:cNvSpPr/>
          <p:nvPr/>
        </p:nvSpPr>
        <p:spPr>
          <a:xfrm>
            <a:off x="63288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43"/>
          <p:cNvSpPr/>
          <p:nvPr/>
        </p:nvSpPr>
        <p:spPr>
          <a:xfrm>
            <a:off x="754560" y="61920"/>
            <a:ext cx="38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背景简介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6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577800" y="-158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shihaoli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8"/>
          <p:cNvSpPr/>
          <p:nvPr/>
        </p:nvSpPr>
        <p:spPr>
          <a:xfrm>
            <a:off x="1508040" y="38088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方正舒体"/>
                <a:ea typeface="方正舒体"/>
              </a:rPr>
              <a:t>听 录 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"/>
          <p:cNvSpPr/>
          <p:nvPr/>
        </p:nvSpPr>
        <p:spPr>
          <a:xfrm>
            <a:off x="609480" y="533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生字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533520" y="182880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吏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逾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邺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戍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咽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泣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14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7162920" y="1600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8"/>
          <p:cNvSpPr/>
          <p:nvPr/>
        </p:nvSpPr>
        <p:spPr>
          <a:xfrm>
            <a:off x="2438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2593080" y="283356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7241040" y="283356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h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2955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"/>
          <p:cNvSpPr/>
          <p:nvPr/>
        </p:nvSpPr>
        <p:spPr>
          <a:xfrm>
            <a:off x="2593080" y="4114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7391520" y="4114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4"/>
          <p:cNvSpPr/>
          <p:nvPr/>
        </p:nvSpPr>
        <p:spPr>
          <a:xfrm>
            <a:off x="2668320" y="5334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1189080" y="-15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 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824400" y="17701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5"/>
          <p:cNvSpPr/>
          <p:nvPr/>
        </p:nvSpPr>
        <p:spPr>
          <a:xfrm>
            <a:off x="1371600" y="685800"/>
            <a:ext cx="71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注释，疏通文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1219320" y="1981080"/>
            <a:ext cx="589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162960" y="12794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复述故事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9920" y="27748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不要求逐字逐句翻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说出大意就可以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itle1"/>
          <p:cNvPicPr/>
          <p:nvPr/>
        </p:nvPicPr>
        <p:blipFill>
          <a:blip r:embed="rId1"/>
          <a:stretch/>
        </p:blipFill>
        <p:spPr>
          <a:xfrm>
            <a:off x="1752480" y="4952880"/>
            <a:ext cx="586764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90400" y="746280"/>
            <a:ext cx="27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走进石壕村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50532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62120" y="1055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5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2209680" y="60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11" descr="q2"/>
          <p:cNvPicPr/>
          <p:nvPr/>
        </p:nvPicPr>
        <p:blipFill>
          <a:blip r:embed="rId1"/>
          <a:stretch/>
        </p:blipFill>
        <p:spPr>
          <a:xfrm>
            <a:off x="7745400" y="76212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2"/>
          <p:cNvSpPr/>
          <p:nvPr/>
        </p:nvSpPr>
        <p:spPr>
          <a:xfrm>
            <a:off x="4024080" y="1828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（齐读第一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4451400" y="31669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这里老翁、老妇分别有怎样的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1447920" y="383544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2193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为何有此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685800" y="243828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哪几个字把人物形象淋漓尽致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展示出来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2133720" y="41148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呼　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怒　 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4024080" y="5715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4:36:32Z</dcterms:created>
  <dc:creator/>
  <dc:description/>
  <cp:keywords>幻灯片之家 http:/www.eeppt.com</cp:keywords>
  <dc:language>en-US</dc:language>
  <cp:lastModifiedBy/>
  <dcterms:modified xsi:type="dcterms:W3CDTF">2015-07-04T11:29:57Z</dcterms:modified>
  <cp:revision>5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