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D86-561E-495E-AEE2-C7799E5D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893-D57A-4602-BF31-6D9EAD9E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CC6-1C09-4140-AE50-F144DD44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7F7-81B9-4298-87DF-EDE75AEF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6E7B-BB66-45B9-AD65-B9E65CBE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56BA-166B-4EC2-85FF-76C27CB4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BB02-8ECD-4414-B10C-AB712D35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7AFB-6AEC-40F4-B54F-004A48C3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E0FE-6080-428F-8978-50627B18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83EE-F1CB-404C-B2CA-5959B3FD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4A7A-69B4-4D0F-9F3A-C6B07566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72AC-6723-48F5-A9AB-18962A94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941D-0E8F-4969-AD32-87278ED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7813-CAF3-4FA6-9589-87606BA5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DAEC-572F-4EAC-8156-79683971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734C-41EA-47A8-A3B9-3246131E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363B-C5A7-494C-A233-16B55CC1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CB6-3F8F-431C-9843-F5257760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DF9-5DDF-4918-A35A-920DF598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B28-B2DE-4411-AD9A-4331F44A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563-0B4E-4883-907D-1FB22F28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A0E-92A5-4DFC-A359-31F75F20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B56-4A66-469E-9A80-3CFBFAC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7C1-AAD0-445A-90F9-10336D98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D0CB-AD37-408C-B36A-40510EFBF9C4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F6A7-AF60-490A-B5A0-CDD32D3FA4E8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675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zh-CN" sz="8000" spc="-1" strike="noStrike">
                <a:solidFill>
                  <a:srgbClr val="008080"/>
                </a:solidFill>
                <a:latin typeface="Arial"/>
                <a:ea typeface="隶书"/>
              </a:rPr>
              <a:t>《诗经》概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3960" y="472608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诗、乐、舞三位一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773360"/>
            <a:ext cx="8540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《诗经》在古代与音乐和舞蹈关系密切，其中的诗篇都是可以合乐演唱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《诗三百》，就其原来性质而言，是歌曲的歌词。《墨子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公孟》说：“颂诗三百，弦诗三百，歌诗三百，舞诗三百。”意谓《诗》三百余篇，均可诵咏、用乐器演奏、歌唱、伴舞。季札观乐。《史记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孔子世家》又说：“三百五篇，孔子皆弦歌之，以求合韶、武、雅、颂之音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六篇“笙诗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今传的《诗经》并非足本，《小雅》中的《南陔》、《白华》、《华黍》、《由庚》、《崇丘》、《由仪》等</a:t>
            </a: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篇，篇名均见于《仪礼</a:t>
            </a: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乡饮酒礼》和《仪礼</a:t>
            </a: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燕礼》，而其辞不存。《毛传》以为“有其义而亡其辞”，朱熹《诗集传》认为这</a:t>
            </a: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篇皆“有声而无辞”。多数学者则同意《毛传》之说，以为本来有辞而亡逸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96360" y="5300640"/>
            <a:ext cx="1042920" cy="576360"/>
          </a:xfrm>
          <a:custGeom>
            <a:avLst/>
            <a:gdLst>
              <a:gd name="textAreaLeft" fmla="*/ 36000 w 1042920"/>
              <a:gd name="textAreaRight" fmla="*/ 1006920 w 1042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724" y="1350"/>
                </a:lnTo>
                <a:lnTo>
                  <a:pt x="1350" y="135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724" y="20250"/>
                </a:lnTo>
                <a:lnTo>
                  <a:pt x="37724" y="135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24" y="2025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74" h="21600">
                <a:moveTo>
                  <a:pt x="12493" y="10800"/>
                </a:moveTo>
                <a:lnTo>
                  <a:pt x="26581" y="3756"/>
                </a:lnTo>
                <a:lnTo>
                  <a:pt x="26581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《诗经》的分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57000"/>
            <a:ext cx="85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风、雅、颂的划分也是由于音乐的不同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风是带有地方色彩的音乐，十五“国风”就是十五个地方的土风歌谣，《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成公九年》范文子说：“乐操土风，不忘旧也。”正好说明了风的含义。它们产生的地区，除“周南”、“召南”在江汉汝水一带外，其余十三“国风”都在黄河流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雅是周王朝直接统治地区的音乐；雅有正的意思，当时人们把王朝直接统治地区的音乐看成正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颂有形容的意思，它是一种宗庙祭祀用的舞曲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95280" y="404640"/>
          <a:ext cx="8496360" cy="6005520"/>
        </p:xfrm>
        <a:graphic>
          <a:graphicData uri="http://schemas.openxmlformats.org/drawingml/2006/table">
            <a:tbl>
              <a:tblPr/>
              <a:tblGrid>
                <a:gridCol w="719280"/>
                <a:gridCol w="1728720"/>
                <a:gridCol w="576360"/>
                <a:gridCol w="5472000"/>
              </a:tblGrid>
              <a:tr h="25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风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周南、召南、邶风、鄘风、卫风、王风、郑风、齐风、魏风、唐风、秦风、陈风、桧风、曹风、豳风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《风》是带有地方色彩的音乐，指各地的土风歌谣。主要是各地民歌，其地域，除《周南》、《召南》产生于江、汉、汝水一带外，均产生于从陕西到山东的黄河流域。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5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雅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小雅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74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雅是“王畿”之乐，雅又有“正”的意思，当时把王畿之乐看作是正声——典范的音乐。《大雅》、《小雅》之分，众说不同，大约其音乐特点和应用场合都有些区别。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大雅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颂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周颂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《颂》是专门用于宗庙祭祀的音乐。《毛诗序》说：“颂者美盛德之形容，以其成功告于神明者也。”这是颂的含义和用途。王国维说：“颂之声较风、雅为缓。”（《说周颂》）这是其音乐的特点。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2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商颂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鲁颂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Arial"/>
                <a:ea typeface="隶书"/>
              </a:rPr>
              <a:t>“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六诗”和“六义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关于《诗经》的编排分类，前人有“六诗”、“六义”的说法。《周礼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春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大师》中说“大（太）师教六诗：曰风，曰赋，曰比，曰兴，曰雅，曰颂。”在《毛诗序》（见《诗序》）里，把“六诗”叫做“六义”。对这两个名词历来有各种不同的解释。其中，以孔颖达在《毛诗正义》中的解释较有代表性。他说：“风、雅、颂者，诗篇之异体；赋、比、兴者，诗文之异辞耳。大小不同，而得并为六义者，赋、比、兴是诗之所用，风、雅、颂是诗之成形，用彼三事，成此三事，是故同称为义。”他认为风、雅、颂是诗的不同体制，赋、比、兴是诗的不同表现手法，这看法被长期沿用下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5661000"/>
            <a:ext cx="1042920" cy="576360"/>
          </a:xfrm>
          <a:custGeom>
            <a:avLst/>
            <a:gdLst>
              <a:gd name="textAreaLeft" fmla="*/ 36000 w 1042920"/>
              <a:gd name="textAreaRight" fmla="*/ 1006920 w 1042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724" y="1350"/>
                </a:lnTo>
                <a:lnTo>
                  <a:pt x="1350" y="135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724" y="20250"/>
                </a:lnTo>
                <a:lnTo>
                  <a:pt x="37724" y="135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24" y="2025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74" h="21600">
                <a:moveTo>
                  <a:pt x="12493" y="10800"/>
                </a:moveTo>
                <a:lnTo>
                  <a:pt x="26581" y="3756"/>
                </a:lnTo>
                <a:lnTo>
                  <a:pt x="26581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《诗经》的功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《诗》最初主要用于典礼、讽谏和娱乐，是周代礼乐文化的重要组成部分，是实行教化的重要工具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《诗》广泛运用于各诸侯国祭祀、朝聘、宴饮等场合，在政治、外交活动中，发挥了重要作用。上层的人际交往多称引《诗》句来评论抒情。所引用的《诗》句，往往断章取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《诗》在现实生活中具有实用价值。孔子很重视《诗》，曾以《诗》教授弟子，并对学《诗》的重要意义和社会功用有多方面的阐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汉儒使《诗》经学化，固然有对《诗经》的曲解、附会，但汉代形成的诗教传统和说诗体系，不仅对《诗经》的研究，而且对整个中国古代文学的发展，都产生了深远的影响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12000" y="5734080"/>
            <a:ext cx="1042920" cy="576360"/>
          </a:xfrm>
          <a:custGeom>
            <a:avLst/>
            <a:gdLst>
              <a:gd name="textAreaLeft" fmla="*/ 36000 w 1042920"/>
              <a:gd name="textAreaRight" fmla="*/ 1006920 w 1042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724" y="1350"/>
                </a:lnTo>
                <a:lnTo>
                  <a:pt x="1350" y="135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724" y="20250"/>
                </a:lnTo>
                <a:lnTo>
                  <a:pt x="37724" y="135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24" y="2025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74" h="21600">
                <a:moveTo>
                  <a:pt x="12493" y="10800"/>
                </a:moveTo>
                <a:lnTo>
                  <a:pt x="26581" y="3756"/>
                </a:lnTo>
                <a:lnTo>
                  <a:pt x="26581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3141720"/>
            <a:ext cx="755640" cy="431640"/>
          </a:xfrm>
          <a:custGeom>
            <a:avLst/>
            <a:gdLst>
              <a:gd name="textAreaLeft" fmla="*/ 27000 w 755640"/>
              <a:gd name="textAreaRight" fmla="*/ 729000 w 75564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50" y="1350"/>
                </a:lnTo>
                <a:lnTo>
                  <a:pt x="1350" y="135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50" y="20250"/>
                </a:lnTo>
                <a:lnTo>
                  <a:pt x="36450" y="135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50" y="2025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800" h="21600">
                <a:moveTo>
                  <a:pt x="11856" y="3756"/>
                </a:moveTo>
                <a:lnTo>
                  <a:pt x="25944" y="10800"/>
                </a:lnTo>
                <a:lnTo>
                  <a:pt x="11856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4292640"/>
            <a:ext cx="755640" cy="431640"/>
          </a:xfrm>
          <a:custGeom>
            <a:avLst/>
            <a:gdLst>
              <a:gd name="textAreaLeft" fmla="*/ 27000 w 755640"/>
              <a:gd name="textAreaRight" fmla="*/ 729000 w 75564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50" y="1350"/>
                </a:lnTo>
                <a:lnTo>
                  <a:pt x="1350" y="135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50" y="20250"/>
                </a:lnTo>
                <a:lnTo>
                  <a:pt x="36450" y="135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50" y="2025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800" h="21600">
                <a:moveTo>
                  <a:pt x="11856" y="3756"/>
                </a:moveTo>
                <a:lnTo>
                  <a:pt x="25944" y="10800"/>
                </a:lnTo>
                <a:lnTo>
                  <a:pt x="11856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孔子论《诗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子曰：兴於诗。立於礼。成於乐。（《论语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泰伯》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子曰：诵诗三百；授之以政，不达；使於四方，不能专对；虽多，亦奚以为？（《论语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子路》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子曰：</a:t>
            </a:r>
            <a:r>
              <a:rPr b="0" lang="zh-CN" sz="2800" spc="-1" strike="noStrike" u="sng">
                <a:solidFill>
                  <a:srgbClr val="ff9900"/>
                </a:solidFill>
                <a:uFillTx/>
                <a:latin typeface="楷体_GB2312"/>
                <a:ea typeface="楷体_GB2312"/>
              </a:rPr>
              <a:t>不学诗，无以言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（《论语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季氏》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子曰：小子！何莫学夫诗？诗：可以兴，可以观，可以群，可以怨；迩之事父，远之事君；多识於鸟、兽、草、木之名。子谓伯鱼曰：女为周南召南矣乎？人而不为周南，召南，其犹正墙面而立也与？（《论语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阳货》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0360" y="5661000"/>
            <a:ext cx="1042920" cy="576360"/>
          </a:xfrm>
          <a:custGeom>
            <a:avLst/>
            <a:gdLst>
              <a:gd name="textAreaLeft" fmla="*/ 36000 w 1042920"/>
              <a:gd name="textAreaRight" fmla="*/ 1006920 w 1042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724" y="1350"/>
                </a:lnTo>
                <a:lnTo>
                  <a:pt x="1350" y="135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724" y="20250"/>
                </a:lnTo>
                <a:lnTo>
                  <a:pt x="37724" y="135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24" y="2025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74" h="21600">
                <a:moveTo>
                  <a:pt x="12493" y="10800"/>
                </a:moveTo>
                <a:lnTo>
                  <a:pt x="26581" y="3756"/>
                </a:lnTo>
                <a:lnTo>
                  <a:pt x="26581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赋诗言志和断章取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夏四月，鄭六卿餞宣子於郊。宣子曰：“二三君子請皆賦，起亦以知鄭志。”</a:t>
            </a:r>
            <a:r>
              <a:rPr b="0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嬰齊賦《野有蔓草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宣子曰：“孺子善哉！吾有望矣。”</a:t>
            </a:r>
            <a:r>
              <a:rPr b="0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子産賦鄭之《羔裘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宣子曰：“起不堪也。”</a:t>
            </a:r>
            <a:r>
              <a:rPr b="0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子大叔賦《褰裳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宣子曰：“起在此，敢勤子至於他人乎？”子大叔拜。宣子曰：“善哉，子之言是！不有是事，其能終乎？”</a:t>
            </a:r>
            <a:r>
              <a:rPr b="0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子游賦《風雨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子旗賦《有女同車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子柳賦《蘀兮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宣子喜，曰：“鄭其庶乎！二三君子以君命貺起，賦不出鄭志，皆昵燕好也。二三君子，數世之主也，可以無懼矣。”</a:t>
            </a:r>
            <a:r>
              <a:rPr b="0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宣子皆獻馬焉，而賦《我將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子産拜，使五卿皆拜，曰：“吾子靖亂，敢不拜德！”（《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昭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十六》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01080" y="5589720"/>
            <a:ext cx="1042920" cy="576000"/>
          </a:xfrm>
          <a:custGeom>
            <a:avLst/>
            <a:gdLst>
              <a:gd name="textAreaLeft" fmla="*/ 36000 w 1042920"/>
              <a:gd name="textAreaRight" fmla="*/ 1006920 w 1042920"/>
              <a:gd name="textAreaTop" fmla="*/ 36000 h 576000"/>
              <a:gd name="textAreaBottom" fmla="*/ 54000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749" y="1350"/>
                </a:lnTo>
                <a:lnTo>
                  <a:pt x="1350" y="135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749" y="20250"/>
                </a:lnTo>
                <a:lnTo>
                  <a:pt x="37749" y="135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49" y="2025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99" h="21600">
                <a:moveTo>
                  <a:pt x="12506" y="3756"/>
                </a:moveTo>
                <a:lnTo>
                  <a:pt x="26593" y="10800"/>
                </a:lnTo>
                <a:lnTo>
                  <a:pt x="12506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嬰齊賦《野有蔓草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《诗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郑风》有《野有蔓草》，首章云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野有蔓草，零露漙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（音抟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兮。有美一人，清扬婉兮。邂逅相遇，适我愿兮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婴齐断章所取之义，仅在诗之后两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61440" y="4437000"/>
            <a:ext cx="682560" cy="576360"/>
          </a:xfrm>
          <a:custGeom>
            <a:avLst/>
            <a:gdLst>
              <a:gd name="textAreaLeft" fmla="*/ 36000 w 682560"/>
              <a:gd name="textAreaRight" fmla="*/ 646560 w 68256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25578" h="21600">
                <a:moveTo>
                  <a:pt x="0" y="0"/>
                </a:moveTo>
                <a:lnTo>
                  <a:pt x="25578" y="0"/>
                </a:lnTo>
                <a:lnTo>
                  <a:pt x="25578" y="21600"/>
                </a:lnTo>
                <a:lnTo>
                  <a:pt x="0" y="21600"/>
                </a:lnTo>
                <a:close/>
              </a:path>
              <a:path fill="lightenLess" w="25578" h="21600">
                <a:moveTo>
                  <a:pt x="0" y="0"/>
                </a:moveTo>
                <a:lnTo>
                  <a:pt x="25578" y="0"/>
                </a:lnTo>
                <a:lnTo>
                  <a:pt x="24228" y="1350"/>
                </a:lnTo>
                <a:lnTo>
                  <a:pt x="1350" y="1350"/>
                </a:lnTo>
                <a:close/>
              </a:path>
              <a:path fill="darken" w="25578" h="21600">
                <a:moveTo>
                  <a:pt x="25578" y="0"/>
                </a:moveTo>
                <a:lnTo>
                  <a:pt x="25578" y="21600"/>
                </a:lnTo>
                <a:lnTo>
                  <a:pt x="24228" y="20250"/>
                </a:lnTo>
                <a:lnTo>
                  <a:pt x="24228" y="1350"/>
                </a:lnTo>
                <a:close/>
              </a:path>
              <a:path fill="darkenLess" w="25578" h="21600">
                <a:moveTo>
                  <a:pt x="2557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228" y="20250"/>
                </a:lnTo>
                <a:close/>
              </a:path>
              <a:path fill="lighten" w="2557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578" h="21600">
                <a:moveTo>
                  <a:pt x="5745" y="10800"/>
                </a:moveTo>
                <a:lnTo>
                  <a:pt x="19833" y="3756"/>
                </a:lnTo>
                <a:lnTo>
                  <a:pt x="19833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D29-CBAB-4DA2-9B08-A72D6BDD15CD}" type="slidenum">
              <a:t>19</a:t>
            </a:fld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  <a:ea typeface="隶书"/>
              </a:rPr>
              <a:t>一、</a:t>
            </a:r>
            <a:r>
              <a:rPr b="0" lang="zh-CN" sz="5400" spc="-1" strike="noStrike" u="sng">
                <a:solidFill>
                  <a:srgbClr val="ff9900"/>
                </a:solidFill>
                <a:uFillTx/>
                <a:latin typeface="Arial"/>
                <a:ea typeface="隶书"/>
              </a:rPr>
              <a:t>《诗经》的基本情况</a:t>
            </a:r>
            <a:br>
              <a:rPr sz="5400"/>
            </a:br>
            <a:r>
              <a:rPr b="1" lang="zh-CN" sz="5400" spc="-1" strike="noStrike">
                <a:solidFill>
                  <a:srgbClr val="000066"/>
                </a:solidFill>
                <a:latin typeface="Arial"/>
                <a:ea typeface="隶书"/>
              </a:rPr>
              <a:t>二、</a:t>
            </a:r>
            <a:r>
              <a:rPr b="0" lang="zh-CN" sz="5400" spc="-1" strike="noStrike" u="sng">
                <a:solidFill>
                  <a:srgbClr val="ff9900"/>
                </a:solidFill>
                <a:uFillTx/>
                <a:latin typeface="Arial"/>
                <a:ea typeface="隶书"/>
              </a:rPr>
              <a:t>《诗经》来源和结集</a:t>
            </a:r>
            <a:br>
              <a:rPr sz="5400"/>
            </a:br>
            <a:r>
              <a:rPr b="1" lang="zh-CN" sz="5400" spc="-1" strike="noStrike">
                <a:solidFill>
                  <a:srgbClr val="000066"/>
                </a:solidFill>
                <a:latin typeface="Arial"/>
                <a:ea typeface="隶书"/>
              </a:rPr>
              <a:t>三、</a:t>
            </a:r>
            <a:r>
              <a:rPr b="0" lang="zh-CN" sz="5400" spc="-1" strike="noStrike" u="sng">
                <a:solidFill>
                  <a:srgbClr val="ff9900"/>
                </a:solidFill>
                <a:uFillTx/>
                <a:latin typeface="Arial"/>
                <a:ea typeface="隶书"/>
              </a:rPr>
              <a:t>《诗经》与音乐的关系</a:t>
            </a:r>
            <a:br>
              <a:rPr sz="5400"/>
            </a:br>
            <a:r>
              <a:rPr b="1" lang="zh-CN" sz="5400" spc="-1" strike="noStrike">
                <a:solidFill>
                  <a:srgbClr val="000066"/>
                </a:solidFill>
                <a:latin typeface="Arial"/>
                <a:ea typeface="隶书"/>
              </a:rPr>
              <a:t>四、</a:t>
            </a:r>
            <a:r>
              <a:rPr b="0" lang="zh-CN" sz="5400" spc="-1" strike="noStrike" u="sng">
                <a:solidFill>
                  <a:srgbClr val="ff9900"/>
                </a:solidFill>
                <a:uFillTx/>
                <a:latin typeface="Arial"/>
                <a:ea typeface="隶书"/>
              </a:rPr>
              <a:t>《诗经》的分类</a:t>
            </a:r>
            <a:br>
              <a:rPr sz="5400"/>
            </a:br>
            <a:r>
              <a:rPr b="1" lang="zh-CN" sz="5400" spc="-1" strike="noStrike">
                <a:solidFill>
                  <a:srgbClr val="000066"/>
                </a:solidFill>
                <a:latin typeface="Arial"/>
                <a:ea typeface="隶书"/>
              </a:rPr>
              <a:t>五、</a:t>
            </a:r>
            <a:r>
              <a:rPr b="0" lang="zh-CN" sz="5400" spc="-1" strike="noStrike" u="sng">
                <a:solidFill>
                  <a:srgbClr val="ff9900"/>
                </a:solidFill>
                <a:uFillTx/>
                <a:latin typeface="Arial"/>
                <a:ea typeface="隶书"/>
              </a:rPr>
              <a:t>《诗经》的功用</a:t>
            </a:r>
            <a:br>
              <a:rPr sz="5400"/>
            </a:br>
            <a:r>
              <a:rPr b="1" lang="zh-CN" sz="5400" spc="-1" strike="noStrike">
                <a:solidFill>
                  <a:srgbClr val="000066"/>
                </a:solidFill>
                <a:latin typeface="Arial"/>
                <a:ea typeface="隶书"/>
              </a:rPr>
              <a:t>六、</a:t>
            </a:r>
            <a:r>
              <a:rPr b="0" lang="zh-CN" sz="5400" spc="-1" strike="noStrike" u="sng">
                <a:solidFill>
                  <a:srgbClr val="ff9900"/>
                </a:solidFill>
                <a:uFillTx/>
                <a:latin typeface="Arial"/>
                <a:ea typeface="隶书"/>
              </a:rPr>
              <a:t>《诗经》的流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子産賦鄭之《羔裘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《诗》有《羔裘》者三，郑、唐、檜各有之。郑之《羔裘》曰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羔裘如濡，洵直且侯。彼其之子，舍命不渝。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（一章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羔裘豹飾，孔武有力。彼其之子，邦之司直。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（二章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羔裘晏兮，三英粲兮。彼其之子，邦之彥兮！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（三章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子产之义概取各章后两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5013360"/>
            <a:ext cx="1042920" cy="576360"/>
          </a:xfrm>
          <a:custGeom>
            <a:avLst/>
            <a:gdLst>
              <a:gd name="textAreaLeft" fmla="*/ 36000 w 1042920"/>
              <a:gd name="textAreaRight" fmla="*/ 1006920 w 1042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724" y="1350"/>
                </a:lnTo>
                <a:lnTo>
                  <a:pt x="1350" y="135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724" y="20250"/>
                </a:lnTo>
                <a:lnTo>
                  <a:pt x="37724" y="135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24" y="2025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74" h="21600">
                <a:moveTo>
                  <a:pt x="12493" y="10800"/>
                </a:moveTo>
                <a:lnTo>
                  <a:pt x="26581" y="3756"/>
                </a:lnTo>
                <a:lnTo>
                  <a:pt x="26581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子大叔賦《褰裳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《诗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郑风》有《褰裳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子惠思我，褰裳涉溱。子不我思，豈無他人？狂童之狂也且！（一）子惠思我，褰裳涉洧。子不我思，豈無他士。狂童之狂也且！（二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子大叔之义，盖取各章前四句，言韩起思己，将有褰裳之志，否则，亦岂无他人可寄托哉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5589720"/>
            <a:ext cx="1042920" cy="576000"/>
          </a:xfrm>
          <a:custGeom>
            <a:avLst/>
            <a:gdLst>
              <a:gd name="textAreaLeft" fmla="*/ 36000 w 1042920"/>
              <a:gd name="textAreaRight" fmla="*/ 1006920 w 1042920"/>
              <a:gd name="textAreaTop" fmla="*/ 36000 h 576000"/>
              <a:gd name="textAreaBottom" fmla="*/ 54000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749" y="1350"/>
                </a:lnTo>
                <a:lnTo>
                  <a:pt x="1350" y="135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749" y="20250"/>
                </a:lnTo>
                <a:lnTo>
                  <a:pt x="37749" y="135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49" y="2025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99" h="21600">
                <a:moveTo>
                  <a:pt x="12506" y="10800"/>
                </a:moveTo>
                <a:lnTo>
                  <a:pt x="26593" y="3756"/>
                </a:lnTo>
                <a:lnTo>
                  <a:pt x="26593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子游賦《風雨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《诗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郑风》有《风雨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風雨凄凄，雞鳴喈喈。既見君子，云胡不夷？風雨瀟瀟，雞鳴膠膠。既見君子，云胡不瘳？風雨如晦，雞鳴不已。既見君子，云胡不喜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子游之义，盖取诗各章末二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7640" y="4581360"/>
            <a:ext cx="1043280" cy="576360"/>
          </a:xfrm>
          <a:custGeom>
            <a:avLst/>
            <a:gdLst>
              <a:gd name="textAreaLeft" fmla="*/ 36000 w 1043280"/>
              <a:gd name="textAreaRight" fmla="*/ 1007280 w 104328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39088" h="21600">
                <a:moveTo>
                  <a:pt x="0" y="0"/>
                </a:moveTo>
                <a:lnTo>
                  <a:pt x="39088" y="0"/>
                </a:lnTo>
                <a:lnTo>
                  <a:pt x="39088" y="21600"/>
                </a:lnTo>
                <a:lnTo>
                  <a:pt x="0" y="21600"/>
                </a:lnTo>
                <a:close/>
              </a:path>
              <a:path fill="lightenLess" w="39088" h="21600">
                <a:moveTo>
                  <a:pt x="0" y="0"/>
                </a:moveTo>
                <a:lnTo>
                  <a:pt x="39088" y="0"/>
                </a:lnTo>
                <a:lnTo>
                  <a:pt x="37738" y="1350"/>
                </a:lnTo>
                <a:lnTo>
                  <a:pt x="1350" y="1350"/>
                </a:lnTo>
                <a:close/>
              </a:path>
              <a:path fill="darken" w="39088" h="21600">
                <a:moveTo>
                  <a:pt x="39088" y="0"/>
                </a:moveTo>
                <a:lnTo>
                  <a:pt x="39088" y="21600"/>
                </a:lnTo>
                <a:lnTo>
                  <a:pt x="37738" y="20250"/>
                </a:lnTo>
                <a:lnTo>
                  <a:pt x="37738" y="1350"/>
                </a:lnTo>
                <a:close/>
              </a:path>
              <a:path fill="darkenLess" w="39088" h="21600">
                <a:moveTo>
                  <a:pt x="3908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38" y="20250"/>
                </a:lnTo>
                <a:close/>
              </a:path>
              <a:path fill="lighten" w="3908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88" h="21600">
                <a:moveTo>
                  <a:pt x="12500" y="10800"/>
                </a:moveTo>
                <a:lnTo>
                  <a:pt x="26588" y="3756"/>
                </a:lnTo>
                <a:lnTo>
                  <a:pt x="26588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子旗賦《有女同車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《诗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郑风》有《有女同车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女同車，顏如舜華。將翱將翔，佩玉瓊琚。彼美孟姜，洵美且都。有女同行，顏如舜英。將翱將翔，佩玉將將。彼美孟姜，德音不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子旗之义，盖取诗各章者末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4581360"/>
            <a:ext cx="1043280" cy="576360"/>
          </a:xfrm>
          <a:custGeom>
            <a:avLst/>
            <a:gdLst>
              <a:gd name="textAreaLeft" fmla="*/ 36000 w 1043280"/>
              <a:gd name="textAreaRight" fmla="*/ 1007280 w 104328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39088" h="21600">
                <a:moveTo>
                  <a:pt x="0" y="0"/>
                </a:moveTo>
                <a:lnTo>
                  <a:pt x="39088" y="0"/>
                </a:lnTo>
                <a:lnTo>
                  <a:pt x="39088" y="21600"/>
                </a:lnTo>
                <a:lnTo>
                  <a:pt x="0" y="21600"/>
                </a:lnTo>
                <a:close/>
              </a:path>
              <a:path fill="lightenLess" w="39088" h="21600">
                <a:moveTo>
                  <a:pt x="0" y="0"/>
                </a:moveTo>
                <a:lnTo>
                  <a:pt x="39088" y="0"/>
                </a:lnTo>
                <a:lnTo>
                  <a:pt x="37738" y="1350"/>
                </a:lnTo>
                <a:lnTo>
                  <a:pt x="1350" y="1350"/>
                </a:lnTo>
                <a:close/>
              </a:path>
              <a:path fill="darken" w="39088" h="21600">
                <a:moveTo>
                  <a:pt x="39088" y="0"/>
                </a:moveTo>
                <a:lnTo>
                  <a:pt x="39088" y="21600"/>
                </a:lnTo>
                <a:lnTo>
                  <a:pt x="37738" y="20250"/>
                </a:lnTo>
                <a:lnTo>
                  <a:pt x="37738" y="1350"/>
                </a:lnTo>
                <a:close/>
              </a:path>
              <a:path fill="darkenLess" w="39088" h="21600">
                <a:moveTo>
                  <a:pt x="3908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38" y="20250"/>
                </a:lnTo>
                <a:close/>
              </a:path>
              <a:path fill="lighten" w="3908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88" h="21600">
                <a:moveTo>
                  <a:pt x="12500" y="10800"/>
                </a:moveTo>
                <a:lnTo>
                  <a:pt x="26588" y="3756"/>
                </a:lnTo>
                <a:lnTo>
                  <a:pt x="26588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子柳賦《蘀兮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《诗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郑风》有《萚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（音托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兮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萚兮萚兮，風其吹女。叔兮伯兮，倡予和女。萚兮萚兮，風其漂女。叔兮伯兮，倡予要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子柳之义，盖取诗各章之末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4076640"/>
            <a:ext cx="1043280" cy="576360"/>
          </a:xfrm>
          <a:custGeom>
            <a:avLst/>
            <a:gdLst>
              <a:gd name="textAreaLeft" fmla="*/ 36000 w 1043280"/>
              <a:gd name="textAreaRight" fmla="*/ 1007280 w 104328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39088" h="21600">
                <a:moveTo>
                  <a:pt x="0" y="0"/>
                </a:moveTo>
                <a:lnTo>
                  <a:pt x="39088" y="0"/>
                </a:lnTo>
                <a:lnTo>
                  <a:pt x="39088" y="21600"/>
                </a:lnTo>
                <a:lnTo>
                  <a:pt x="0" y="21600"/>
                </a:lnTo>
                <a:close/>
              </a:path>
              <a:path fill="lightenLess" w="39088" h="21600">
                <a:moveTo>
                  <a:pt x="0" y="0"/>
                </a:moveTo>
                <a:lnTo>
                  <a:pt x="39088" y="0"/>
                </a:lnTo>
                <a:lnTo>
                  <a:pt x="37738" y="1350"/>
                </a:lnTo>
                <a:lnTo>
                  <a:pt x="1350" y="1350"/>
                </a:lnTo>
                <a:close/>
              </a:path>
              <a:path fill="darken" w="39088" h="21600">
                <a:moveTo>
                  <a:pt x="39088" y="0"/>
                </a:moveTo>
                <a:lnTo>
                  <a:pt x="39088" y="21600"/>
                </a:lnTo>
                <a:lnTo>
                  <a:pt x="37738" y="20250"/>
                </a:lnTo>
                <a:lnTo>
                  <a:pt x="37738" y="1350"/>
                </a:lnTo>
                <a:close/>
              </a:path>
              <a:path fill="darkenLess" w="39088" h="21600">
                <a:moveTo>
                  <a:pt x="3908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38" y="20250"/>
                </a:lnTo>
                <a:close/>
              </a:path>
              <a:path fill="lighten" w="3908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88" h="21600">
                <a:moveTo>
                  <a:pt x="12500" y="10800"/>
                </a:moveTo>
                <a:lnTo>
                  <a:pt x="26588" y="3756"/>
                </a:lnTo>
                <a:lnTo>
                  <a:pt x="26588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宣子賦《我將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《周颂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清廟之什》有《我將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我將我享，維羊維牛，維天其右之。儀式刑文王之典，日靖四方。伊嘏文王，既右饗之。我其夙夜，畏天之威，于時保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韩宣子之义，盖取诗中“日靖四方”、“我其夙夜，畏天之威”及“于时保之”各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4581360"/>
            <a:ext cx="1042920" cy="576360"/>
          </a:xfrm>
          <a:custGeom>
            <a:avLst/>
            <a:gdLst>
              <a:gd name="textAreaLeft" fmla="*/ 36000 w 1042920"/>
              <a:gd name="textAreaRight" fmla="*/ 1006920 w 1042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724" y="1350"/>
                </a:lnTo>
                <a:lnTo>
                  <a:pt x="1350" y="135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724" y="20250"/>
                </a:lnTo>
                <a:lnTo>
                  <a:pt x="37724" y="135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24" y="2025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74" h="21600">
                <a:moveTo>
                  <a:pt x="12493" y="10800"/>
                </a:moveTo>
                <a:lnTo>
                  <a:pt x="26581" y="3756"/>
                </a:lnTo>
                <a:lnTo>
                  <a:pt x="26581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Arial"/>
                <a:ea typeface="隶书"/>
              </a:rPr>
              <a:t>“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不学诗，无以言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《左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襄十六年》：晋侯与诸侯宴于温，使诸大夫舞，曰：“歌诗必类。”齐高厚之诗不类。荀偃怒，且曰：“诸侯有异志矣。”使诸大夫盟高厚，高厚逃归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《左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襄二十七年》：齐庆封来聘，其车美。孟孙谓叔孙曰：“庆季之车，不亦美乎？”叔孙曰：“豹闻之：‘服美不称，必以恶终。’美车何为？”叔孙与庆封食，不敬；为赋</a:t>
            </a:r>
            <a:r>
              <a:rPr b="0" lang="zh-CN" sz="3200" spc="-1" strike="noStrike" u="sng">
                <a:solidFill>
                  <a:srgbClr val="ff9900"/>
                </a:solidFill>
                <a:uFillTx/>
                <a:latin typeface="Arial"/>
              </a:rPr>
              <a:t>《相鼠》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，亦不知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叔孙为庆封赋《相鼠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《诗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鄘风》有《相鼠》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相鼠有皮，人而無儀。人而無儀，不死何爲？相鼠有齒，人而無止。人而無止，不死何俟？相鼠有體，人而無禮。人而無禮，胡不遄死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72360" y="4581360"/>
            <a:ext cx="755640" cy="576360"/>
          </a:xfrm>
          <a:custGeom>
            <a:avLst/>
            <a:gdLst>
              <a:gd name="textAreaLeft" fmla="*/ 36000 w 755640"/>
              <a:gd name="textAreaRight" fmla="*/ 719640 w 75564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28315" h="21600">
                <a:moveTo>
                  <a:pt x="0" y="0"/>
                </a:moveTo>
                <a:lnTo>
                  <a:pt x="28315" y="0"/>
                </a:lnTo>
                <a:lnTo>
                  <a:pt x="28315" y="21600"/>
                </a:lnTo>
                <a:lnTo>
                  <a:pt x="0" y="21600"/>
                </a:lnTo>
                <a:close/>
              </a:path>
              <a:path fill="lightenLess" w="28315" h="21600">
                <a:moveTo>
                  <a:pt x="0" y="0"/>
                </a:moveTo>
                <a:lnTo>
                  <a:pt x="28315" y="0"/>
                </a:lnTo>
                <a:lnTo>
                  <a:pt x="26965" y="1350"/>
                </a:lnTo>
                <a:lnTo>
                  <a:pt x="1350" y="1350"/>
                </a:lnTo>
                <a:close/>
              </a:path>
              <a:path fill="darken" w="28315" h="21600">
                <a:moveTo>
                  <a:pt x="28315" y="0"/>
                </a:moveTo>
                <a:lnTo>
                  <a:pt x="28315" y="21600"/>
                </a:lnTo>
                <a:lnTo>
                  <a:pt x="26965" y="20250"/>
                </a:lnTo>
                <a:lnTo>
                  <a:pt x="26965" y="1350"/>
                </a:lnTo>
                <a:close/>
              </a:path>
              <a:path fill="darkenLess" w="28315" h="21600">
                <a:moveTo>
                  <a:pt x="283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965" y="20250"/>
                </a:lnTo>
                <a:close/>
              </a:path>
              <a:path fill="lighten" w="283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315" h="21600">
                <a:moveTo>
                  <a:pt x="7114" y="10800"/>
                </a:moveTo>
                <a:lnTo>
                  <a:pt x="21201" y="3756"/>
                </a:lnTo>
                <a:lnTo>
                  <a:pt x="21201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《诗经》的流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自春秋以来，战乱频仍，作为乐章的《诗经》颇为淆乱。孔子周游列国后，回到了鲁国，开始他的著述工作，同时也整理过《诗经》的乐章，使“雅、颂各得其所”。他还利用诗来教育门弟子，并且强调诗的实际用途，这对《诗经》的保存和流传是有作用的。正因为孔子与《诗经》有这样密切的关系，汉代人才把他附会成为《诗经》的最后删订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齐鲁韩毛四家《诗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汉初传授《诗经》学的共有四家，亦即四个学派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齐之辕固生，鲁之申培，燕之韩婴，赵之毛亨、毛苌，简称齐诗、鲁诗、韩诗、毛诗（前二者取国名，后二者取姓氏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齐、鲁、韩三家属今文经学，是官方承认的学派；毛诗属古文经学，是民间学派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东汉以后，毛诗日渐兴盛，并为官方所承认；前三家则逐渐衰落，到南宋，就完全失传了。今天我们看到的《诗经》，就是毛诗一派的传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中国最早的诗歌总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诗经》收集了从西周初年（公元前</a:t>
            </a:r>
            <a:r>
              <a:rPr b="1" lang="en-US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</a:t>
            </a:r>
            <a:r>
              <a:rPr b="1" lang="zh-CN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世纪）到春秋中叶</a:t>
            </a:r>
            <a:r>
              <a:rPr b="1" lang="en-US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公元前</a:t>
            </a:r>
            <a:r>
              <a:rPr b="1" lang="en-US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世纪</a:t>
            </a:r>
            <a:r>
              <a:rPr b="1" lang="en-US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r>
              <a:rPr b="1" lang="zh-CN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约</a:t>
            </a:r>
            <a:r>
              <a:rPr b="1" lang="en-US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0</a:t>
            </a:r>
            <a:r>
              <a:rPr b="1" lang="zh-CN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年间的诗歌</a:t>
            </a:r>
            <a:r>
              <a:rPr b="1" lang="en-US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5</a:t>
            </a:r>
            <a:r>
              <a:rPr b="1" lang="zh-CN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篇。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诗经》在先秦称为《诗》，或举其整数称“诗三百”。到汉代，《诗》被朝廷正式奉为经典之一，才出现《诗经》的名称，并沿用至今。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12000" y="5084640"/>
            <a:ext cx="1042920" cy="576360"/>
          </a:xfrm>
          <a:custGeom>
            <a:avLst/>
            <a:gdLst>
              <a:gd name="textAreaLeft" fmla="*/ 36000 w 1042920"/>
              <a:gd name="textAreaRight" fmla="*/ 1006920 w 1042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724" y="1350"/>
                </a:lnTo>
                <a:lnTo>
                  <a:pt x="1350" y="135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724" y="20250"/>
                </a:lnTo>
                <a:lnTo>
                  <a:pt x="37724" y="135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24" y="2025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74" h="21600">
                <a:moveTo>
                  <a:pt x="12493" y="10800"/>
                </a:moveTo>
                <a:lnTo>
                  <a:pt x="26581" y="3756"/>
                </a:lnTo>
                <a:lnTo>
                  <a:pt x="26581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《诗经》的形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诗经》最后编定成书，大约在公元前６世纪。产生的地域，约相当于今陕西、山西、河南、河北、山东及湖北北部一带。作者包括了从贵族到平民的社会各个阶层人士，绝大部分已不可考。时代如此之长，地域如此之广，作者如此复杂，显然是经过有目的的搜集整理才成书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《诗经》的来源与结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9900"/>
                </a:solidFill>
                <a:uFillTx/>
                <a:latin typeface="Arial"/>
                <a:ea typeface="楷体_GB2312"/>
              </a:rPr>
              <a:t>“采诗说”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9900"/>
                </a:solidFill>
                <a:uFillTx/>
                <a:latin typeface="Arial"/>
                <a:ea typeface="楷体_GB2312"/>
              </a:rPr>
              <a:t>“献诗说”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9900"/>
                </a:solidFill>
                <a:uFillTx/>
                <a:latin typeface="Arial"/>
                <a:ea typeface="楷体_GB2312"/>
              </a:rPr>
              <a:t>“删诗说”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0" y="4941720"/>
            <a:ext cx="1042920" cy="576360"/>
          </a:xfrm>
          <a:custGeom>
            <a:avLst/>
            <a:gdLst>
              <a:gd name="textAreaLeft" fmla="*/ 36000 w 1042920"/>
              <a:gd name="textAreaRight" fmla="*/ 1006920 w 1042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724" y="1350"/>
                </a:lnTo>
                <a:lnTo>
                  <a:pt x="1350" y="135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724" y="20250"/>
                </a:lnTo>
                <a:lnTo>
                  <a:pt x="37724" y="135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24" y="2025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74" h="21600">
                <a:moveTo>
                  <a:pt x="12493" y="3756"/>
                </a:moveTo>
                <a:lnTo>
                  <a:pt x="26581" y="10800"/>
                </a:lnTo>
                <a:lnTo>
                  <a:pt x="12493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采诗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班固说：“孟春之月，群居者将散，行人振木铎徇于路以采诗，献之太师，比其音律，以闻于天子。”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《汉书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食货志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何休说：“男年六十、女年五十无子者，官衣食之，使之民间求诗。乡移于邑，邑移于国，国以闻于天子。”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《春秋公羊传》宣公十五年《解诂》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《诗经》韵部系统和用韵规律基本上是一致的，形式基本上是整齐的四言诗；而它包括的地域又很广，在古代交通不便、语言互异的情况下，不经过有意识、有目的的采集和整理，像《诗经》这样体系完整、内容丰富的诗歌总集的出现恐怕是不可能的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《诗经》这部书，我们认为当是周王朝经过诸侯各国的协助，进行采集，然后命乐师整理、编纂而成的。但这只是“国风”和“小雅”的部分诗歌如此，如《国语》所谓“瞽献曲”之类。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5734080"/>
            <a:ext cx="1042920" cy="47628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47279" h="21600">
                <a:moveTo>
                  <a:pt x="0" y="0"/>
                </a:moveTo>
                <a:lnTo>
                  <a:pt x="47279" y="0"/>
                </a:lnTo>
                <a:lnTo>
                  <a:pt x="47279" y="21600"/>
                </a:lnTo>
                <a:lnTo>
                  <a:pt x="0" y="21600"/>
                </a:lnTo>
                <a:close/>
              </a:path>
              <a:path fill="lightenLess" w="47279" h="21600">
                <a:moveTo>
                  <a:pt x="0" y="0"/>
                </a:moveTo>
                <a:lnTo>
                  <a:pt x="47279" y="0"/>
                </a:lnTo>
                <a:lnTo>
                  <a:pt x="45929" y="1350"/>
                </a:lnTo>
                <a:lnTo>
                  <a:pt x="1350" y="1350"/>
                </a:lnTo>
                <a:close/>
              </a:path>
              <a:path fill="darken" w="47279" h="21600">
                <a:moveTo>
                  <a:pt x="47279" y="0"/>
                </a:moveTo>
                <a:lnTo>
                  <a:pt x="47279" y="21600"/>
                </a:lnTo>
                <a:lnTo>
                  <a:pt x="45929" y="20250"/>
                </a:lnTo>
                <a:lnTo>
                  <a:pt x="45929" y="1350"/>
                </a:lnTo>
                <a:close/>
              </a:path>
              <a:path fill="darkenLess" w="47279" h="21600">
                <a:moveTo>
                  <a:pt x="4727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5929" y="20250"/>
                </a:lnTo>
                <a:close/>
              </a:path>
              <a:path fill="lighten" w="4727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7279" h="21600">
                <a:moveTo>
                  <a:pt x="16596" y="10800"/>
                </a:moveTo>
                <a:lnTo>
                  <a:pt x="30683" y="3756"/>
                </a:lnTo>
                <a:lnTo>
                  <a:pt x="30683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献诗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至于雅诗和颂诗的大部分，可能是公卿列士所献的诗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《国语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周语》：“天子听政，使公卿至于列士献诗，瞽献曲，……师箴，瞍赋，矇诵。”襄公十四年《左传》师旷语略同。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统治阶级采集诗歌的目的，除用以教育自己的子弟和娱乐外，主要是为了了解人民的反映，考察其政治的效果，以便进一步巩固自己的统治，所谓“王者所以观风俗，知得失，自考正也”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《汉书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艺文志》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5445000"/>
            <a:ext cx="1042920" cy="47628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47279" h="21600">
                <a:moveTo>
                  <a:pt x="0" y="0"/>
                </a:moveTo>
                <a:lnTo>
                  <a:pt x="47279" y="0"/>
                </a:lnTo>
                <a:lnTo>
                  <a:pt x="47279" y="21600"/>
                </a:lnTo>
                <a:lnTo>
                  <a:pt x="0" y="21600"/>
                </a:lnTo>
                <a:close/>
              </a:path>
              <a:path fill="lightenLess" w="47279" h="21600">
                <a:moveTo>
                  <a:pt x="0" y="0"/>
                </a:moveTo>
                <a:lnTo>
                  <a:pt x="47279" y="0"/>
                </a:lnTo>
                <a:lnTo>
                  <a:pt x="45929" y="1350"/>
                </a:lnTo>
                <a:lnTo>
                  <a:pt x="1350" y="1350"/>
                </a:lnTo>
                <a:close/>
              </a:path>
              <a:path fill="darken" w="47279" h="21600">
                <a:moveTo>
                  <a:pt x="47279" y="0"/>
                </a:moveTo>
                <a:lnTo>
                  <a:pt x="47279" y="21600"/>
                </a:lnTo>
                <a:lnTo>
                  <a:pt x="45929" y="20250"/>
                </a:lnTo>
                <a:lnTo>
                  <a:pt x="45929" y="1350"/>
                </a:lnTo>
                <a:close/>
              </a:path>
              <a:path fill="darkenLess" w="47279" h="21600">
                <a:moveTo>
                  <a:pt x="4727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5929" y="20250"/>
                </a:lnTo>
                <a:close/>
              </a:path>
              <a:path fill="lighten" w="4727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7279" h="21600">
                <a:moveTo>
                  <a:pt x="16596" y="10800"/>
                </a:moveTo>
                <a:lnTo>
                  <a:pt x="30683" y="3756"/>
                </a:lnTo>
                <a:lnTo>
                  <a:pt x="30683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删诗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413000"/>
            <a:ext cx="8540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汉代学者认为《诗经》三百篇是经过孔子删订而成的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司马迁说：“古者诗三千馀篇，及至孔子去其重，取可施于礼义者。”</a:t>
            </a:r>
            <a:r>
              <a:rPr b="1" lang="en-US" sz="2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2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史记</a:t>
            </a:r>
            <a:r>
              <a:rPr b="1" lang="en-US" sz="2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·</a:t>
            </a:r>
            <a:r>
              <a:rPr b="1" lang="zh-CN" sz="2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孔子世家》</a:t>
            </a:r>
            <a:r>
              <a:rPr b="1" lang="en-US" sz="2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弦歌诗章可能是事实，删诗的话是不可信的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诗经》最后编定成书，大约在公元前六世纪中叶，不会在孔子出生以后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孔子不止一次说过“诗三百”的话，可见他看到的是和现存《诗经》篇目大体相同的本子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更重要的反证是公元前五四四年，吴公子季札在鲁国观乐，鲁国乐工为他所奏的各国风诗的次序与今本《诗经》基本相同。其时孔子刚刚八岁，显然是不可能删订《诗经》的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01080" y="5589720"/>
            <a:ext cx="1042920" cy="47628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47279" h="21600">
                <a:moveTo>
                  <a:pt x="0" y="0"/>
                </a:moveTo>
                <a:lnTo>
                  <a:pt x="47279" y="0"/>
                </a:lnTo>
                <a:lnTo>
                  <a:pt x="47279" y="21600"/>
                </a:lnTo>
                <a:lnTo>
                  <a:pt x="0" y="21600"/>
                </a:lnTo>
                <a:close/>
              </a:path>
              <a:path fill="lightenLess" w="47279" h="21600">
                <a:moveTo>
                  <a:pt x="0" y="0"/>
                </a:moveTo>
                <a:lnTo>
                  <a:pt x="47279" y="0"/>
                </a:lnTo>
                <a:lnTo>
                  <a:pt x="45929" y="1350"/>
                </a:lnTo>
                <a:lnTo>
                  <a:pt x="1350" y="1350"/>
                </a:lnTo>
                <a:close/>
              </a:path>
              <a:path fill="darken" w="47279" h="21600">
                <a:moveTo>
                  <a:pt x="47279" y="0"/>
                </a:moveTo>
                <a:lnTo>
                  <a:pt x="47279" y="21600"/>
                </a:lnTo>
                <a:lnTo>
                  <a:pt x="45929" y="20250"/>
                </a:lnTo>
                <a:lnTo>
                  <a:pt x="45929" y="1350"/>
                </a:lnTo>
                <a:close/>
              </a:path>
              <a:path fill="darkenLess" w="47279" h="21600">
                <a:moveTo>
                  <a:pt x="4727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5929" y="20250"/>
                </a:lnTo>
                <a:close/>
              </a:path>
              <a:path fill="lighten" w="4727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7279" h="21600">
                <a:moveTo>
                  <a:pt x="16596" y="10800"/>
                </a:moveTo>
                <a:lnTo>
                  <a:pt x="30683" y="3756"/>
                </a:lnTo>
                <a:lnTo>
                  <a:pt x="30683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《诗经》的结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整理编定《诗经》的人和具体情形，我们今天已无从得知。可能周王朝的乐官在《诗经》的编集和成书过程中，起了相当重要的作用。大约公卿列士所献之诗，以及采集来的民间之诗，最后都集中到王朝乐官手中，乐官掌管的诗一定很多，整理编选其中的一部分为演唱和教诗的底本，是完全可能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67640" y="5373720"/>
            <a:ext cx="1042920" cy="576360"/>
          </a:xfrm>
          <a:custGeom>
            <a:avLst/>
            <a:gdLst>
              <a:gd name="textAreaLeft" fmla="*/ 36000 w 1042920"/>
              <a:gd name="textAreaRight" fmla="*/ 1006920 w 1042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724" y="1350"/>
                </a:lnTo>
                <a:lnTo>
                  <a:pt x="1350" y="135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724" y="20250"/>
                </a:lnTo>
                <a:lnTo>
                  <a:pt x="37724" y="135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24" y="2025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74" h="21600">
                <a:moveTo>
                  <a:pt x="12493" y="10800"/>
                </a:moveTo>
                <a:lnTo>
                  <a:pt x="26581" y="3756"/>
                </a:lnTo>
                <a:lnTo>
                  <a:pt x="26581" y="17844"/>
                </a:lnTo>
                <a:close/>
              </a:path>
            </a:pathLst>
          </a:custGeom>
          <a:solidFill>
            <a:srgbClr val="d5e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8:00Z</dcterms:created>
  <dc:creator/>
  <dc:description/>
  <cp:keywords>幻灯片之家 http:/www.eeppt.com</cp:keywords>
  <dc:language>en-US</dc:language>
  <cp:lastModifiedBy/>
  <dcterms:modified xsi:type="dcterms:W3CDTF">2015-07-13T09:21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