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13.gif" ContentType="image/gif"/>
  <Override PartName="/ppt/media/image8.gif" ContentType="image/gif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gif" ContentType="image/gif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B85-EF8B-4A18-A543-A8D0ACAD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F49-056F-4670-8BE5-4793DF86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AD3-703D-4446-9294-FE2CDE0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FF2-A184-4FA1-BF85-0A42784C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00B-9048-446E-BFFD-E6F6754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1CD-4728-4EB0-B365-D9E069A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2F7-988D-4255-AAA3-662DBD2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6DF-76FC-434C-91DB-E38677E4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A58-2134-42FC-9330-55E164FE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D25-0025-440A-B94A-F830D76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780-34CC-4AAC-B710-96CD48C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725-F5E4-45B4-BCA5-1647584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D56D-4AE5-4F59-8158-7CF9852B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283,24,&#24187;&#28783;&#29255; 2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299,11,&#24187;&#28783;&#29255; 11" TargetMode="External"/><Relationship Id="rId4" Type="http://schemas.openxmlformats.org/officeDocument/2006/relationships/hyperlink" Target="271,11,&#24187;&#28783;&#29255; 11" TargetMode="External"/><Relationship Id="rId5" Type="http://schemas.openxmlformats.org/officeDocument/2006/relationships/hyperlink" Target="269,9,&#24187;&#28783;&#29255; 9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72,16,&#24187;&#28783;&#29255; 16" TargetMode="External"/><Relationship Id="rId3" Type="http://schemas.openxmlformats.org/officeDocument/2006/relationships/hyperlink" Target="268,10,&#24187;&#28783;&#29255; 10" TargetMode="External"/><Relationship Id="rId4" Type="http://schemas.openxmlformats.org/officeDocument/2006/relationships/hyperlink" Target="272,16,&#24187;&#28783;&#29255; 16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2670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Arial"/>
                <a:ea typeface="华文行楷"/>
              </a:rPr>
              <a:t>苏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2840" y="1219320"/>
            <a:ext cx="3280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水龙吟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2005523144452451091"/>
          <p:cNvPicPr/>
          <p:nvPr/>
        </p:nvPicPr>
        <p:blipFill>
          <a:blip r:embed="rId2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dfc7433bffedfdc961b2bb1a68e0e36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８９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95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u=1087982248,273172192&amp;gp=1[1]"/>
          <p:cNvPicPr/>
          <p:nvPr/>
        </p:nvPicPr>
        <p:blipFill>
          <a:blip r:embed="rId2"/>
          <a:stretch/>
        </p:blipFill>
        <p:spPr>
          <a:xfrm>
            <a:off x="0" y="0"/>
            <a:ext cx="4613400" cy="571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8957007fc7d45adb78e61d25bc194977_m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20060726130634783"/>
          <p:cNvPicPr/>
          <p:nvPr/>
        </p:nvPicPr>
        <p:blipFill>
          <a:blip r:embed="rId4"/>
          <a:stretch/>
        </p:blipFill>
        <p:spPr>
          <a:xfrm>
            <a:off x="7010280" y="4965840"/>
            <a:ext cx="2133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1447920" y="3049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韵承接上一韵中的“坠”字 展开，赋予柳絮以人的性情。“抛家傍路”说杨花的飘忽无着，仔细思量，那柳絮坠离枝头，“抛家”  而去，不是很无情吗？可是柳絮“傍路”飘零，却又依依难舍，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恋“家”之情跃然纸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真是“道是无情却有情”！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“有思”言其不忍离别的愁思和痛苦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实，这是诗人 的想象，“思量”是“惜”的进一步  的深入，使杨花飘忽不定的形态 具有 了人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27480" y="152280"/>
            <a:ext cx="6678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隶书"/>
              </a:rPr>
              <a:t>抛家傍路，思量却是，无情有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438280" y="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韵承接上一韵的“有思”，采用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拟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手法，以极其细腻独到的笔致，尽写柳絮飘忽迷离的神态，让人柔肠百转，思绪万千，叹为观止。从上阕“无情有思”开始，诗人便展开想象的羽翼，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把杨花比喻为一个思亲少妇，将“有思”具体化、形象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活脱脱地展示出她的完整形象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24200" y="0"/>
            <a:ext cx="12776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萦损柔肠，困酣娇眼，欲开还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70040" y="16765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，“有思”成为思亲少妇的“愁思”。因“愁思”而“萦损柔肠”，因“愁”而“柔”，因“柔”而“损”；“愁思”煎熬则“困”，“困”则“娇眼”“欲开还闭”。思亲少妇的情态被诗人描写、刻画地极其细腻，从而把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柳絮随风而坠、时起时落、飘忽迷离、勾魂摄魄的形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生动地呈现在我们面前，真乃神来之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48040" y="609480"/>
            <a:ext cx="1155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隶书"/>
              </a:rPr>
              <a:t>萦损柔肠，困酣娇眼，欲开还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3657600" y="21337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63520" y="1066680"/>
            <a:ext cx="103356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隶书"/>
              </a:rPr>
              <a:t>梦随风万里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隶书"/>
              </a:rPr>
              <a:t>寻郎去处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隶书"/>
              </a:rPr>
              <a:t>又还被莺呼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828800" y="1219320"/>
            <a:ext cx="670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妇“有思”，“有思”的情态也描摹出来。那么少妇为何而思？上阕的最后一韵作了回答：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她在思念远方的夫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一韵化用了“打起黄莺儿，莫叫枝上啼。啼时惊妾梦，不得过辽西”的诗意。“梦随风万里”既写少妇之梦，又关合柳絮飘忽迷离，轻盈若梦。愁中入梦，梦里与远在万里的君郎相逢，却被莺儿的啼声惊醒，怎不让人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愁更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简直让人恼恨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1447920" y="155520"/>
            <a:ext cx="6553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纵观上阕是以人状物，虽然是在咏柳絮，却叫人难分诗人是在写柳絮还是写思妇。柳絮与思妇达到了“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你中有我，我中有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水乳交融，貌似神合的境界，不禁想起了庄子做过的一个梦：“昔者庄周梦为蝴蝶，栩栩然蝴蝶也。不知周之梦为蝴蝶，蝴蝶之梦为周与？周与蝴蝶，则必有分矣。此之谓‘物化’。词的下阕与上阕相呼应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主要是写柳絮的归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感情色彩更加浓厚。</a:t>
            </a:r>
            <a:br>
              <a:rPr sz="3200"/>
            </a:b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FR2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71600" y="1143000"/>
            <a:ext cx="693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上阕“惜”和“愁”的情绪基础上，诗人下阙的头一韵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直抒胸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“愁”化作“恨”，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倾注惜春之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也是在更深的层次上写柳絮“也无人教坠”的际遇。这一韵应和上阕首韵“似花还似非花，也无人惜从教坠”。表面上看，因为柳絮像花又毕竟不是花，所以不必去“恨”，应该“恨”的是西园遍地落英，“零落成泥碾作尘”，春去无奈，最可怜惜。然而，细细斟酌，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落红难缀”更反衬出柳絮的“无人惜”的遭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诗人用这种手法进一步写出了对柳絮独“惜”的情愫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95280" y="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隶书"/>
              </a:rPr>
              <a:t>不恨此花飞尽，恨西园落红难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228600" y="1066680"/>
            <a:ext cx="868680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拂晓的一场春雨过后，那随风飘舞、         “抛家傍路”却“无人惜”的柳絮上哪儿去了呢，为何无踪无影，荡然无存了？“一池萍碎”即是回答。看到满池细碎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浮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诗人蓦然清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来那沸沸扬扬，满天的飞絮都化作了水上的浮萍。这里，“遗踪何在”是问题，“一池萍碎”是结果，而“ 晓来               雨过”是柳絮化为浮萍的客观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28600" y="233280"/>
            <a:ext cx="842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隶书"/>
              </a:rPr>
              <a:t>晓来雨过，遗踪何在？一池萍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8"/>
          <p:cNvSpPr/>
          <p:nvPr/>
        </p:nvSpPr>
        <p:spPr>
          <a:xfrm>
            <a:off x="304920" y="6094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东坡贬谪黄州时，其好友章质夫曾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龙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首，内容是咏杨花的。因为该词写的形神兼备、笔触细腻、轻灵生动，达到了相当高的艺术水平，因而受到当时文人的推崇赞誉，盛传一时。苏东坡也很喜欢章质夫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龙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和了这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龙吟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韵章质夫杨花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寄给章质夫，还特意告诉他不要给别人看。章质夫慧眼识珠，赞赏不已，也顾不得苏东坡的特意相告，赶快送给他人欣赏，才使得这首千古绝唱得以传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絮化为了浮萍，用现在的科学观点来看，是不可能的。但诗人“惜”柳絮又不忍看到它凭空消逝的伤感却得到慰藉。何况柳絮坠落，化为浮萍也是当时的“公认”。“遗踪何在”一句写得极好，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把诗人对春雨过后，柳絮消失后的心理情态尽写出来，又起到了“承上启下”的作用，实属难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304920" y="1066680"/>
            <a:ext cx="8381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一韵从柳絮的“遗踪”荡然无存生发，以简洁洗练的句子写出了春光易逝的伤感。虽然花落无情，好景不长，然而春去有“归”：一部分归为尘土，一部分归为流水。即使如此，也是“无可奈何花落去”，         柳絮不复存在，大好的春光也随着柳               絮的消失一去不复返了。“惜”柳絮，         进而“惜”              春光，诗人的情                                            感袒露无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944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春色三分”一句很是别出心裁。把光景分为若干份并不是苏东坡的创造。诗人写这首词之前，许多骚人墨客写下了不少类似的句子，如“天下三分明夜月，二分无赖是扬州。”、“三分春色两分愁，更一分风雨。”等都是经典名句。但是我们仔细玩味，推敲比较，却不难看出，上述名句都不如苏东坡的语意蕴藉、含蓄、巧妙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0"/>
            <a:ext cx="1036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隶书"/>
              </a:rPr>
              <a:t>细看来，不是杨花，点点是离人泪。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762120"/>
            <a:ext cx="8839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这最后一韵，是具有归结性的震撼全篇的点睛之笔。那沸沸扬扬，飘忽迷离的柳絮在诗人的眼里竟然“点点是离人泪”！这一韵照应了上阕“思妇”“愁思”的描写，比喻新奇脱俗，想象大胆夸张，感情深挚饱满，笔墨酣畅淋漓，蕴意回味无穷，真是妙笔神功！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20060726125957515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作者介绍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　　章楶（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1027-1102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楶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jie2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）字质夫，建州浦城（今属福建）人。治平二年（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1065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）进士，知陈留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历任提点湖北刑狱、成都路转运使。元祐初，以直龙图阁知庆州。哲宗时改知渭州，有边功。建中靖国元年（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1102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），除同知枢密院事。崇宁元年卒，年七十六，谥庄简，改谥庄敏。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宋史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有传。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全宋词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录其词二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533520" y="60948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燕忙莺懒芳残，正堤上杨花飘坠。轻飞乱舞，点画青林，全无才思。闲趁游丝，静临深院，日长门闭。傍珠帘散漫，垂垂欲下，依前被风扶起。          兰帐玉人睡觉，怪青衣，雪沾琼缀。绣床渐满，香球无数，才圆却碎。时见蜂儿，仰黏轻粉，鱼吞池水。望章台路杳，金鞍游荡，有盈盈泪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09480" y="685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这首词咏杨花，以形写神，风姿秀逸。上阕写杨花飘坠轻飞，极富动态神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09480" y="1828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特别是歇拍“傍珠帘散漫，垂垂欲下，依前被、风扶起”几句，将杨花在“静临深院，日长门闭”后的轻飞之态，写得至为灵动“可谓曲尽杨花妙处”，并直言“东坡所和虽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恐未能及”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魏庆之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诗人 玉 屑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卷二十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下阕仍以摹写杨花物态为主，不惟拟人，且略微渗入人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447920" y="0"/>
            <a:ext cx="83055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评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王国维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人间词话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坡杨花词，            和韵而似原唱；章质夫词原唱而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朱弁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曲洧旧闻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章质夫杨花词，            命意用事，潇洒可喜。东坡和之，若            豪放不入律吕。徐而视之，声韵谐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反觉章词有织绣工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魏庆之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诗人玉屑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章质夫咏杨花           词，东坡和之，晁叔用以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坡如王嫱、西施，净洗脚面，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下妇人斗好，质夫岂可比哉！”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则然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3E6-E26E-4A62-A75B-49EE52497D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533520" y="68580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次韵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又称步韵，和韵的一种。即和他人诗词，用原作的韵和韵脚，且韵脚字的先后次序相同。始于唐代元稹与白居易的互相唱和。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旧唐书。元稹传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自叙：“白居易雅能诗，就中爱驱驾文字，穷极声韵或为千言，或五百言律诗，以相投寄，小生自审不能过之，往往细排旧韵，别创新辞，名为次韵相酬，盖欲以难相挑。”至宋以后，尤为盛行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143000" y="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余以为质夫词中所谓“傍珠帘散漫，垂垂欲下，   依前被风扶起”，亦可谓曲尽杨花妙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坡         所和虽高，恐未能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诗人议论不公如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唐圭璋等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唐宋词选注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本词是和作。           咏物拟人，缠绵多态。词中刻画了一个                思妇的形象。萦损柔肠，困酣娇眼，随               风万里，寻郎去处，是写杨花，亦是写               思妇，可说是遗貌而得其神。而杨花飞               尽化作“离人泪”，更生动地写出她候人               不归所产生的幽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能以杨花喻人，在对杨花的描写过程中，           完成对人物形象的塑造。这比章质夫的               闺怨词要高一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出师一表真名世，千载谁堪伯仲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不知细叶谁裁出，二月春风似剪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三顾频烦天下计，两朝开济老臣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谁言寸草心，报得三春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人间四月芳菲尽，山寺桃花始盛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五岭逶迤腾细浪，乌蒙磅礴走泥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毕竟西湖六月中，风光不与四时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七八个星天外，两三点雨山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北风卷地白草折，胡天八月即飞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二十四桥仍在，波心荡，冷月无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飞流直下三千尺，疑是银河落九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锦瑟无端五十弦，一弦一柱思华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万里悲秋常作客，百年多病独登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南朝四百八十寺，多少楼台烟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5800" y="30492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人们说她是花，她终究不是花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也没有人怜惜，任随她飘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她依傍着道路，抛别了故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人们说她无情，细细思量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情思绵长的不正是她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那轻盈的身姿回旋转侧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宛如美人愁断的寸寸柔肠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又如困倦的娇眼欲开还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她的梦魂，随风万里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苦苦寻觅梦中的情郎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却无端又被，莺啼惊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66680" y="457200"/>
            <a:ext cx="525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我原本不恨杨花飞尽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只恨西园落红满地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愁苦花事就此消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清晨，宿雨初停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只见满池细碎的浮萍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哪里还有杨花的踪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我不禁暗暗疑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哎！春色原只剩三分了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二分昨夜已零落尘土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一分如今又跟随流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新魏"/>
              </a:rPr>
              <a:t>怎不让人怅然若失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42080" y="838080"/>
            <a:ext cx="3678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我寻寻觅觅、细细察量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忽然间开始明白了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那飞坠的哪里是杨花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漂浮的又哪里是浮萍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华文新魏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一夜宿雨，飞絮化成萍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那千点万点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新魏"/>
              </a:rPr>
              <a:t>全都是离人的眼泪啊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371600" y="787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０００"/>
          <p:cNvPicPr/>
          <p:nvPr/>
        </p:nvPicPr>
        <p:blipFill>
          <a:blip r:embed="rId2"/>
          <a:stretch/>
        </p:blipFill>
        <p:spPr>
          <a:xfrm>
            <a:off x="8229600" y="601992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304920" y="5335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04920" y="53352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1295280" y="304920"/>
            <a:ext cx="716292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头一韵，非同反响，道出了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杨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性质和际遇。“似花还似非花”：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杨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柳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看着柳絮像花又毕竟不是花。艺术手法上显得很“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抽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，但仔细品味琢磨，这“抽象”超出了具体形象，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语道出了柳絮的性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一句与欧阳修的“环滁皆山也”可谓异曲同工。一般来讲，艺术要求用形象反映事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苏东坡却“反其道而行之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-87120" y="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隶书"/>
              </a:rPr>
              <a:t>似花还似非花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隶书"/>
              </a:rPr>
              <a:t>也无人惜从教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5800" y="228600"/>
            <a:ext cx="822960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『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楊花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指的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絮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絮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為什　稱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楊花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呢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元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05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間，隋煬帝下令開鑿運河，號召民眾在河岸植柳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每種活一棵者，獎細絹一匹，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百姓爭植，岸柳成蔭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隋煬帝為了顯示威風，舉行了親自植柳的儀式，揮御筆書贈柳樹姓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後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便被稱為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楊柳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自然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絮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就成了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楊花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9"/>
          <p:cNvSpPr/>
          <p:nvPr/>
        </p:nvSpPr>
        <p:spPr>
          <a:xfrm>
            <a:off x="2133720" y="0"/>
            <a:ext cx="579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匠心独运，以“抽象”写出了非同反响的艺术效果。因此，在艺术描写上，“抽象”有“抽象”的妙用。“也无人惜从教坠”，则言其际遇之苦，没有人怜惜这像花又毕竟不是花的柳絮，只有任其坠落，随风而去。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“无人惜”是诗人言其飘零无着、不被人爱怜的际遇，也正说明了唯独诗人惜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836640" y="1219320"/>
            <a:ext cx="458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3"/>
          <p:cNvSpPr/>
          <p:nvPr/>
        </p:nvSpPr>
        <p:spPr>
          <a:xfrm>
            <a:off x="1066680" y="990720"/>
            <a:ext cx="459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4"/>
          <p:cNvSpPr/>
          <p:nvPr/>
        </p:nvSpPr>
        <p:spPr>
          <a:xfrm>
            <a:off x="-99000" y="0"/>
            <a:ext cx="211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隶书"/>
                <a:ea typeface="隶书"/>
              </a:rPr>
              <a:t>似花还似非花</a:t>
            </a:r>
            <a:r>
              <a:rPr b="1" lang="en-US" sz="3600" spc="-1" strike="noStrike">
                <a:solidFill>
                  <a:srgbClr val="9900cc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00cc"/>
                </a:solidFill>
                <a:latin typeface="隶书"/>
                <a:ea typeface="隶书"/>
              </a:rPr>
              <a:t>也无人惜从教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36" descr="20060726125957515"/>
          <p:cNvPicPr/>
          <p:nvPr/>
        </p:nvPicPr>
        <p:blipFill>
          <a:blip r:embed="rId2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4:02:23Z</dcterms:created>
  <dc:creator/>
  <dc:description/>
  <cp:keywords>幻灯片之家 http:/www.eeppt.com</cp:keywords>
  <dc:language>en-US</dc:language>
  <cp:lastModifiedBy/>
  <dcterms:modified xsi:type="dcterms:W3CDTF">2015-07-13T08:22:47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