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877-564F-466E-BE4E-96D78F99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5A4-4D7F-468F-93D3-78FE11F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574-095C-4A3A-8941-84B286C2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3E8-ABB9-462A-BBF7-C1B18CF2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6F7-F117-4C32-B4BB-69DBCB06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3AF8-285E-410D-8D03-2DB73B3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3B2-7933-4588-90DF-0E90E8CE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869-2310-4AA7-A4BA-4073EAB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70E-E5D6-4650-B2DB-F49CFAC5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7DB-4B54-4665-B40D-115914D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315A-DD4D-48B7-959E-87ABDF5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FC4-E1D8-49DB-B7A0-2E6EB2A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A23D-8F55-4974-83DC-DC32B32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976-BDEE-4995-873D-39D09CE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DE1E-5240-4B5A-8F9E-AEED9B5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FA8E-698D-49BC-8B65-6259AF0A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F1A-F9B7-46C1-9487-4BFCB2B6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C60-7FED-4928-841B-0A87F07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79A-92E8-4C23-A6E3-06253E3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E54-AC0B-4889-A016-CAD4BFF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15D-CF60-474F-94F2-6729F20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C45-EC93-4DB3-8389-B3028BE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A0D-8CF7-4DE5-8BAF-F5CE9BF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714-0EBC-4FDB-9439-05A096C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D588-C3CD-4652-A601-3615A28E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05D-E7DA-4AF9-84B6-CE89BBC1052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baike.baidu.com/view/13598.htm" TargetMode="External"/><Relationship Id="rId5" Type="http://schemas.openxmlformats.org/officeDocument/2006/relationships/hyperlink" Target="http://baike.baidu.com/view/45083.htm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449360" y="1347840"/>
            <a:ext cx="1646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3733920" y="642960"/>
            <a:ext cx="3673440" cy="498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240" y="64166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4191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560" y="2057400"/>
            <a:ext cx="26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司马光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28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3352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一回，司马光和几个小朋友在＿＿玩。花园里有座＿＿，假山下面有＿＿＿＿＿，缸里＿＿＿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838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花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8222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假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90920" y="13716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一口大水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629400" y="1447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装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3520" y="1981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了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742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62120" y="12193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口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缸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29718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满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了水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907920"/>
            <a:ext cx="55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个小朋友爬上了假山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               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掉进了大水缸里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285920" y="1557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一不小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55640" y="62064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下课的铃声响了，我赶紧往教室门外走去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不小心，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___________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44360" y="3068640"/>
            <a:ext cx="4682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在操场上活动的时候，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不小心</a:t>
            </a:r>
            <a:r>
              <a:rPr b="1" i="1" lang="zh-CN" sz="4000" spc="-1" strike="noStrike">
                <a:solidFill>
                  <a:srgbClr val="2605e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__________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130480" y="18050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把别人的文具盒碰掉地上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30760" y="371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扭伤了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0920" y="333360"/>
            <a:ext cx="50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别的小朋友都慌了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的吓哭了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的叫着喊着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跑去找大人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8908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9760" y="533520"/>
            <a:ext cx="6276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有个小朋友（   ）假山上去玩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），（    ）了大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缸里。别的小朋友都（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有的（       ），有的（   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            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108240" y="611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2820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爬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23640" y="1295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不小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73752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掉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1947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慌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46484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吓哭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05116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叫着喊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75880" y="2895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跑去找大 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260280"/>
            <a:ext cx="77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05ed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别的小朋友都慌了，</a:t>
            </a: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有的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吓哭了，</a:t>
            </a: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有的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叫着喊着，跑去找大人。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9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609480" y="7621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会说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352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4920" y="187956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下课的时候，同学们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还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0920" y="3500280"/>
            <a:ext cx="908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大扫除的时候，同学们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，还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……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937560" y="17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跳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856520" y="2421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踢毽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886360" y="23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打篮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7010640" y="3357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扫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825560" y="4038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洒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88888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擦桌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未命名1"/>
          <p:cNvPicPr/>
          <p:nvPr/>
        </p:nvPicPr>
        <p:blipFill>
          <a:blip r:embed="rId2"/>
          <a:stretch/>
        </p:blipFill>
        <p:spPr>
          <a:xfrm>
            <a:off x="0" y="0"/>
            <a:ext cx="9144000" cy="6259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57200" y="4937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司马光没有慌，他举起一块大石头，使劲砸那口缸，几下子就把缸砸破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720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914400" y="41911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3366ff"/>
                </a:solidFill>
                <a:latin typeface="Tahoma"/>
                <a:ea typeface="楷体_GB2312"/>
              </a:rPr>
              <a:t>缸里的水流出来了，掉进缸里的小朋友得救了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03480" y="12949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2514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你们还知道哪些复姓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905120" y="3808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ef0903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司马是复姓</a:t>
            </a:r>
            <a:endParaRPr b="1" lang="en-US" sz="1800" spc="-1" strike="noStrike">
              <a:ln w="9360">
                <a:solidFill>
                  <a:srgbClr val="ef0903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2"/>
          <a:stretch/>
        </p:blipFill>
        <p:spPr>
          <a:xfrm>
            <a:off x="1219320" y="3730680"/>
            <a:ext cx="6443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背景4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677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47636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花园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76360" y="36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慌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50872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826920" y="1844640"/>
            <a:ext cx="64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司马光和几个小朋友在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玩，一个小朋友掉进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其他小朋友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司马光没有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他举起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使劲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那口缸，掉在缸里的小朋友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3528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大水缸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41128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一块大石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84720" y="4365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547640" y="5516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得救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5715000" y="609480"/>
            <a:ext cx="2286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会填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761720" y="1052640"/>
            <a:ext cx="37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按故事发展的顺序，在扩号里编上序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45840" y="1916280"/>
            <a:ext cx="4930920" cy="47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有一回，他和几个小朋友在花园里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古时候，有个孩子叫司马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别的孩子都慌了，跑去喊大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掉进水缸的小朋友得救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司马光举起大石头，把水缸砸破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一个小朋友不小心掉进大水缸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56040" y="28828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60720" y="20844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241640" y="5985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27600" y="3675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0720" y="5259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467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6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8070840" y="44280"/>
            <a:ext cx="8208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司马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692360" y="126828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Picture 3" descr="a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211640" y="981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211640" y="692280"/>
            <a:ext cx="49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认为司马光是个怎样的孩子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003640" y="2708280"/>
            <a:ext cx="28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遇事不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善于动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聪明勇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3"/>
          <p:cNvSpPr txBox="1"/>
          <p:nvPr/>
        </p:nvSpPr>
        <p:spPr>
          <a:xfrm>
            <a:off x="1295280" y="11430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想一想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68760" y="2514600"/>
            <a:ext cx="727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如果这个时候大人们来了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会对司马光说些什么呢？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司马光的同伴们又会对他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说些什么呢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背景4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677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423080" y="213372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大人们会这样夸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司马光，你真是个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的孩子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3789360"/>
            <a:ext cx="73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同伴们会这样夸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司马光，你真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870080" y="270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聪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366800" y="4365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勇敢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6920" y="2349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司马光砸缸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067280" y="2349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孔融让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71640" y="3284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曹冲称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348000" y="321300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曹植作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七步诗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71640" y="436572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王冕四岁学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971640" y="53737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王羲之七岁通书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2" name="WordArt 8" descr=""/>
          <p:cNvPicPr/>
          <p:nvPr/>
        </p:nvPicPr>
        <p:blipFill>
          <a:blip r:embed="rId2"/>
          <a:stretch/>
        </p:blipFill>
        <p:spPr>
          <a:xfrm>
            <a:off x="0" y="195120"/>
            <a:ext cx="6381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15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1"/>
                            </p:stCondLst>
                            <p:childTnLst>
                              <p:par>
                                <p:cTn id="6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无标题"/>
          <p:cNvPicPr/>
          <p:nvPr/>
        </p:nvPicPr>
        <p:blipFill>
          <a:blip r:embed="rId2"/>
          <a:stretch/>
        </p:blipFill>
        <p:spPr>
          <a:xfrm>
            <a:off x="4648320" y="3063960"/>
            <a:ext cx="4495680" cy="37940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"/>
          <p:cNvSpPr txBox="1"/>
          <p:nvPr/>
        </p:nvSpPr>
        <p:spPr>
          <a:xfrm>
            <a:off x="5257800" y="380880"/>
            <a:ext cx="3886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这样做对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5" name="Picture 4" descr="11104742KsH73"/>
          <p:cNvPicPr/>
          <p:nvPr/>
        </p:nvPicPr>
        <p:blipFill>
          <a:blip r:embed="rId3"/>
          <a:stretch/>
        </p:blipFill>
        <p:spPr>
          <a:xfrm>
            <a:off x="0" y="0"/>
            <a:ext cx="5029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19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23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6" name="Text Box 12"/>
          <p:cNvSpPr/>
          <p:nvPr/>
        </p:nvSpPr>
        <p:spPr>
          <a:xfrm>
            <a:off x="154296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别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79132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31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35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8" name="Text Box 12"/>
          <p:cNvSpPr/>
          <p:nvPr/>
        </p:nvSpPr>
        <p:spPr>
          <a:xfrm>
            <a:off x="1614600" y="134136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64660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都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106160" y="7254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Arial"/>
              </a:rPr>
              <a:t>认识右耳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852720" y="5013360"/>
            <a:ext cx="2541600" cy="1312920"/>
            <a:chOff x="3852720" y="5013360"/>
            <a:chExt cx="2541600" cy="1312920"/>
          </a:xfrm>
        </p:grpSpPr>
        <p:grpSp>
          <p:nvGrpSpPr>
            <p:cNvPr id="242" name="Group 4"/>
            <p:cNvGrpSpPr/>
            <p:nvPr/>
          </p:nvGrpSpPr>
          <p:grpSpPr>
            <a:xfrm>
              <a:off x="5122800" y="5135760"/>
              <a:ext cx="1271520" cy="1187280"/>
              <a:chOff x="5122800" y="5135760"/>
              <a:chExt cx="1271520" cy="1187280"/>
            </a:xfrm>
          </p:grpSpPr>
          <p:sp>
            <p:nvSpPr>
              <p:cNvPr id="243" name="Rectangle 5"/>
              <p:cNvSpPr/>
              <p:nvPr/>
            </p:nvSpPr>
            <p:spPr>
              <a:xfrm>
                <a:off x="5122800" y="513576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Line 6"/>
              <p:cNvSpPr/>
              <p:nvPr/>
            </p:nvSpPr>
            <p:spPr>
              <a:xfrm flipH="1">
                <a:off x="5122800" y="57294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Line 7"/>
              <p:cNvSpPr/>
              <p:nvPr/>
            </p:nvSpPr>
            <p:spPr>
              <a:xfrm>
                <a:off x="5758920" y="516492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8"/>
            <p:cNvGrpSpPr/>
            <p:nvPr/>
          </p:nvGrpSpPr>
          <p:grpSpPr>
            <a:xfrm>
              <a:off x="3852720" y="5135760"/>
              <a:ext cx="1270080" cy="1187280"/>
              <a:chOff x="3852720" y="5135760"/>
              <a:chExt cx="1270080" cy="1187280"/>
            </a:xfrm>
          </p:grpSpPr>
          <p:sp>
            <p:nvSpPr>
              <p:cNvPr id="247" name="Rectangle 9"/>
              <p:cNvSpPr/>
              <p:nvPr/>
            </p:nvSpPr>
            <p:spPr>
              <a:xfrm>
                <a:off x="3852720" y="513576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H="1">
                <a:off x="3852720" y="572940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>
                <a:off x="4488120" y="516492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3995640" y="5013360"/>
              <a:ext cx="2374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那都</a:t>
              </a:r>
              <a:endParaRPr b="0" lang="en-US" sz="8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1" name="Group 13"/>
          <p:cNvGrpSpPr/>
          <p:nvPr/>
        </p:nvGrpSpPr>
        <p:grpSpPr>
          <a:xfrm>
            <a:off x="4067280" y="2133720"/>
            <a:ext cx="2016000" cy="2016000"/>
            <a:chOff x="4067280" y="2133720"/>
            <a:chExt cx="2016000" cy="2016000"/>
          </a:xfrm>
        </p:grpSpPr>
        <p:grpSp>
          <p:nvGrpSpPr>
            <p:cNvPr id="252" name="Group 14"/>
            <p:cNvGrpSpPr/>
            <p:nvPr/>
          </p:nvGrpSpPr>
          <p:grpSpPr>
            <a:xfrm>
              <a:off x="4067280" y="2133720"/>
              <a:ext cx="2016000" cy="2016000"/>
              <a:chOff x="4067280" y="2133720"/>
              <a:chExt cx="2016000" cy="2016000"/>
            </a:xfrm>
          </p:grpSpPr>
          <p:sp>
            <p:nvSpPr>
              <p:cNvPr id="253" name="Rectangle 15"/>
              <p:cNvSpPr/>
              <p:nvPr/>
            </p:nvSpPr>
            <p:spPr>
              <a:xfrm>
                <a:off x="4067280" y="2133720"/>
                <a:ext cx="2016000" cy="20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 flipH="1">
                <a:off x="4067280" y="3141720"/>
                <a:ext cx="2016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5" name="Line 17"/>
              <p:cNvSpPr/>
              <p:nvPr/>
            </p:nvSpPr>
            <p:spPr>
              <a:xfrm>
                <a:off x="5075640" y="2183400"/>
                <a:ext cx="0" cy="19659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256" name="Picture 18" descr="1"/>
            <p:cNvPicPr/>
            <p:nvPr/>
          </p:nvPicPr>
          <p:blipFill>
            <a:blip r:embed="rId2"/>
            <a:stretch/>
          </p:blipFill>
          <p:spPr>
            <a:xfrm>
              <a:off x="4788000" y="2421000"/>
              <a:ext cx="64764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Rectangle 19"/>
          <p:cNvSpPr/>
          <p:nvPr/>
        </p:nvSpPr>
        <p:spPr>
          <a:xfrm>
            <a:off x="8070840" y="44280"/>
            <a:ext cx="8208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司马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3a95b5f3-62a7-4b6e-a62f-3c0a6f12"/>
          <p:cNvPicPr/>
          <p:nvPr/>
        </p:nvPicPr>
        <p:blipFill>
          <a:blip r:embed="rId2"/>
          <a:stretch/>
        </p:blipFill>
        <p:spPr>
          <a:xfrm>
            <a:off x="0" y="304920"/>
            <a:ext cx="26892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官婉儿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，唐代女官、女诗人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4" descr="d0526df07de8819fa50f5238"/>
          <p:cNvPicPr/>
          <p:nvPr/>
        </p:nvPicPr>
        <p:blipFill>
          <a:blip r:embed="rId3"/>
          <a:stretch/>
        </p:blipFill>
        <p:spPr>
          <a:xfrm>
            <a:off x="2590920" y="380880"/>
            <a:ext cx="2228760" cy="3581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14600" y="3962520"/>
            <a:ext cx="2362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诸葛亮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字孔明 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蜀汉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丞相 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国时期杰出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政治家、战略家、发明家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军事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6" descr="d4c37a17c61cf27df2de3288"/>
          <p:cNvPicPr/>
          <p:nvPr/>
        </p:nvPicPr>
        <p:blipFill>
          <a:blip r:embed="rId6"/>
          <a:stretch/>
        </p:blipFill>
        <p:spPr>
          <a:xfrm>
            <a:off x="4876920" y="380880"/>
            <a:ext cx="4267080" cy="358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105520" y="41148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欧阳夏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主持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61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65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8" name="Text Box 12"/>
          <p:cNvSpPr/>
          <p:nvPr/>
        </p:nvSpPr>
        <p:spPr>
          <a:xfrm>
            <a:off x="1542960" y="126828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吓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64660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04920" y="333360"/>
            <a:ext cx="81007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一、选字填空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2605e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友   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我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许多好朋 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2) 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块   快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我们一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儿玩得很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乐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2605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276200" y="2565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Times New Roman"/>
              </a:rPr>
              <a:t>有</a:t>
            </a:r>
            <a:r>
              <a:rPr b="0" lang="zh-CN" sz="5400" spc="-1" strike="noStrike">
                <a:solidFill>
                  <a:srgbClr val="007a77"/>
                </a:solidFill>
                <a:latin typeface="Times New Roman"/>
              </a:rPr>
              <a:t>                    </a:t>
            </a:r>
            <a:r>
              <a:rPr b="1" lang="zh-CN" sz="5400" spc="-1" strike="noStrike">
                <a:solidFill>
                  <a:srgbClr val="ef0903"/>
                </a:solidFill>
                <a:latin typeface="Times New Roman"/>
              </a:rPr>
              <a:t>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573280" y="4653000"/>
            <a:ext cx="57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f0903"/>
                </a:solidFill>
                <a:latin typeface="Times New Roman"/>
              </a:rPr>
              <a:t>块 </a:t>
            </a:r>
            <a:r>
              <a:rPr b="0" lang="zh-CN" sz="66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6600" spc="-1" strike="noStrike">
                <a:solidFill>
                  <a:srgbClr val="ef0903"/>
                </a:solidFill>
                <a:latin typeface="宋体"/>
              </a:rPr>
              <a:t>快  </a:t>
            </a:r>
            <a:r>
              <a:rPr b="0" lang="zh-CN" sz="66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404640"/>
            <a:ext cx="7693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园     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花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里有一口（       ）缸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渴      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一只乌鸦口（        ）了，到处找水（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蓝       篮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我把（       ）球放进（        ）子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58920" y="9079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Arial"/>
              </a:rPr>
              <a:t>园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076720" y="907920"/>
            <a:ext cx="7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995640" y="2205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渴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692360" y="2708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Arial"/>
              </a:rPr>
              <a:t>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268360" y="4005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867280" y="400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篮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" y="64450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6386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936-B5C1-4D02-82F2-AE44C01A20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50920" y="476280"/>
            <a:ext cx="741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903"/>
                </a:solidFill>
                <a:latin typeface="Comic Sans MS"/>
              </a:rPr>
              <a:t>搭配词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座　  　水缸           找　     石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口　　  石头　　　 砸　     大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块　　  假山　　　 搬　     水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4356000" y="1052640"/>
            <a:ext cx="0" cy="2447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24000" y="1700280"/>
            <a:ext cx="935280" cy="1512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V="1">
            <a:off x="2124000" y="1700280"/>
            <a:ext cx="93528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 flipV="1">
            <a:off x="2195640" y="2421000"/>
            <a:ext cx="863640" cy="936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92720" y="1700280"/>
            <a:ext cx="93492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5292720" y="2492280"/>
            <a:ext cx="100800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5292720" y="1773000"/>
            <a:ext cx="934920" cy="158436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533520" y="247680"/>
            <a:ext cx="76676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四、我会造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园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法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许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美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唱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阳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792440" y="132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60440" y="11127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公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376440" y="11127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小红去公园里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433520" y="1976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办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305160" y="20480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我有一个好办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360440" y="29113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许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376440" y="29113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小明有许多水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433520" y="38480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美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089160" y="37767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公园里的花真美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360440" y="47847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唱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665520" y="47847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妈妈在唱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1433520" y="57214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太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376440" y="57927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0903"/>
                </a:solidFill>
                <a:latin typeface="Arial"/>
              </a:rPr>
              <a:t>太阳从东方升起来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30320" y="642312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你知道司马光吗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Picture 3" descr="司马光1"/>
          <p:cNvPicPr/>
          <p:nvPr/>
        </p:nvPicPr>
        <p:blipFill>
          <a:blip r:embed="rId2"/>
          <a:srcRect l="946" t="1503" r="62740" b="1473"/>
          <a:stretch/>
        </p:blipFill>
        <p:spPr>
          <a:xfrm>
            <a:off x="900000" y="1628640"/>
            <a:ext cx="2808360" cy="4608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4788000" y="1773360"/>
            <a:ext cx="3981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司马光是北宋著名政治家、伟大史学家，他是我国第一部编年体通史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资治通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编辑者。司马光为人温良谦恭、刚正不阿，对父母特别孝顺。他还是一个有情有义的人，当时人们都认为司马光是一个贤德之人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底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54080" y="1295280"/>
            <a:ext cx="8785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古时候有个孩子，叫司马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有一回，他跟几个小朋友在花园里玩。花园里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山，假山下面有一口大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里装满了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有个小朋友爬到假山上去玩，一不小心，掉进了大水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的小朋友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，有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哭了，有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着喊着，跑去找大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司马光没有慌，他举起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石头，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劲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那口缸，几下子就把缸砸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缸里的水流出来了，掉进缸里的小朋友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799480" y="44280"/>
            <a:ext cx="3096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564000" y="774720"/>
            <a:ext cx="230328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87229"/>
                  </a:outerShdw>
                </a:effectLst>
                <a:latin typeface="楷体_GB2312"/>
              </a:rPr>
              <a:t>司马光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8722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24000" y="18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84210584544794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189000"/>
            <a:ext cx="8820000" cy="78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s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ī    jiǎ    gāng   bié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司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 假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山  水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缸    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huāng   xià   jiào    kuài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慌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张</a:t>
            </a: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吓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声  一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sh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ǐjìn     zá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pò     ji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使  劲     砸 破  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得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1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84210584544794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24000" y="189000"/>
            <a:ext cx="8820000" cy="78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司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 假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山  水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缸    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慌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张</a:t>
            </a: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吓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声  一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使  劲     砸 破  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得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1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90720" y="2666880"/>
            <a:ext cx="693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犬”字上面两个口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元”字掉在框框里。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另有立刀旁。        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这个同学真马虎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同字丢掉一小竖。  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762120" y="762120"/>
            <a:ext cx="3695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来猜字谜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232680" y="25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66160" y="3200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309000" y="3733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461280" y="4800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1981080" y="2514600"/>
            <a:ext cx="1752840" cy="160020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哭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457200" y="228600"/>
            <a:ext cx="1752480" cy="16002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光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0" y="1981080"/>
            <a:ext cx="175248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4572000" y="2666880"/>
            <a:ext cx="1752480" cy="16002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没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7010280" y="2209680"/>
            <a:ext cx="1752840" cy="16002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块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3048120" y="304920"/>
            <a:ext cx="175248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候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5181480" y="990720"/>
            <a:ext cx="1752840" cy="1600200"/>
          </a:xfrm>
          <a:prstGeom prst="ellipse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孩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7086600" y="228600"/>
            <a:ext cx="17524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跟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Picture 10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50:58Z</dcterms:created>
  <dc:creator/>
  <dc:description/>
  <cp:keywords>幻灯片之家 http:/www.eeppt.com</cp:keywords>
  <dc:language>en-US</dc:language>
  <cp:lastModifiedBy/>
  <dcterms:modified xsi:type="dcterms:W3CDTF">2015-07-04T12:32:09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