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EAA-C107-4951-B34D-C27EAC42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F17-9682-4127-BFD5-CBF7F77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49D-F889-4E49-A651-5275F7C5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190-1221-41EE-8EA7-7E623EC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20F-0857-412A-8642-C6B84210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0BF2-CBB9-400A-B189-ED064B81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2969-D03C-48FF-9AE1-C1DEED0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6CC-A486-4871-8AE6-98328458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C100-1736-44EA-A767-C4E4F45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6F1-D8A6-4057-872F-1A02B188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C7C-0067-4CA1-89DE-3796650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158-04F6-4987-9F63-5CA2110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24D-058D-4BB3-B007-4ABB182B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2DA9-01FA-4B26-9C52-A9E0918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785F-87F4-4281-930E-DC7C907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0D3B-4ACC-4FE9-88A2-B672D60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880A-4B3F-4A2D-8DFB-5B20C2CC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C61-2474-422A-87BE-3BF08FD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699-121F-4623-BA91-0284A4E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E50-C368-458D-857D-8C8D0F9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2B4-BDB6-49CF-86D2-9D00B70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830-4181-4E23-B701-9721EFF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647-F0F6-45FF-8DF7-A79A2E8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B98-9109-4868-A09E-BD372E9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09A-33E0-4539-ABF3-CB0386BB9B0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1A0-A582-4346-87D2-9432313827F1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772-11DA-4B57-8B86-0F52849EA082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A51-5B2F-4718-B4EC-905ABCA501C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7E5-B9A9-49A8-B3B1-A9DE350FDE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8720" y="20606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67800" y="1001880"/>
            <a:ext cx="330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墨画鱼动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4D0-9A11-49C9-A54C-A8E64191C7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765000"/>
            <a:ext cx="6337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动态ppt模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5CE-220F-4842-8B15-03B433C61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D30-9644-494D-80FA-D92862094C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cp:keywords>幻灯片之家 http:/www.eeppt.com</cp:keywords>
  <dc:language>en-US</dc:language>
  <cp:lastModifiedBy/>
  <dcterms:modified xsi:type="dcterms:W3CDTF">2015-07-08T03:04:59Z</dcterms:modified>
  <cp:revision>59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