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5D4-6434-453E-B35A-33674FD6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369-D81A-41A9-BB62-06CFB89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2C8-7F40-4CE8-805D-4F42F3C0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CC5-85D7-40AB-8936-8B0BDEA8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022-6A8C-423A-ACFC-C1E9FFDB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6BF-C8D4-4942-94A7-89325EC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57F-3CD3-4F37-9960-B28DFFE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FE4C-49D6-436E-9259-538BE11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38B-8628-414B-845D-6DB97F1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4493-343E-42FF-B66C-A9CBAC2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FF35-168C-43EA-8E5E-E33A2CC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630-C60E-4717-84F4-40945EE1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A4E-382E-40B7-A010-C215D45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F53-2518-4F1B-A572-3B95488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CEC4-C4B4-4281-B4CF-371A9BD4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2649-16AC-4B6B-9CE8-BCADDD3A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AB98-3A06-43F9-BB83-0BA00750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47B-123D-4365-9538-B549790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126-C93A-482D-BAE1-49AA792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15B-92C3-45CA-AE41-6D7994D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960-C099-4233-8273-56C9CF6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FF6-BA08-48B1-B870-2F6CE98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C18-8DA6-4E92-9A89-5892095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97A-6AEE-4282-8D15-7FA47F9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A62-C75B-456A-9FF2-FE2691E4BED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4BA-F5AC-4EE9-980B-2FFC5324313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6960" y="213372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Arial"/>
              </a:rPr>
              <a:t>商务目标</a:t>
            </a: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c0c0c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7102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7859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528920" y="6524640"/>
            <a:ext cx="974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87700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c0c0c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7102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E5F-2C34-4843-A9D1-0EDE6798BC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5456160" y="4913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934240" y="5627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63104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777777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cp:keywords>幻灯片之家 http:/www.eeppt.com</cp:keywords>
  <dc:language>en-US</dc:language>
  <cp:lastModifiedBy/>
  <dcterms:modified xsi:type="dcterms:W3CDTF">2015-07-09T03:03:41Z</dcterms:modified>
  <cp:revision>1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