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AA5-5D5C-48F4-B4B8-B05A52CF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247-DE07-43B7-8265-40CB6E6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80E-AB9C-4941-A6B2-C0015479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7BF-72D6-458C-8071-279BEF8A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048-2862-4497-9D57-B95A2BB7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D57-7AF0-4F5B-A9E0-D96BDAAA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EE6-F84D-4767-BC27-7A204C32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715-B9B4-476E-BFF8-A27CDA2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99D-CF32-4FC5-ABF9-87EC642D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C97-67A7-4E6A-93BD-F78B88E4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922-F609-46BF-ADD0-C033A39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D5F-D77C-4EF2-8C13-38C63E5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9D2-AD39-4E45-B978-C223B292B0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AD69-E820-4D11-8F3B-07E0A53B9F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95848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高清立体方块世界地图大图 点击还原"/>
          <p:cNvPicPr/>
          <p:nvPr/>
        </p:nvPicPr>
        <p:blipFill>
          <a:blip r:embed="rId1"/>
          <a:srcRect l="6356" t="0" r="2029" b="5963"/>
          <a:stretch/>
        </p:blipFill>
        <p:spPr>
          <a:xfrm>
            <a:off x="36360" y="-24300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33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87700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076-0576-4FD2-A11E-B25EF3D453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7:00Z</dcterms:created>
  <dc:creator/>
  <dc:description/>
  <cp:keywords>幻灯片之家 http:/www.eeppt.com</cp:keywords>
  <dc:language>en-US</dc:language>
  <cp:lastModifiedBy/>
  <dcterms:modified xsi:type="dcterms:W3CDTF">2015-07-09T02:48:26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