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E3C-8F51-431F-93CC-8BE0E0BA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96C-7B2E-432F-8C38-BBB8BE5F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58B-8E10-4C12-A9C3-E8442F82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2D7-99F6-4F17-AFAE-411EA7C2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51B-11DF-4E16-88B1-DB946EBC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4132-F90C-469D-957E-11E65D84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49D-3CC2-48FE-8864-2C9D02DE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E62-3958-4D3D-AC8A-53A353EB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A8A-2C9A-42B1-A876-87E7BF54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43A-991E-4A74-983A-F8EB8EFE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3521-6F09-49FC-8783-4935FE02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F81-CCB3-45C2-9A45-41E5039B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B0AF-C911-451D-B513-43DA9FA93D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5643720" y="179532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84640" y="90972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商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E5B-46BB-4421-AC71-8B3A8D2982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cp:keywords>幻灯片之家 http:/www.eeppt.com</cp:keywords>
  <dc:language>en-US</dc:language>
  <cp:lastModifiedBy/>
  <dcterms:modified xsi:type="dcterms:W3CDTF">2015-07-09T02:49:21Z</dcterms:modified>
  <cp:revision>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