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F00-7762-4B1E-AB2A-1BA17A79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2D0-8E65-4FD7-8B85-E3F02A04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39D-DA07-4FA6-8648-3C01C5E5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D31-8588-4CCE-A649-4D39F863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3E25-9E7F-4836-B54F-7C4DEC14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BF7A-7099-4F08-B763-5F5E6689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7396-9648-4B15-ACC9-14C4F6B6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8E91-CCD5-4BEF-AC2A-10DBD398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4C48-AB8E-43CD-819D-FBE14016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7284-EE28-4C35-B60E-76BCAA41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C367-64A9-439F-94FF-7EA11DC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76F-B7BD-4F86-8726-5DD70764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3606-74BE-46F8-9EDF-9DC8F5B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EFF2-AF4B-4DFA-AB5A-E1E19AF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0ECF-D3F4-4897-9761-81596866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3087-1CE0-4C50-8B10-D6582201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7B45-A8E1-490E-BF70-A628C092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565-C3E5-44EF-89C0-8F9D71D7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E33-97E6-4CAE-83D8-5F4D6D90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8D4-31B6-4831-83CF-CF035B7F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147-C581-46DA-8862-AC8FE61E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E6B-7A2D-4317-B417-F5DEA594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D52-3B54-4C9C-8150-E194EB9F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63D-2F73-45BC-8011-B6A760CD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DF30-963E-4CD8-A180-8A6AE4442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C4BE-FCBB-4FFA-9DD5-4B991BA6F26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74800"/>
            <a:ext cx="7772400" cy="39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00" spc="-1" strike="noStrike">
              <a:solidFill>
                <a:srgbClr val="003399"/>
              </a:solidFill>
              <a:latin typeface="Arial"/>
              <a:ea typeface="华文新魏"/>
            </a:endParaRPr>
          </a:p>
        </p:txBody>
      </p:sp>
      <p:sp>
        <p:nvSpPr>
          <p:cNvPr id="83" name=""/>
          <p:cNvSpPr/>
          <p:nvPr/>
        </p:nvSpPr>
        <p:spPr>
          <a:xfrm>
            <a:off x="25236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5640" y="1125360"/>
            <a:ext cx="4995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数学观察物体课件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0" lang="en-US" sz="4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老师寄语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我们要善于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角度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观察事物，了解事物，不要像摸象的盲人一样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以偏概全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4284720" y="36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Arial"/>
              </a:rPr>
              <a:t>盲人摸象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924360" y="3500280"/>
            <a:ext cx="1224000" cy="1079640"/>
          </a:xfrm>
          <a:custGeom>
            <a:avLst/>
            <a:gdLst>
              <a:gd name="textAreaLeft" fmla="*/ 67320 w 1224000"/>
              <a:gd name="textAreaRight" fmla="*/ 1156680 w 122400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4487" h="21600">
                <a:moveTo>
                  <a:pt x="0" y="0"/>
                </a:moveTo>
                <a:lnTo>
                  <a:pt x="24487" y="0"/>
                </a:lnTo>
                <a:lnTo>
                  <a:pt x="24487" y="21600"/>
                </a:lnTo>
                <a:lnTo>
                  <a:pt x="0" y="21600"/>
                </a:lnTo>
                <a:close/>
              </a:path>
              <a:path fill="lightenLess" w="24487" h="21600">
                <a:moveTo>
                  <a:pt x="0" y="0"/>
                </a:moveTo>
                <a:lnTo>
                  <a:pt x="24487" y="0"/>
                </a:lnTo>
                <a:lnTo>
                  <a:pt x="23137" y="1350"/>
                </a:lnTo>
                <a:lnTo>
                  <a:pt x="1350" y="1350"/>
                </a:lnTo>
                <a:close/>
              </a:path>
              <a:path fill="darken" w="24487" h="21600">
                <a:moveTo>
                  <a:pt x="24487" y="0"/>
                </a:moveTo>
                <a:lnTo>
                  <a:pt x="24487" y="21600"/>
                </a:lnTo>
                <a:lnTo>
                  <a:pt x="23137" y="20250"/>
                </a:lnTo>
                <a:lnTo>
                  <a:pt x="23137" y="1350"/>
                </a:lnTo>
                <a:close/>
              </a:path>
              <a:path fill="darkenLess" w="24487" h="21600">
                <a:moveTo>
                  <a:pt x="2448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137" y="20250"/>
                </a:lnTo>
                <a:close/>
              </a:path>
              <a:path fill="lighten" w="2448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487" h="21600">
                <a:moveTo>
                  <a:pt x="5200" y="3756"/>
                </a:moveTo>
                <a:lnTo>
                  <a:pt x="19287" y="10800"/>
                </a:lnTo>
                <a:lnTo>
                  <a:pt x="5200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先摆一摆，再仔细观察比较这三个物体，看有什么发现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75564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554040" y="29098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33200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908000" y="27082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5258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41148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471636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39132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488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8612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74376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72360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24000" y="260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正面、背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79360" y="2286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两个侧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79360" y="4221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上面、下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4" name="Group 25"/>
          <p:cNvGrpSpPr/>
          <p:nvPr/>
        </p:nvGrpSpPr>
        <p:grpSpPr>
          <a:xfrm>
            <a:off x="2698920" y="1628640"/>
            <a:ext cx="1728720" cy="576360"/>
            <a:chOff x="2698920" y="1628640"/>
            <a:chExt cx="1728720" cy="576360"/>
          </a:xfrm>
        </p:grpSpPr>
        <p:sp>
          <p:nvSpPr>
            <p:cNvPr id="105" name="Rectangle 7"/>
            <p:cNvSpPr/>
            <p:nvPr/>
          </p:nvSpPr>
          <p:spPr>
            <a:xfrm>
              <a:off x="269892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3275280" y="162864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385128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8" name="Group 26"/>
          <p:cNvGrpSpPr/>
          <p:nvPr/>
        </p:nvGrpSpPr>
        <p:grpSpPr>
          <a:xfrm>
            <a:off x="2700360" y="3573360"/>
            <a:ext cx="1152360" cy="576360"/>
            <a:chOff x="2700360" y="3573360"/>
            <a:chExt cx="1152360" cy="576360"/>
          </a:xfrm>
        </p:grpSpPr>
        <p:sp>
          <p:nvSpPr>
            <p:cNvPr id="109" name="Rectangle 10"/>
            <p:cNvSpPr/>
            <p:nvPr/>
          </p:nvSpPr>
          <p:spPr>
            <a:xfrm>
              <a:off x="2700360" y="3573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3276720" y="3573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900000" y="5157720"/>
            <a:ext cx="1727280" cy="1152360"/>
            <a:chOff x="900000" y="5157720"/>
            <a:chExt cx="1727280" cy="1152360"/>
          </a:xfrm>
        </p:grpSpPr>
        <p:sp>
          <p:nvSpPr>
            <p:cNvPr id="112" name="Rectangle 13"/>
            <p:cNvSpPr/>
            <p:nvPr/>
          </p:nvSpPr>
          <p:spPr>
            <a:xfrm>
              <a:off x="900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147636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20509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900000" y="57340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6" name="Group 28"/>
          <p:cNvGrpSpPr/>
          <p:nvPr/>
        </p:nvGrpSpPr>
        <p:grpSpPr>
          <a:xfrm>
            <a:off x="3421080" y="5157720"/>
            <a:ext cx="1727280" cy="1152360"/>
            <a:chOff x="3421080" y="5157720"/>
            <a:chExt cx="1727280" cy="1152360"/>
          </a:xfrm>
        </p:grpSpPr>
        <p:sp>
          <p:nvSpPr>
            <p:cNvPr id="117" name="Rectangle 17"/>
            <p:cNvSpPr/>
            <p:nvPr/>
          </p:nvSpPr>
          <p:spPr>
            <a:xfrm>
              <a:off x="342108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399744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4572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3995640" y="57340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1" name="Group 29"/>
          <p:cNvGrpSpPr/>
          <p:nvPr/>
        </p:nvGrpSpPr>
        <p:grpSpPr>
          <a:xfrm>
            <a:off x="6373800" y="5157720"/>
            <a:ext cx="1727280" cy="1152360"/>
            <a:chOff x="6373800" y="5157720"/>
            <a:chExt cx="1727280" cy="1152360"/>
          </a:xfrm>
        </p:grpSpPr>
        <p:sp>
          <p:nvSpPr>
            <p:cNvPr id="122" name="Rectangle 21"/>
            <p:cNvSpPr/>
            <p:nvPr/>
          </p:nvSpPr>
          <p:spPr>
            <a:xfrm>
              <a:off x="63738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695016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Rectangle 23"/>
            <p:cNvSpPr/>
            <p:nvPr/>
          </p:nvSpPr>
          <p:spPr>
            <a:xfrm>
              <a:off x="75247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7524720" y="57340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把刚才的那三个物体变一变，使它们变成下图这样的三个物体吗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74304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43040" y="2637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33200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908000" y="32259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50676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09428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468144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4095720" y="26496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628488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686124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743760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7439040" y="26496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755640" y="344160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4000" y="4437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哪面看这三个物体，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完全相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？从哪面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呢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摆一摆，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43040" y="3429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743040" y="284004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346040" y="34290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41240" y="224964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55640" y="3645000"/>
            <a:ext cx="576360" cy="576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79280" y="1628640"/>
            <a:ext cx="2664000" cy="3240360"/>
          </a:xfrm>
          <a:prstGeom prst="rect">
            <a:avLst/>
          </a:prstGeom>
          <a:noFill/>
          <a:ln w="3816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7812000" y="2133720"/>
            <a:ext cx="576360" cy="1728720"/>
            <a:chOff x="7812000" y="2133720"/>
            <a:chExt cx="576360" cy="1728720"/>
          </a:xfrm>
        </p:grpSpPr>
        <p:sp>
          <p:nvSpPr>
            <p:cNvPr id="150" name="Rectangle 11"/>
            <p:cNvSpPr/>
            <p:nvPr/>
          </p:nvSpPr>
          <p:spPr>
            <a:xfrm rot="16200000">
              <a:off x="7812000" y="3286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 rot="16200000">
              <a:off x="7812000" y="2709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 rot="16200000">
              <a:off x="7812000" y="2133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3" name="Group 14"/>
          <p:cNvGrpSpPr/>
          <p:nvPr/>
        </p:nvGrpSpPr>
        <p:grpSpPr>
          <a:xfrm>
            <a:off x="3419640" y="3141720"/>
            <a:ext cx="1152360" cy="576360"/>
            <a:chOff x="3419640" y="3141720"/>
            <a:chExt cx="1152360" cy="576360"/>
          </a:xfrm>
        </p:grpSpPr>
        <p:sp>
          <p:nvSpPr>
            <p:cNvPr id="154" name="Rectangle 15"/>
            <p:cNvSpPr/>
            <p:nvPr/>
          </p:nvSpPr>
          <p:spPr>
            <a:xfrm>
              <a:off x="3419640" y="3141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3996000" y="3141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5651640" y="2133720"/>
            <a:ext cx="1152360" cy="1726560"/>
            <a:chOff x="5651640" y="2133720"/>
            <a:chExt cx="1152360" cy="1726560"/>
          </a:xfrm>
        </p:grpSpPr>
        <p:sp>
          <p:nvSpPr>
            <p:cNvPr id="157" name="Rectangle 18"/>
            <p:cNvSpPr/>
            <p:nvPr/>
          </p:nvSpPr>
          <p:spPr>
            <a:xfrm rot="16200000">
              <a:off x="5651640" y="32839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 rot="16200000">
              <a:off x="5652000" y="2708280"/>
              <a:ext cx="57564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 rot="16200000">
              <a:off x="5651640" y="2133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 rot="16200000">
              <a:off x="6228000" y="328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1" name="Rectangle 22"/>
          <p:cNvSpPr/>
          <p:nvPr/>
        </p:nvSpPr>
        <p:spPr>
          <a:xfrm>
            <a:off x="2846520" y="4013280"/>
            <a:ext cx="266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上面或下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565164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正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759636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侧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0"/>
          <p:cNvSpPr/>
          <p:nvPr/>
        </p:nvSpPr>
        <p:spPr>
          <a:xfrm>
            <a:off x="40654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385596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46432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AutoShape 21"/>
          <p:cNvSpPr/>
          <p:nvPr/>
        </p:nvSpPr>
        <p:spPr>
          <a:xfrm>
            <a:off x="445608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4581000"/>
            <a:ext cx="854064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正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5480" indent="-1954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侧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5092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3492360" y="5805360"/>
            <a:ext cx="1728720" cy="576360"/>
            <a:chOff x="3492360" y="5805360"/>
            <a:chExt cx="1728720" cy="576360"/>
          </a:xfrm>
        </p:grpSpPr>
        <p:sp>
          <p:nvSpPr>
            <p:cNvPr id="171" name="Rectangle 6"/>
            <p:cNvSpPr/>
            <p:nvPr/>
          </p:nvSpPr>
          <p:spPr>
            <a:xfrm>
              <a:off x="349236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4068720" y="5805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464472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3780000" y="4508640"/>
            <a:ext cx="1152360" cy="576000"/>
            <a:chOff x="3780000" y="4508640"/>
            <a:chExt cx="1152360" cy="576000"/>
          </a:xfrm>
        </p:grpSpPr>
        <p:sp>
          <p:nvSpPr>
            <p:cNvPr id="175" name="Rectangle 10"/>
            <p:cNvSpPr/>
            <p:nvPr/>
          </p:nvSpPr>
          <p:spPr>
            <a:xfrm>
              <a:off x="3780000" y="450864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4356360" y="450864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7" name="AutoShape 12"/>
          <p:cNvSpPr/>
          <p:nvPr/>
        </p:nvSpPr>
        <p:spPr>
          <a:xfrm>
            <a:off x="1374840" y="9936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1187280" y="1195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1762200" y="11955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1560600" y="13971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0" y="47628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2987640" y="54756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6156360" y="6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3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AutoShape 23"/>
          <p:cNvSpPr/>
          <p:nvPr/>
        </p:nvSpPr>
        <p:spPr>
          <a:xfrm>
            <a:off x="658800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AutoShape 24"/>
          <p:cNvSpPr/>
          <p:nvPr/>
        </p:nvSpPr>
        <p:spPr>
          <a:xfrm>
            <a:off x="716436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AutoShape 25"/>
          <p:cNvSpPr/>
          <p:nvPr/>
        </p:nvSpPr>
        <p:spPr>
          <a:xfrm>
            <a:off x="7740720" y="13539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7742160" y="763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1305000" y="3527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1305000" y="293832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1908000" y="35272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1303200" y="234792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1317600" y="374328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0" y="2276640"/>
            <a:ext cx="900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4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987640" y="23479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6156360" y="24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6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AutoShape 35"/>
          <p:cNvSpPr/>
          <p:nvPr/>
        </p:nvSpPr>
        <p:spPr>
          <a:xfrm flipH="1">
            <a:off x="7408080" y="32986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AutoShape 36"/>
          <p:cNvSpPr/>
          <p:nvPr/>
        </p:nvSpPr>
        <p:spPr>
          <a:xfrm flipH="1">
            <a:off x="7596360" y="3500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AutoShape 37"/>
          <p:cNvSpPr/>
          <p:nvPr/>
        </p:nvSpPr>
        <p:spPr>
          <a:xfrm flipH="1">
            <a:off x="7393680" y="26938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AutoShape 38"/>
          <p:cNvSpPr/>
          <p:nvPr/>
        </p:nvSpPr>
        <p:spPr>
          <a:xfrm flipH="1">
            <a:off x="6818400" y="32986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4140360" y="29955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>
            <a:off x="3938760" y="31971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AutoShape 42"/>
          <p:cNvSpPr/>
          <p:nvPr/>
        </p:nvSpPr>
        <p:spPr>
          <a:xfrm>
            <a:off x="4716360" y="2995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AutoShape 43"/>
          <p:cNvSpPr/>
          <p:nvPr/>
        </p:nvSpPr>
        <p:spPr>
          <a:xfrm>
            <a:off x="3736800" y="3400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1619280" y="51577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2554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3562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1620720" y="636264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Rectangle 50"/>
          <p:cNvSpPr/>
          <p:nvPr/>
        </p:nvSpPr>
        <p:spPr>
          <a:xfrm>
            <a:off x="2592360" y="636264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000-11B9-49FA-8667-5F75F86243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用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小正方体按要求摆一摆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976040"/>
            <a:ext cx="85406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30320" y="2852640"/>
            <a:ext cx="85406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08000" y="4797360"/>
            <a:ext cx="9036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          ，从侧面看        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30320" y="3743280"/>
            <a:ext cx="8540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3490920" y="3789360"/>
            <a:ext cx="1728720" cy="576360"/>
            <a:chOff x="3490920" y="3789360"/>
            <a:chExt cx="1728720" cy="576360"/>
          </a:xfrm>
        </p:grpSpPr>
        <p:sp>
          <p:nvSpPr>
            <p:cNvPr id="218" name="Rectangle 8"/>
            <p:cNvSpPr/>
            <p:nvPr/>
          </p:nvSpPr>
          <p:spPr>
            <a:xfrm>
              <a:off x="349092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9" name="Rectangle 9"/>
            <p:cNvSpPr/>
            <p:nvPr/>
          </p:nvSpPr>
          <p:spPr>
            <a:xfrm>
              <a:off x="4067280" y="3789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464328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1" name="Group 11"/>
          <p:cNvGrpSpPr/>
          <p:nvPr/>
        </p:nvGrpSpPr>
        <p:grpSpPr>
          <a:xfrm>
            <a:off x="3492360" y="2924280"/>
            <a:ext cx="1152360" cy="576000"/>
            <a:chOff x="3492360" y="2924280"/>
            <a:chExt cx="1152360" cy="576000"/>
          </a:xfrm>
        </p:grpSpPr>
        <p:sp>
          <p:nvSpPr>
            <p:cNvPr id="222" name="Rectangle 12"/>
            <p:cNvSpPr/>
            <p:nvPr/>
          </p:nvSpPr>
          <p:spPr>
            <a:xfrm>
              <a:off x="3492360" y="29242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4068720" y="292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4" name="Rectangle 15"/>
          <p:cNvSpPr/>
          <p:nvPr/>
        </p:nvSpPr>
        <p:spPr>
          <a:xfrm>
            <a:off x="3490920" y="206064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7308720" y="4365720"/>
            <a:ext cx="576360" cy="1728720"/>
            <a:chOff x="7308720" y="4365720"/>
            <a:chExt cx="576360" cy="1728720"/>
          </a:xfrm>
        </p:grpSpPr>
        <p:sp>
          <p:nvSpPr>
            <p:cNvPr id="226" name="Rectangle 18"/>
            <p:cNvSpPr/>
            <p:nvPr/>
          </p:nvSpPr>
          <p:spPr>
            <a:xfrm rot="16200000">
              <a:off x="7308720" y="5518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Rectangle 19"/>
            <p:cNvSpPr/>
            <p:nvPr/>
          </p:nvSpPr>
          <p:spPr>
            <a:xfrm rot="16200000">
              <a:off x="7308720" y="4941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Rectangle 20"/>
            <p:cNvSpPr/>
            <p:nvPr/>
          </p:nvSpPr>
          <p:spPr>
            <a:xfrm rot="16200000">
              <a:off x="7308720" y="4365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9" name="Group 21"/>
          <p:cNvGrpSpPr/>
          <p:nvPr/>
        </p:nvGrpSpPr>
        <p:grpSpPr>
          <a:xfrm>
            <a:off x="3203640" y="4869000"/>
            <a:ext cx="1152360" cy="576000"/>
            <a:chOff x="3203640" y="4869000"/>
            <a:chExt cx="1152360" cy="576000"/>
          </a:xfrm>
        </p:grpSpPr>
        <p:sp>
          <p:nvSpPr>
            <p:cNvPr id="230" name="Rectangle 22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Rectangle 23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30:37Z</dcterms:created>
  <dc:creator/>
  <dc:description/>
  <cp:keywords>幻灯片之家 http:/www.eeppt.com</cp:keywords>
  <dc:language>en-US</dc:language>
  <cp:lastModifiedBy/>
  <dcterms:modified xsi:type="dcterms:W3CDTF">2015-07-13T08:34:00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