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979-62B3-4719-BD6B-CB21FC3F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179-FD7F-4462-AA7B-FCEAF17D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E7156-248B-4738-8034-511E48D8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D9C02F-384D-4990-AE48-1A9EC90D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3DE64A-DE3B-4912-94AA-55C6B912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C4249-DB05-4FCC-B757-BA240E00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77CAC-DF5F-4225-892F-79269DB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7D140D-83BC-4682-B957-AA0AF71E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B78CC-D8CC-4A42-9D0C-5A8DB882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C84CAB-E6C9-4015-A371-49E39335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1081FB-4735-4CB2-A279-213D6F10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2E8CAB-960D-4ED9-B773-AA08A737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A03-B1BF-4707-91E3-A4DF9D40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A6466B-0DE2-4176-80D2-C797DFEF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8954EF-3249-40AA-873C-214B3B9D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AB4ED5-2016-4AD5-B890-BECC0285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FA6955-5E88-4D9E-B28B-F0EDB46E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E97919-9BF8-4226-8DAB-530148FF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A98EED-E7C9-44D3-A832-9E216D53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8664B8-BC6E-41C5-B1EB-3FFBD302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B66CE8-32D8-47C8-A1C8-03ACFC2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B71274-40F6-4FE6-A42A-C953A886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AA090-D0AD-4A1D-9C70-4EB6459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1DA-B48E-4224-A8EF-D36DB547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1AA228-AFF1-4A76-8E77-C4A6B826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CFEE28-C068-40E6-8A2D-91E75D6E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CFB474-AEF8-4515-92C5-804641F7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5A105-284C-429F-A429-AD024342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F0D1ED-B2E6-4063-816C-E4397031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FBE288-2B80-4E0B-94FE-26FE33B2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2B124-5C2F-4CDA-8321-CEEA67E0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6F386-DACA-4FEF-BD23-E869C674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68ECB5-D496-4354-AB46-A220E2AB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3D4144-C5E6-41A8-BB98-541B560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7FF29-A158-4C5F-B59B-8FE045829E9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DDA927-6DB1-4F85-B439-B4E1B563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67B8F0-DE5C-45B9-8769-53897576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482FF1-4394-4F86-B275-2FDFCDC9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317A4-CE5A-4709-A9E5-C0DE0D2D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98D8C-61DC-4611-A5A6-CD3FF6B7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331D8-B163-4BD5-B0FE-C23F54BB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B1778-DEC7-4891-8EEB-4DE0F3DC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FDA83-1AB2-462B-917A-CE59154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10E50-3D67-4C48-A131-4B387ADD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BF4EF-FC0C-4A14-AD2F-D9AA226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BE94C-81C3-4752-B287-EE95EC012B4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207AF-222F-4C06-A5B6-122E39E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FC9D3-1213-49A3-8C0F-5B67D27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41D02-E896-42F8-B3BA-DB59FC1D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142FD-0FFF-47C5-9BD0-B33CF9AA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33092-EAC8-43FD-98E2-F6E70DFD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FABCC-D1C2-45B3-A6D6-24AE5997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8D23B-7A1D-4283-A638-C7B26689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EC49E-1316-4FC9-9E9A-68D3FF1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D5962-5AAD-40FF-B70F-BD55FD12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4AAD1-F487-472F-B546-8CF1E2B7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56B6E-B985-41EE-8C8B-294CB11B04C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FDFAE-F84E-4F11-94E2-347A4E9B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D4FF5-5C90-4128-B858-2E0DB34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03DB7-3DEE-4DC0-B3DE-92D31BF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C6BAE-556A-49D2-BC06-45149EB1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7DB37-B350-4129-A4F9-120C2857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AEE29-B992-4F6F-A9A5-1D5F028F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16C22-C9EC-431D-B6FB-D2949EB4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3FC687-D251-42CC-83DB-E4B80E83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0937F2-B67C-4B22-8279-D5A5389A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7EE5F5-3BF2-447D-93AB-AE1FDD80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DABAF-85B0-4BC8-A618-D084E7F5452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9846DF-7421-4FB3-A913-51F1FB4F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302D34-7D16-41D6-990D-D6E389DE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BCD948-2B4D-44CE-8518-406DEFBB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40FCB8-B2E3-41ED-9559-455CB9F6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E5C9F5-89CA-4DD4-8DF3-9F1D9140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9506DB-E0E4-4ABE-879D-2BCD61F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CA3D2E-BFF0-4FBF-B332-6316E053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9DF333-C10C-4D2D-9934-71D32D08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B6C24E-F4F2-4853-AE8B-2B4C7E54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3A10A-A653-4189-8C9D-C9915316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F30FC-5ED4-4C73-A82A-7F5AC86E2F5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84551-4041-482A-8DA6-586937D4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C40AB-4375-405F-AFCC-40286DFD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66CAF-278B-460F-9E2A-25F5DFB1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BF763-0B81-444F-9020-61F1BF94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CB8BB-8A61-4B26-A0A1-B50993C4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3E26C-FC9D-463F-B115-EE6C321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4FB25-A327-435F-BAFC-A59EDB1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E4CE6-1F5F-441F-9254-E0008A7E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3830A-C7B5-41C8-BE37-C847A94A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610CE-2E82-4E6D-9E41-43822EF9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CFB87-DB97-44AC-8770-6995DD64C07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F040D-F472-474F-9C3D-CA7B5AD5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F4C402-EECD-4789-86BE-FC302797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14D084-CB5C-48A3-8F06-3A20B149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3A7999-62B9-4751-826B-AA6AB9F2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1D150B-1499-4FAD-8BB9-1DFB95A6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E21DD8-0548-441C-A086-8EE6EAEA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4D85AF-E070-4548-B7A9-5EB4CDA2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07E05B-B499-4DB5-B82F-22D6E100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67FA5C-3276-4C4D-84D8-057EBC13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4C4583-A332-4EE4-9983-83039AC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74329-37AE-43D5-89B8-950C4805DB1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1126D8-9EB9-4936-B2A8-996D7113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C57D78-485A-4B39-A516-DED18D54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4F2090-7498-46E6-87E3-0860BD7B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A432DC-7BD1-4189-A390-85C1EE9A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A193C1-18D0-452E-9E05-4BB1A80F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29FEAE-E6F1-4B8C-9059-9ADF255D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9A1BCD-C878-4E9A-8EFF-E571911D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7DDFD4-6B57-40BB-809B-85811234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A44CA8-5A5F-4371-93CA-F62B38CF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8FA21B-9627-474F-8F77-05220747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C6F-AEB4-4D73-B365-57870FBE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48885-4609-4A24-A1D1-19327558D5F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B5F284-79DD-4E44-92B5-5FA92248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1B6951-CA56-47B7-892D-E870455C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C6E5F0-3ED2-4DB4-805A-6774DDD2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AAA54C-2C44-435D-B99B-0E1B4B24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D51B30-CE1B-4784-B239-3CEAF4FE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680E7C-3A9B-436D-9B96-E356ADD0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7A583C-3464-4547-AFA7-3B5AED07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F029F2-1743-4348-AC3F-176991B9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63E09C-6E47-48DC-BAE3-5F2E820D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CA1F13-0D48-420B-9A84-D01D6F94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37AEF-88D4-49EA-8B06-AD5BC3D7AFA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1C8AC3-9A9E-4D37-94FA-A66DF2E3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12952F-8C99-4083-85E6-CCA983D5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928619-F987-494D-BBFC-190AA7D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BBAEB1-222D-431A-9DBD-78979E14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E8AA51-2925-4692-A2E5-2B0D853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632A32-B6B7-4A0F-93FB-CEB7C4BE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3478E1-4D61-4F62-826A-6F1E42CD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557B2-C05F-40AD-A997-8145EE567F2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95EA0-ECF5-4AED-81D3-8A74F1870BA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D1327-88B1-4AB6-8C39-2D1A78F97E6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E2584-9878-44D8-BFEA-17748B39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773BB-9452-46ED-8AC9-F182E7BF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46A8A-E481-45AD-82BA-74D41103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B1C6E-7B6E-4198-841C-C8CD7AD0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CDCFE-87B5-4C0D-83D9-9FE8D0BA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FF3-D2F1-434A-8BE5-AF9A3C27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B7DB5-99E1-45A1-8553-4A3B4428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C65F6-30D7-4B5E-9FBD-9E0A44F0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912049-1235-4B61-9A54-E419820E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1D8820-5F5A-444E-ADBB-D4EBD4E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4E341-6916-4D22-985E-0B2C674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4671E-5DC9-4769-B586-BAD1C008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24DF4-9CF7-44E5-B1FE-9404559A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4F689-8DAC-4BB2-9893-A08D0671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6BEC2-D23A-4536-AFD1-A6A9F5D4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61940-6E8C-4CB8-B057-D0193C07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CDE-39C4-48AC-9034-390C10CF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C987C-0D66-43FA-9C81-AE8FD066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10B12-3960-4636-A827-E258B38E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4562D-F82F-46E3-A13A-8E6AD874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3922B-0615-4DF3-98BB-148A3D70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67E47B-1ED8-4E7D-825D-A7983BD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EE242-7642-4572-9F96-7097174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33039-C9A5-4683-8E43-2EDD14EC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DD367D-FFDB-4F76-9829-8547422B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C0826-13AE-4465-8E74-B7B42FBB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CE2-667B-4CED-8F82-130E7053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F8A-130E-48EC-A4EC-A28005CC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EF9-C16B-4FAD-8CA2-18BA41DD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729-DC62-4CC2-AC35-7AF13EA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4A87B9-E616-4030-BBEF-C77DFA72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0A070-38E5-41EF-A5A3-D09A2295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44E9FE-BB76-4CB2-879A-9DEF7C1E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D26CF-16F6-4626-8E05-CF333086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912575-A6B4-4421-AA5D-047DCDEB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529-54AA-4868-BA24-4D833B3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CE5A1-A47C-4F5B-B07C-ACF4C0AF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A772AF-7C8C-4FD8-9AC7-9F0E3C5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D8DC43-5B14-4D96-B663-D19AD52C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95931B-F3B4-43B6-A89D-C436E3F6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C5CDCE-8A3B-4AD5-8CE0-3B81E603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DE2955-92E0-4278-9B52-668D98F5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9530A0-5F92-497D-B94C-15C0D4DA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06543-D976-47EE-B33A-8840AC69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765BF-3278-489B-BC46-DB21EAAC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C0D94D-0591-4BD3-95F2-2E695C97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8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A6FB-A045-4E3D-80B1-FE423BF60B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ruanPPT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54A3-8378-4E73-9CF7-544058735C8E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1ADC-5116-4262-B319-C183A4AC958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图片 11" descr="BRIGHT F 1.png"/>
          <p:cNvPicPr/>
          <p:nvPr/>
        </p:nvPicPr>
        <p:blipFill>
          <a:blip r:embed="rId4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9" name="图片 12" descr="BRIGHT F 2.png"/>
          <p:cNvPicPr/>
          <p:nvPr/>
        </p:nvPicPr>
        <p:blipFill>
          <a:blip r:embed="rId5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3" descr="DOWN G.png"/>
          <p:cNvPicPr/>
          <p:nvPr/>
        </p:nvPicPr>
        <p:blipFill>
          <a:blip r:embed="rId6"/>
          <a:stretch/>
        </p:blipFill>
        <p:spPr>
          <a:xfrm>
            <a:off x="0" y="4667400"/>
            <a:ext cx="9142560" cy="219060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44B4-B763-4147-9DF7-E97DC33FBA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5D54-CC4C-4D1C-85C3-82F71C5EBD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C088-9E75-4DDE-B973-C7FB6102AD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8C1A-ACEB-4CFE-B61A-61597C8B73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E26D-ED4E-4F7B-96FB-4947A79037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92B4-F19B-4030-9EBC-D8A451BDF4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656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AAF6-5A68-450D-9E21-AE7657269A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700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3A26-7F86-4E79-8FC5-01A85B1DA3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3D6A-D79D-4F1C-981C-CA443E63D5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3A2A-F20C-4C8A-A39B-78D10A656F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图片 6" descr="DOWN G.png"/>
          <p:cNvPicPr/>
          <p:nvPr/>
        </p:nvPicPr>
        <p:blipFill>
          <a:blip r:embed="rId3"/>
          <a:stretch/>
        </p:blipFill>
        <p:spPr>
          <a:xfrm>
            <a:off x="0" y="4667400"/>
            <a:ext cx="9142560" cy="219060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13" descr="LEFT TOP FLOWER.png"/>
          <p:cNvPicPr/>
          <p:nvPr/>
        </p:nvPicPr>
        <p:blipFill>
          <a:blip r:embed="rId4"/>
          <a:stretch/>
        </p:blipFill>
        <p:spPr>
          <a:xfrm>
            <a:off x="0" y="0"/>
            <a:ext cx="3753000" cy="217188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17" descr="ruanPPT FLOWER~.png"/>
          <p:cNvPicPr/>
          <p:nvPr/>
        </p:nvPicPr>
        <p:blipFill>
          <a:blip r:embed="rId5"/>
          <a:stretch/>
        </p:blipFill>
        <p:spPr>
          <a:xfrm>
            <a:off x="0" y="2362320"/>
            <a:ext cx="9142560" cy="449568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6178-0422-4130-A7AB-8C6750B107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6" descr="DOWN G.png"/>
          <p:cNvPicPr/>
          <p:nvPr/>
        </p:nvPicPr>
        <p:blipFill>
          <a:blip r:embed="rId3"/>
          <a:stretch/>
        </p:blipFill>
        <p:spPr>
          <a:xfrm>
            <a:off x="0" y="4667400"/>
            <a:ext cx="9142560" cy="21906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3" descr="LEFT TOP FLOWER.png"/>
          <p:cNvPicPr/>
          <p:nvPr/>
        </p:nvPicPr>
        <p:blipFill>
          <a:blip r:embed="rId4"/>
          <a:stretch/>
        </p:blipFill>
        <p:spPr>
          <a:xfrm>
            <a:off x="0" y="0"/>
            <a:ext cx="3753000" cy="2171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7" descr="ruanPPT FLOWER~.png"/>
          <p:cNvPicPr/>
          <p:nvPr/>
        </p:nvPicPr>
        <p:blipFill>
          <a:blip r:embed="rId5"/>
          <a:stretch/>
        </p:blipFill>
        <p:spPr>
          <a:xfrm>
            <a:off x="0" y="2362320"/>
            <a:ext cx="9142560" cy="449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A8C0-E4DA-40FA-B40E-7EF01530D7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1" descr="left white.png"/>
          <p:cNvPicPr/>
          <p:nvPr/>
        </p:nvPicPr>
        <p:blipFill>
          <a:blip r:embed="rId3"/>
          <a:stretch/>
        </p:blipFill>
        <p:spPr>
          <a:xfrm>
            <a:off x="0" y="3305160"/>
            <a:ext cx="6296040" cy="35528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2" descr="down  green.png"/>
          <p:cNvPicPr/>
          <p:nvPr/>
        </p:nvPicPr>
        <p:blipFill>
          <a:blip r:embed="rId4"/>
          <a:stretch/>
        </p:blipFill>
        <p:spPr>
          <a:xfrm>
            <a:off x="0" y="4305240"/>
            <a:ext cx="9142560" cy="25527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" descr="big white.png"/>
          <p:cNvPicPr/>
          <p:nvPr/>
        </p:nvPicPr>
        <p:blipFill>
          <a:blip r:embed="rId5"/>
          <a:stretch/>
        </p:blipFill>
        <p:spPr>
          <a:xfrm>
            <a:off x="0" y="0"/>
            <a:ext cx="9142560" cy="573408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3" descr="left flower.png"/>
          <p:cNvPicPr/>
          <p:nvPr/>
        </p:nvPicPr>
        <p:blipFill>
          <a:blip r:embed="rId6"/>
          <a:stretch/>
        </p:blipFill>
        <p:spPr>
          <a:xfrm>
            <a:off x="0" y="0"/>
            <a:ext cx="5095800" cy="25336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4" descr="right flower.png"/>
          <p:cNvPicPr/>
          <p:nvPr/>
        </p:nvPicPr>
        <p:blipFill>
          <a:blip r:embed="rId7"/>
          <a:stretch/>
        </p:blipFill>
        <p:spPr>
          <a:xfrm>
            <a:off x="3695760" y="3514680"/>
            <a:ext cx="5448240" cy="334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6" descr="ruanPPT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1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9F9-C919-49AE-8034-AF5CD11CB4F2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6D1D-4435-463F-9AFD-A359FB42B13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11" descr="BRIGHT F 1.png"/>
          <p:cNvPicPr/>
          <p:nvPr/>
        </p:nvPicPr>
        <p:blipFill>
          <a:blip r:embed="rId4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2" descr="BRIGHT F 2.png"/>
          <p:cNvPicPr/>
          <p:nvPr/>
        </p:nvPicPr>
        <p:blipFill>
          <a:blip r:embed="rId5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3" descr="DOWN G.png"/>
          <p:cNvPicPr/>
          <p:nvPr/>
        </p:nvPicPr>
        <p:blipFill>
          <a:blip r:embed="rId6"/>
          <a:stretch/>
        </p:blipFill>
        <p:spPr>
          <a:xfrm>
            <a:off x="0" y="4667400"/>
            <a:ext cx="9142560" cy="21906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24E3-37DE-4EDA-BABA-4104F7310C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10" descr="BIG WHITE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1" descr="LEFT GREEN.png"/>
          <p:cNvPicPr/>
          <p:nvPr/>
        </p:nvPicPr>
        <p:blipFill>
          <a:blip r:embed="rId4"/>
          <a:stretch/>
        </p:blipFill>
        <p:spPr>
          <a:xfrm>
            <a:off x="0" y="0"/>
            <a:ext cx="1828800" cy="685656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2" descr="BRIGHT F 1.pn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308628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13" descr="BRIGHT F 2.png"/>
          <p:cNvPicPr/>
          <p:nvPr/>
        </p:nvPicPr>
        <p:blipFill>
          <a:blip r:embed="rId6"/>
          <a:stretch/>
        </p:blipFill>
        <p:spPr>
          <a:xfrm>
            <a:off x="0" y="1219320"/>
            <a:ext cx="2266920" cy="563868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4" descr="LEFT FLOWER,DOWN.png"/>
          <p:cNvPicPr/>
          <p:nvPr/>
        </p:nvPicPr>
        <p:blipFill>
          <a:blip r:embed="rId7"/>
          <a:stretch/>
        </p:blipFill>
        <p:spPr>
          <a:xfrm>
            <a:off x="0" y="3514680"/>
            <a:ext cx="1467000" cy="3343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AE91-A4F5-4CEA-A79F-32ED40B8CA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7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png"/><Relationship Id="rId3" Type="http://schemas.openxmlformats.org/officeDocument/2006/relationships/image" Target="../media/image19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57400" y="231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785520" y="4785840"/>
            <a:ext cx="41432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3"/>
          <p:cNvSpPr/>
          <p:nvPr/>
        </p:nvSpPr>
        <p:spPr>
          <a:xfrm>
            <a:off x="1234800" y="331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2530080" y="2997360"/>
            <a:ext cx="32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通用动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714240" y="500040"/>
            <a:ext cx="2380680" cy="1085760"/>
            <a:chOff x="714240" y="500040"/>
            <a:chExt cx="2380680" cy="1085760"/>
          </a:xfrm>
        </p:grpSpPr>
        <p:sp>
          <p:nvSpPr>
            <p:cNvPr id="872" name="TextBox 4"/>
            <p:cNvSpPr/>
            <p:nvPr/>
          </p:nvSpPr>
          <p:spPr>
            <a:xfrm>
              <a:off x="1908360" y="57132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3" name="图片 6" descr="ICON2.png"/>
            <p:cNvPicPr/>
            <p:nvPr/>
          </p:nvPicPr>
          <p:blipFill>
            <a:blip r:embed="rId2"/>
            <a:stretch/>
          </p:blipFill>
          <p:spPr>
            <a:xfrm>
              <a:off x="714240" y="500040"/>
              <a:ext cx="1105200" cy="108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4" name=""/>
          <p:cNvGrpSpPr/>
          <p:nvPr/>
        </p:nvGrpSpPr>
        <p:grpSpPr>
          <a:xfrm>
            <a:off x="1714680" y="2428920"/>
            <a:ext cx="5495760" cy="949320"/>
            <a:chOff x="1714680" y="2428920"/>
            <a:chExt cx="5495760" cy="949320"/>
          </a:xfrm>
        </p:grpSpPr>
        <p:grpSp>
          <p:nvGrpSpPr>
            <p:cNvPr id="875" name=""/>
            <p:cNvGrpSpPr/>
            <p:nvPr/>
          </p:nvGrpSpPr>
          <p:grpSpPr>
            <a:xfrm>
              <a:off x="1898640" y="2439720"/>
              <a:ext cx="5311800" cy="689040"/>
              <a:chOff x="1898640" y="2439720"/>
              <a:chExt cx="5311800" cy="68904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1898640" y="2439720"/>
                <a:ext cx="5311800" cy="689040"/>
                <a:chOff x="1898640" y="2439720"/>
                <a:chExt cx="5311800" cy="689040"/>
              </a:xfrm>
            </p:grpSpPr>
            <p:sp>
              <p:nvSpPr>
                <p:cNvPr id="877" name="AutoShape 3"/>
                <p:cNvSpPr/>
                <p:nvPr/>
              </p:nvSpPr>
              <p:spPr>
                <a:xfrm>
                  <a:off x="1898640" y="2439720"/>
                  <a:ext cx="531180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1911600" y="2460960"/>
                  <a:ext cx="5292000" cy="636840"/>
                  <a:chOff x="1911600" y="2460960"/>
                  <a:chExt cx="5292000" cy="636840"/>
                </a:xfrm>
              </p:grpSpPr>
              <p:sp>
                <p:nvSpPr>
                  <p:cNvPr id="879" name="AutoShape 5"/>
                  <p:cNvSpPr/>
                  <p:nvPr/>
                </p:nvSpPr>
                <p:spPr>
                  <a:xfrm>
                    <a:off x="1911600" y="2932920"/>
                    <a:ext cx="529200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0b5cc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0" name="AutoShape 6"/>
                  <p:cNvSpPr/>
                  <p:nvPr/>
                </p:nvSpPr>
                <p:spPr>
                  <a:xfrm>
                    <a:off x="1911600" y="2460960"/>
                    <a:ext cx="529200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0b5cc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881" name="Text Box 23"/>
              <p:cNvSpPr/>
              <p:nvPr/>
            </p:nvSpPr>
            <p:spPr>
              <a:xfrm>
                <a:off x="2376360" y="2547720"/>
                <a:ext cx="449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lick to add title in here  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Text Box 33"/>
              <p:cNvSpPr/>
              <p:nvPr/>
            </p:nvSpPr>
            <p:spPr>
              <a:xfrm>
                <a:off x="2036520" y="2526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3" name="Picture 29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1714680" y="2428920"/>
              <a:ext cx="79200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4" name=""/>
          <p:cNvGrpSpPr/>
          <p:nvPr/>
        </p:nvGrpSpPr>
        <p:grpSpPr>
          <a:xfrm>
            <a:off x="1703520" y="1571760"/>
            <a:ext cx="5506920" cy="949320"/>
            <a:chOff x="1703520" y="1571760"/>
            <a:chExt cx="5506920" cy="949320"/>
          </a:xfrm>
        </p:grpSpPr>
        <p:grpSp>
          <p:nvGrpSpPr>
            <p:cNvPr id="885" name=""/>
            <p:cNvGrpSpPr/>
            <p:nvPr/>
          </p:nvGrpSpPr>
          <p:grpSpPr>
            <a:xfrm>
              <a:off x="1898640" y="1576440"/>
              <a:ext cx="5311800" cy="689040"/>
              <a:chOff x="1898640" y="1576440"/>
              <a:chExt cx="5311800" cy="68904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1898640" y="1576440"/>
                <a:ext cx="5311800" cy="689040"/>
                <a:chOff x="1898640" y="1576440"/>
                <a:chExt cx="5311800" cy="689040"/>
              </a:xfrm>
            </p:grpSpPr>
            <p:sp>
              <p:nvSpPr>
                <p:cNvPr id="887" name="AutoShape 18"/>
                <p:cNvSpPr/>
                <p:nvPr/>
              </p:nvSpPr>
              <p:spPr>
                <a:xfrm>
                  <a:off x="1898640" y="1576440"/>
                  <a:ext cx="531180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f0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88" name=""/>
                <p:cNvGrpSpPr/>
                <p:nvPr/>
              </p:nvGrpSpPr>
              <p:grpSpPr>
                <a:xfrm>
                  <a:off x="1911600" y="1597680"/>
                  <a:ext cx="5292000" cy="636840"/>
                  <a:chOff x="1911600" y="1597680"/>
                  <a:chExt cx="5292000" cy="636840"/>
                </a:xfrm>
              </p:grpSpPr>
              <p:sp>
                <p:nvSpPr>
                  <p:cNvPr id="889" name="AutoShape 21"/>
                  <p:cNvSpPr/>
                  <p:nvPr/>
                </p:nvSpPr>
                <p:spPr>
                  <a:xfrm>
                    <a:off x="1911600" y="1597680"/>
                    <a:ext cx="529200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0ad00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0" name="AutoShape 20"/>
                  <p:cNvSpPr/>
                  <p:nvPr/>
                </p:nvSpPr>
                <p:spPr>
                  <a:xfrm>
                    <a:off x="1911600" y="2069640"/>
                    <a:ext cx="529200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0ad00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891" name="Text Box 22"/>
              <p:cNvSpPr/>
              <p:nvPr/>
            </p:nvSpPr>
            <p:spPr>
              <a:xfrm>
                <a:off x="2365200" y="1690560"/>
                <a:ext cx="449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lick to add title in here  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Text Box 32"/>
              <p:cNvSpPr/>
              <p:nvPr/>
            </p:nvSpPr>
            <p:spPr>
              <a:xfrm>
                <a:off x="2023920" y="16682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93" name="Picture 30" descr="1"/>
            <p:cNvPicPr/>
            <p:nvPr/>
          </p:nvPicPr>
          <p:blipFill>
            <a:blip r:embed="rId4"/>
            <a:srcRect l="42620" t="64489" r="19467" b="0"/>
            <a:stretch/>
          </p:blipFill>
          <p:spPr>
            <a:xfrm>
              <a:off x="1703520" y="1571760"/>
              <a:ext cx="79200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4" name=""/>
          <p:cNvGrpSpPr/>
          <p:nvPr/>
        </p:nvGrpSpPr>
        <p:grpSpPr>
          <a:xfrm>
            <a:off x="1698480" y="4125960"/>
            <a:ext cx="5511960" cy="949320"/>
            <a:chOff x="1698480" y="4125960"/>
            <a:chExt cx="5511960" cy="949320"/>
          </a:xfrm>
        </p:grpSpPr>
        <p:grpSp>
          <p:nvGrpSpPr>
            <p:cNvPr id="895" name=""/>
            <p:cNvGrpSpPr/>
            <p:nvPr/>
          </p:nvGrpSpPr>
          <p:grpSpPr>
            <a:xfrm>
              <a:off x="1898280" y="4162320"/>
              <a:ext cx="5312160" cy="689040"/>
              <a:chOff x="1898280" y="4162320"/>
              <a:chExt cx="5312160" cy="689040"/>
            </a:xfrm>
          </p:grpSpPr>
          <p:sp>
            <p:nvSpPr>
              <p:cNvPr id="896" name="AutoShape 13"/>
              <p:cNvSpPr/>
              <p:nvPr/>
            </p:nvSpPr>
            <p:spPr>
              <a:xfrm>
                <a:off x="1898280" y="4162320"/>
                <a:ext cx="5312160" cy="689040"/>
              </a:xfrm>
              <a:prstGeom prst="roundRect">
                <a:avLst>
                  <a:gd name="adj" fmla="val 17509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97" name=""/>
              <p:cNvGrpSpPr/>
              <p:nvPr/>
            </p:nvGrpSpPr>
            <p:grpSpPr>
              <a:xfrm>
                <a:off x="1911240" y="4183560"/>
                <a:ext cx="5292360" cy="636840"/>
                <a:chOff x="1911240" y="4183560"/>
                <a:chExt cx="5292360" cy="636840"/>
              </a:xfrm>
            </p:grpSpPr>
            <p:sp>
              <p:nvSpPr>
                <p:cNvPr id="898" name="AutoShape 15"/>
                <p:cNvSpPr/>
                <p:nvPr/>
              </p:nvSpPr>
              <p:spPr>
                <a:xfrm>
                  <a:off x="1911240" y="4655520"/>
                  <a:ext cx="529236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80000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9" name="AutoShape 16"/>
                <p:cNvSpPr/>
                <p:nvPr/>
              </p:nvSpPr>
              <p:spPr>
                <a:xfrm>
                  <a:off x="1911240" y="4183560"/>
                  <a:ext cx="529236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8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00" name="Text Box 25"/>
            <p:cNvSpPr/>
            <p:nvPr/>
          </p:nvSpPr>
          <p:spPr>
            <a:xfrm>
              <a:off x="2376360" y="4254480"/>
              <a:ext cx="44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1" name="Picture 27" descr="1"/>
            <p:cNvPicPr/>
            <p:nvPr/>
          </p:nvPicPr>
          <p:blipFill>
            <a:blip r:embed="rId5"/>
            <a:srcRect l="42620" t="64489" r="19467" b="0"/>
            <a:stretch/>
          </p:blipFill>
          <p:spPr>
            <a:xfrm>
              <a:off x="1698480" y="412596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 Box 31"/>
            <p:cNvSpPr/>
            <p:nvPr/>
          </p:nvSpPr>
          <p:spPr>
            <a:xfrm>
              <a:off x="2044440" y="4262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714680" y="3279600"/>
            <a:ext cx="5495760" cy="949680"/>
            <a:chOff x="1714680" y="3279600"/>
            <a:chExt cx="5495760" cy="949680"/>
          </a:xfrm>
        </p:grpSpPr>
        <p:grpSp>
          <p:nvGrpSpPr>
            <p:cNvPr id="904" name=""/>
            <p:cNvGrpSpPr/>
            <p:nvPr/>
          </p:nvGrpSpPr>
          <p:grpSpPr>
            <a:xfrm>
              <a:off x="1898640" y="3304800"/>
              <a:ext cx="5311800" cy="689400"/>
              <a:chOff x="1898640" y="3304800"/>
              <a:chExt cx="5311800" cy="689400"/>
            </a:xfrm>
          </p:grpSpPr>
          <p:sp>
            <p:nvSpPr>
              <p:cNvPr id="905" name="AutoShape 8"/>
              <p:cNvSpPr/>
              <p:nvPr/>
            </p:nvSpPr>
            <p:spPr>
              <a:xfrm>
                <a:off x="1898640" y="3304800"/>
                <a:ext cx="5311800" cy="689400"/>
              </a:xfrm>
              <a:prstGeom prst="roundRect">
                <a:avLst>
                  <a:gd name="adj" fmla="val 17509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1911600" y="3326040"/>
                <a:ext cx="5292000" cy="637200"/>
                <a:chOff x="1911600" y="3326040"/>
                <a:chExt cx="5292000" cy="637200"/>
              </a:xfrm>
            </p:grpSpPr>
            <p:sp>
              <p:nvSpPr>
                <p:cNvPr id="907" name="AutoShape 10"/>
                <p:cNvSpPr/>
                <p:nvPr/>
              </p:nvSpPr>
              <p:spPr>
                <a:xfrm>
                  <a:off x="1911600" y="3798360"/>
                  <a:ext cx="529200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8bba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8" name="AutoShape 11"/>
                <p:cNvSpPr/>
                <p:nvPr/>
              </p:nvSpPr>
              <p:spPr>
                <a:xfrm>
                  <a:off x="1911600" y="3326040"/>
                  <a:ext cx="529200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68bba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09" name="Text Box 24"/>
            <p:cNvSpPr/>
            <p:nvPr/>
          </p:nvSpPr>
          <p:spPr>
            <a:xfrm>
              <a:off x="2376360" y="340668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0" name="Picture 28" descr="1"/>
            <p:cNvPicPr/>
            <p:nvPr/>
          </p:nvPicPr>
          <p:blipFill>
            <a:blip r:embed="rId6"/>
            <a:srcRect l="42620" t="64489" r="19467" b="0"/>
            <a:stretch/>
          </p:blipFill>
          <p:spPr>
            <a:xfrm>
              <a:off x="1714680" y="3279600"/>
              <a:ext cx="79200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Text Box 34"/>
            <p:cNvSpPr/>
            <p:nvPr/>
          </p:nvSpPr>
          <p:spPr>
            <a:xfrm>
              <a:off x="2036880" y="34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714680" y="5000760"/>
            <a:ext cx="5511600" cy="949320"/>
            <a:chOff x="1714680" y="5000760"/>
            <a:chExt cx="5511600" cy="949320"/>
          </a:xfrm>
        </p:grpSpPr>
        <p:grpSp>
          <p:nvGrpSpPr>
            <p:cNvPr id="913" name=""/>
            <p:cNvGrpSpPr/>
            <p:nvPr/>
          </p:nvGrpSpPr>
          <p:grpSpPr>
            <a:xfrm>
              <a:off x="1914480" y="5037120"/>
              <a:ext cx="5311800" cy="689040"/>
              <a:chOff x="1914480" y="5037120"/>
              <a:chExt cx="5311800" cy="689040"/>
            </a:xfrm>
          </p:grpSpPr>
          <p:sp>
            <p:nvSpPr>
              <p:cNvPr id="914" name="AutoShape 13"/>
              <p:cNvSpPr/>
              <p:nvPr/>
            </p:nvSpPr>
            <p:spPr>
              <a:xfrm>
                <a:off x="1914480" y="5037120"/>
                <a:ext cx="5311800" cy="689040"/>
              </a:xfrm>
              <a:prstGeom prst="roundRect">
                <a:avLst>
                  <a:gd name="adj" fmla="val 17509"/>
                </a:avLst>
              </a:pr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1927440" y="5058360"/>
                <a:ext cx="5292000" cy="636840"/>
                <a:chOff x="1927440" y="5058360"/>
                <a:chExt cx="5292000" cy="636840"/>
              </a:xfrm>
            </p:grpSpPr>
            <p:sp>
              <p:nvSpPr>
                <p:cNvPr id="916" name="AutoShape 15"/>
                <p:cNvSpPr/>
                <p:nvPr/>
              </p:nvSpPr>
              <p:spPr>
                <a:xfrm>
                  <a:off x="1927440" y="5530320"/>
                  <a:ext cx="529200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80000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7" name="AutoShape 16"/>
                <p:cNvSpPr/>
                <p:nvPr/>
              </p:nvSpPr>
              <p:spPr>
                <a:xfrm>
                  <a:off x="1927440" y="5058360"/>
                  <a:ext cx="529200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8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18" name="Text Box 25"/>
            <p:cNvSpPr/>
            <p:nvPr/>
          </p:nvSpPr>
          <p:spPr>
            <a:xfrm>
              <a:off x="2392560" y="512928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9" name="Picture 27" descr="1"/>
            <p:cNvPicPr/>
            <p:nvPr/>
          </p:nvPicPr>
          <p:blipFill>
            <a:blip r:embed="rId7"/>
            <a:srcRect l="42620" t="64489" r="19467" b="0"/>
            <a:stretch/>
          </p:blipFill>
          <p:spPr>
            <a:xfrm>
              <a:off x="1714680" y="500076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31"/>
            <p:cNvSpPr/>
            <p:nvPr/>
          </p:nvSpPr>
          <p:spPr>
            <a:xfrm>
              <a:off x="2060640" y="5137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785880" y="557280"/>
            <a:ext cx="2380680" cy="1085760"/>
            <a:chOff x="785880" y="557280"/>
            <a:chExt cx="2380680" cy="1085760"/>
          </a:xfrm>
        </p:grpSpPr>
        <p:sp>
          <p:nvSpPr>
            <p:cNvPr id="922" name="TextBox 2"/>
            <p:cNvSpPr/>
            <p:nvPr/>
          </p:nvSpPr>
          <p:spPr>
            <a:xfrm>
              <a:off x="1980000" y="62856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3" name="图片 3" descr="ICON2.png"/>
            <p:cNvPicPr/>
            <p:nvPr/>
          </p:nvPicPr>
          <p:blipFill>
            <a:blip r:embed="rId2"/>
            <a:stretch/>
          </p:blipFill>
          <p:spPr>
            <a:xfrm>
              <a:off x="785880" y="557280"/>
              <a:ext cx="1104840" cy="108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4" name="TextBox 4"/>
          <p:cNvSpPr/>
          <p:nvPr/>
        </p:nvSpPr>
        <p:spPr>
          <a:xfrm>
            <a:off x="1684800" y="2143080"/>
            <a:ext cx="72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1143000" y="2500200"/>
            <a:ext cx="3508200" cy="1357560"/>
            <a:chOff x="1143000" y="2500200"/>
            <a:chExt cx="3508200" cy="1357560"/>
          </a:xfrm>
        </p:grpSpPr>
        <p:grpSp>
          <p:nvGrpSpPr>
            <p:cNvPr id="926" name=""/>
            <p:cNvGrpSpPr/>
            <p:nvPr/>
          </p:nvGrpSpPr>
          <p:grpSpPr>
            <a:xfrm>
              <a:off x="1395720" y="3037680"/>
              <a:ext cx="3255480" cy="820080"/>
              <a:chOff x="1395720" y="3037680"/>
              <a:chExt cx="3255480" cy="820080"/>
            </a:xfrm>
          </p:grpSpPr>
          <p:pic>
            <p:nvPicPr>
              <p:cNvPr id="927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395720" y="3037680"/>
                <a:ext cx="3255480" cy="82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8" name=""/>
              <p:cNvSpPr/>
              <p:nvPr/>
            </p:nvSpPr>
            <p:spPr>
              <a:xfrm>
                <a:off x="1469520" y="3087000"/>
                <a:ext cx="3112200" cy="68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29" name="图片 5" descr="ICON1.png"/>
            <p:cNvPicPr/>
            <p:nvPr/>
          </p:nvPicPr>
          <p:blipFill>
            <a:blip r:embed="rId3"/>
            <a:stretch/>
          </p:blipFill>
          <p:spPr>
            <a:xfrm>
              <a:off x="1143000" y="2500200"/>
              <a:ext cx="1071360" cy="11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TextBox 43"/>
            <p:cNvSpPr/>
            <p:nvPr/>
          </p:nvSpPr>
          <p:spPr>
            <a:xfrm>
              <a:off x="2642760" y="31453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4803840" y="2428920"/>
            <a:ext cx="4076640" cy="1436760"/>
            <a:chOff x="4803840" y="2428920"/>
            <a:chExt cx="4076640" cy="1436760"/>
          </a:xfrm>
        </p:grpSpPr>
        <p:grpSp>
          <p:nvGrpSpPr>
            <p:cNvPr id="932" name=""/>
            <p:cNvGrpSpPr/>
            <p:nvPr/>
          </p:nvGrpSpPr>
          <p:grpSpPr>
            <a:xfrm>
              <a:off x="4803840" y="3038760"/>
              <a:ext cx="3250440" cy="826920"/>
              <a:chOff x="4803840" y="3038760"/>
              <a:chExt cx="3250440" cy="826920"/>
            </a:xfrm>
          </p:grpSpPr>
          <p:pic>
            <p:nvPicPr>
              <p:cNvPr id="933" name="AutoShap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3840" y="3038760"/>
                <a:ext cx="3250440" cy="82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"/>
              <p:cNvSpPr/>
              <p:nvPr/>
            </p:nvSpPr>
            <p:spPr>
              <a:xfrm>
                <a:off x="4877640" y="3088800"/>
                <a:ext cx="310716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35" name="图片 6" descr="ICON3.png"/>
            <p:cNvPicPr/>
            <p:nvPr/>
          </p:nvPicPr>
          <p:blipFill>
            <a:blip r:embed="rId5"/>
            <a:stretch/>
          </p:blipFill>
          <p:spPr>
            <a:xfrm>
              <a:off x="6935040" y="2428920"/>
              <a:ext cx="1945440" cy="133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TextBox 44"/>
            <p:cNvSpPr/>
            <p:nvPr/>
          </p:nvSpPr>
          <p:spPr>
            <a:xfrm>
              <a:off x="5433120" y="3147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1214280" y="3714840"/>
            <a:ext cx="3405240" cy="1361880"/>
            <a:chOff x="1214280" y="3714840"/>
            <a:chExt cx="3405240" cy="1361880"/>
          </a:xfrm>
        </p:grpSpPr>
        <p:grpSp>
          <p:nvGrpSpPr>
            <p:cNvPr id="938" name=""/>
            <p:cNvGrpSpPr/>
            <p:nvPr/>
          </p:nvGrpSpPr>
          <p:grpSpPr>
            <a:xfrm>
              <a:off x="1365120" y="4326840"/>
              <a:ext cx="3254400" cy="749880"/>
              <a:chOff x="1365120" y="4326840"/>
              <a:chExt cx="3254400" cy="749880"/>
            </a:xfrm>
          </p:grpSpPr>
          <p:pic>
            <p:nvPicPr>
              <p:cNvPr id="939" name="AutoShap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1365120" y="4326840"/>
                <a:ext cx="32544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"/>
              <p:cNvSpPr/>
              <p:nvPr/>
            </p:nvSpPr>
            <p:spPr>
              <a:xfrm>
                <a:off x="1440360" y="4374360"/>
                <a:ext cx="31129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41" name="图片 49" descr="ICON1.png"/>
            <p:cNvPicPr/>
            <p:nvPr/>
          </p:nvPicPr>
          <p:blipFill>
            <a:blip r:embed="rId7"/>
            <a:stretch/>
          </p:blipFill>
          <p:spPr>
            <a:xfrm>
              <a:off x="1214280" y="3714840"/>
              <a:ext cx="1070640" cy="11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TextBox 50"/>
            <p:cNvSpPr/>
            <p:nvPr/>
          </p:nvSpPr>
          <p:spPr>
            <a:xfrm>
              <a:off x="2713320" y="43624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3840" y="3643200"/>
            <a:ext cx="4076640" cy="1435320"/>
            <a:chOff x="4803840" y="3643200"/>
            <a:chExt cx="4076640" cy="1435320"/>
          </a:xfrm>
        </p:grpSpPr>
        <p:grpSp>
          <p:nvGrpSpPr>
            <p:cNvPr id="944" name=""/>
            <p:cNvGrpSpPr/>
            <p:nvPr/>
          </p:nvGrpSpPr>
          <p:grpSpPr>
            <a:xfrm>
              <a:off x="4803840" y="4325040"/>
              <a:ext cx="3250440" cy="753480"/>
              <a:chOff x="4803840" y="4325040"/>
              <a:chExt cx="3250440" cy="753480"/>
            </a:xfrm>
          </p:grpSpPr>
          <p:pic>
            <p:nvPicPr>
              <p:cNvPr id="945" name="AutoShape 8" descr=""/>
              <p:cNvPicPr/>
              <p:nvPr/>
            </p:nvPicPr>
            <p:blipFill>
              <a:blip r:embed="rId8"/>
              <a:stretch/>
            </p:blipFill>
            <p:spPr>
              <a:xfrm>
                <a:off x="4803840" y="4325040"/>
                <a:ext cx="3250440" cy="75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6" name=""/>
              <p:cNvSpPr/>
              <p:nvPr/>
            </p:nvSpPr>
            <p:spPr>
              <a:xfrm>
                <a:off x="4876200" y="4373280"/>
                <a:ext cx="311004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47" name="图片 53" descr="ICON3.png"/>
            <p:cNvPicPr/>
            <p:nvPr/>
          </p:nvPicPr>
          <p:blipFill>
            <a:blip r:embed="rId9"/>
            <a:stretch/>
          </p:blipFill>
          <p:spPr>
            <a:xfrm>
              <a:off x="6935040" y="3643200"/>
              <a:ext cx="1945440" cy="13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54"/>
            <p:cNvSpPr/>
            <p:nvPr/>
          </p:nvSpPr>
          <p:spPr>
            <a:xfrm>
              <a:off x="5433120" y="44330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-358920" y="628560"/>
            <a:ext cx="6375600" cy="1292400"/>
            <a:chOff x="-358920" y="628560"/>
            <a:chExt cx="6375600" cy="1292400"/>
          </a:xfrm>
        </p:grpSpPr>
        <p:grpSp>
          <p:nvGrpSpPr>
            <p:cNvPr id="950" name=""/>
            <p:cNvGrpSpPr/>
            <p:nvPr/>
          </p:nvGrpSpPr>
          <p:grpSpPr>
            <a:xfrm>
              <a:off x="-358920" y="628560"/>
              <a:ext cx="6375600" cy="1292400"/>
              <a:chOff x="-358920" y="628560"/>
              <a:chExt cx="6375600" cy="1292400"/>
            </a:xfrm>
          </p:grpSpPr>
          <p:pic>
            <p:nvPicPr>
              <p:cNvPr id="951" name="剪去单角的矩形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-358920" y="628560"/>
                <a:ext cx="637560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2" name=""/>
              <p:cNvSpPr/>
              <p:nvPr/>
            </p:nvSpPr>
            <p:spPr>
              <a:xfrm>
                <a:off x="360" y="724320"/>
                <a:ext cx="5926680" cy="87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409680" y="644400"/>
              <a:ext cx="2479320" cy="1041480"/>
              <a:chOff x="409680" y="644400"/>
              <a:chExt cx="2479320" cy="1041480"/>
            </a:xfrm>
          </p:grpSpPr>
          <p:sp>
            <p:nvSpPr>
              <p:cNvPr id="954" name="TextBox 25"/>
              <p:cNvSpPr/>
              <p:nvPr/>
            </p:nvSpPr>
            <p:spPr>
              <a:xfrm>
                <a:off x="1702440" y="712800"/>
                <a:ext cx="118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栏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5" name="图片 26" descr="ICON2.png"/>
              <p:cNvPicPr/>
              <p:nvPr/>
            </p:nvPicPr>
            <p:blipFill>
              <a:blip r:embed="rId11"/>
              <a:stretch/>
            </p:blipFill>
            <p:spPr>
              <a:xfrm>
                <a:off x="409680" y="644400"/>
                <a:ext cx="1055520" cy="1041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"/>
          <p:cNvGrpSpPr/>
          <p:nvPr/>
        </p:nvGrpSpPr>
        <p:grpSpPr>
          <a:xfrm>
            <a:off x="-358920" y="628560"/>
            <a:ext cx="6375600" cy="1292400"/>
            <a:chOff x="-358920" y="628560"/>
            <a:chExt cx="6375600" cy="1292400"/>
          </a:xfrm>
        </p:grpSpPr>
        <p:grpSp>
          <p:nvGrpSpPr>
            <p:cNvPr id="960" name=""/>
            <p:cNvGrpSpPr/>
            <p:nvPr/>
          </p:nvGrpSpPr>
          <p:grpSpPr>
            <a:xfrm>
              <a:off x="-358920" y="628560"/>
              <a:ext cx="6375600" cy="1292400"/>
              <a:chOff x="-358920" y="628560"/>
              <a:chExt cx="6375600" cy="1292400"/>
            </a:xfrm>
          </p:grpSpPr>
          <p:pic>
            <p:nvPicPr>
              <p:cNvPr id="961" name="剪去单角的矩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-358920" y="628560"/>
                <a:ext cx="637560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2" name=""/>
              <p:cNvSpPr/>
              <p:nvPr/>
            </p:nvSpPr>
            <p:spPr>
              <a:xfrm>
                <a:off x="360" y="724320"/>
                <a:ext cx="5926680" cy="87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09680" y="644400"/>
              <a:ext cx="2479320" cy="1041480"/>
              <a:chOff x="409680" y="644400"/>
              <a:chExt cx="2479320" cy="1041480"/>
            </a:xfrm>
          </p:grpSpPr>
          <p:sp>
            <p:nvSpPr>
              <p:cNvPr id="964" name="TextBox 9"/>
              <p:cNvSpPr/>
              <p:nvPr/>
            </p:nvSpPr>
            <p:spPr>
              <a:xfrm>
                <a:off x="1702440" y="712800"/>
                <a:ext cx="118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栏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65" name="图片 10" descr="ICON2.png"/>
              <p:cNvPicPr/>
              <p:nvPr/>
            </p:nvPicPr>
            <p:blipFill>
              <a:blip r:embed="rId3"/>
              <a:stretch/>
            </p:blipFill>
            <p:spPr>
              <a:xfrm>
                <a:off x="409680" y="644400"/>
                <a:ext cx="1055520" cy="1041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6" name=""/>
          <p:cNvSpPr/>
          <p:nvPr/>
        </p:nvSpPr>
        <p:spPr>
          <a:xfrm>
            <a:off x="1403280" y="451008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4" descr="THANK YOU.png"/>
          <p:cNvPicPr/>
          <p:nvPr/>
        </p:nvPicPr>
        <p:blipFill>
          <a:blip r:embed="rId2"/>
          <a:stretch/>
        </p:blipFill>
        <p:spPr>
          <a:xfrm>
            <a:off x="0" y="1938240"/>
            <a:ext cx="9144000" cy="212400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5" descr="THANK YOU!!!.png"/>
          <p:cNvPicPr/>
          <p:nvPr/>
        </p:nvPicPr>
        <p:blipFill>
          <a:blip r:embed="rId3"/>
          <a:stretch/>
        </p:blipFill>
        <p:spPr>
          <a:xfrm>
            <a:off x="0" y="1928880"/>
            <a:ext cx="9142560" cy="21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9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05:42:58Z</dcterms:created>
  <dc:creator/>
  <dc:description/>
  <cp:keywords>幻灯片之家 http:/www.eeppt.com</cp:keywords>
  <dc:language>en-US</dc:language>
  <cp:lastModifiedBy/>
  <dcterms:modified xsi:type="dcterms:W3CDTF">2015-07-08T03:16:24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