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D58-F116-444D-A95D-CD7F0178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65A-B904-4FFB-B5C4-9B3E25C9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E27-5BFA-4DD2-BAB3-974878CA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FB9-E760-4342-8367-4CCD09C7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B11-5194-4739-A343-18CC1642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54A-715A-4EDD-AA20-8A7E31ED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048-AF1B-4605-9E60-951451B2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9AF-22C4-4F98-A384-398C7282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585-8083-4A52-81B9-116EF51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822-1322-4E95-9B1C-63E63D6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31C-81F2-4E4F-A49C-CCF5F38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1D2-6099-4622-95C4-1BF5D97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0EC-2D61-46A2-98FE-E8863028D3EB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　　　　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43" name="Picture 4" descr="pic_228556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324480" y="548640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大江苑小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黄彦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3800" y="53352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学会看病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004112214020635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004112214020635"/>
          <p:cNvPicPr/>
          <p:nvPr/>
        </p:nvPicPr>
        <p:blipFill>
          <a:blip r:embed="rId2"/>
          <a:stretch/>
        </p:blipFill>
        <p:spPr>
          <a:xfrm>
            <a:off x="380880" y="6095880"/>
            <a:ext cx="8305920" cy="381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09480" y="137160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建议：请父母阅读课文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阅读作业：阅读毕淑敏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孩子，我为什么打你？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实践作业：征得父母的同意后，独自到医院一趟，搞清楚看病的程序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line-flower74"/>
          <p:cNvPicPr/>
          <p:nvPr/>
        </p:nvPicPr>
        <p:blipFill>
          <a:blip r:embed="rId1"/>
          <a:stretch/>
        </p:blipFill>
        <p:spPr>
          <a:xfrm>
            <a:off x="609480" y="6172200"/>
            <a:ext cx="7925040" cy="53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line-flower74"/>
          <p:cNvPicPr/>
          <p:nvPr/>
        </p:nvPicPr>
        <p:blipFill>
          <a:blip r:embed="rId2"/>
          <a:stretch/>
        </p:blipFill>
        <p:spPr>
          <a:xfrm>
            <a:off x="685800" y="228600"/>
            <a:ext cx="7696080" cy="555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我想我一定是世上最狠心的母亲，在孩子有病的候，不但不帮助他，还给他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雪上加霜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。我就是想锻炼他，也该领着他一道去，一路上指点指点，让他先有个印象，以后再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按图索骥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。这样虽说可能留不下记忆的痕迹，但来日方长，又何必在意这病中的分分秒秒呢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8534520" y="6172200"/>
            <a:ext cx="304560" cy="45720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50" y="31063"/>
                </a:lnTo>
                <a:lnTo>
                  <a:pt x="20250" y="135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350" y="31063"/>
                </a:lnTo>
                <a:lnTo>
                  <a:pt x="20250" y="3106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63"/>
                </a:lnTo>
                <a:close/>
              </a:path>
              <a:path fill="darken" w="21600" h="32413">
                <a:moveTo>
                  <a:pt x="10800" y="9206"/>
                </a:moveTo>
                <a:lnTo>
                  <a:pt x="13390" y="11831"/>
                </a:lnTo>
                <a:lnTo>
                  <a:pt x="13390" y="10081"/>
                </a:lnTo>
                <a:lnTo>
                  <a:pt x="15175" y="10081"/>
                </a:lnTo>
                <a:lnTo>
                  <a:pt x="15175" y="13616"/>
                </a:lnTo>
                <a:lnTo>
                  <a:pt x="17800" y="16206"/>
                </a:lnTo>
                <a:lnTo>
                  <a:pt x="16138" y="16206"/>
                </a:lnTo>
                <a:lnTo>
                  <a:pt x="16138" y="23434"/>
                </a:lnTo>
                <a:lnTo>
                  <a:pt x="5463" y="23434"/>
                </a:lnTo>
                <a:lnTo>
                  <a:pt x="5463" y="16206"/>
                </a:lnTo>
                <a:lnTo>
                  <a:pt x="3800" y="16206"/>
                </a:lnTo>
                <a:close/>
              </a:path>
              <a:path fill="darkenLess" w="21600" h="32413">
                <a:moveTo>
                  <a:pt x="13390" y="11831"/>
                </a:moveTo>
                <a:lnTo>
                  <a:pt x="13390" y="10081"/>
                </a:lnTo>
                <a:lnTo>
                  <a:pt x="15175" y="10081"/>
                </a:lnTo>
                <a:lnTo>
                  <a:pt x="15175" y="13616"/>
                </a:lnTo>
                <a:close/>
              </a:path>
              <a:path fill="darkenLess" w="21600" h="32413">
                <a:moveTo>
                  <a:pt x="9873" y="19724"/>
                </a:moveTo>
                <a:lnTo>
                  <a:pt x="11728" y="19724"/>
                </a:lnTo>
                <a:lnTo>
                  <a:pt x="11728" y="23434"/>
                </a:lnTo>
                <a:lnTo>
                  <a:pt x="16138" y="23434"/>
                </a:lnTo>
                <a:lnTo>
                  <a:pt x="16138" y="16206"/>
                </a:lnTo>
                <a:lnTo>
                  <a:pt x="5463" y="16206"/>
                </a:lnTo>
                <a:lnTo>
                  <a:pt x="5463" y="23434"/>
                </a:lnTo>
                <a:lnTo>
                  <a:pt x="9873" y="23434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3B7-135D-4DBD-8B35-5AE8F0B8E1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2" name="Picture 4" descr="pic_2285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/>
          <p:cNvSpPr/>
          <p:nvPr/>
        </p:nvSpPr>
        <p:spPr>
          <a:xfrm>
            <a:off x="8610480" y="6400800"/>
            <a:ext cx="304920" cy="45720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50" y="31025"/>
                </a:lnTo>
                <a:lnTo>
                  <a:pt x="20250" y="135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350" y="31025"/>
                </a:lnTo>
                <a:lnTo>
                  <a:pt x="20250" y="3102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25"/>
                </a:lnTo>
                <a:close/>
              </a:path>
              <a:path fill="darken" w="21600" h="32375">
                <a:moveTo>
                  <a:pt x="10800" y="9187"/>
                </a:moveTo>
                <a:lnTo>
                  <a:pt x="13390" y="11812"/>
                </a:lnTo>
                <a:lnTo>
                  <a:pt x="13390" y="10062"/>
                </a:lnTo>
                <a:lnTo>
                  <a:pt x="15175" y="10062"/>
                </a:lnTo>
                <a:lnTo>
                  <a:pt x="15175" y="13597"/>
                </a:lnTo>
                <a:lnTo>
                  <a:pt x="17800" y="16187"/>
                </a:lnTo>
                <a:lnTo>
                  <a:pt x="16138" y="16187"/>
                </a:lnTo>
                <a:lnTo>
                  <a:pt x="16138" y="23415"/>
                </a:lnTo>
                <a:lnTo>
                  <a:pt x="5463" y="23415"/>
                </a:lnTo>
                <a:lnTo>
                  <a:pt x="5463" y="16187"/>
                </a:lnTo>
                <a:lnTo>
                  <a:pt x="3800" y="16187"/>
                </a:lnTo>
                <a:close/>
              </a:path>
              <a:path fill="darkenLess" w="21600" h="32375">
                <a:moveTo>
                  <a:pt x="13390" y="11812"/>
                </a:moveTo>
                <a:lnTo>
                  <a:pt x="13390" y="10062"/>
                </a:lnTo>
                <a:lnTo>
                  <a:pt x="15175" y="10062"/>
                </a:lnTo>
                <a:lnTo>
                  <a:pt x="15175" y="13597"/>
                </a:lnTo>
                <a:close/>
              </a:path>
              <a:path fill="darkenLess" w="21600" h="32375">
                <a:moveTo>
                  <a:pt x="9873" y="19705"/>
                </a:moveTo>
                <a:lnTo>
                  <a:pt x="11728" y="19705"/>
                </a:lnTo>
                <a:lnTo>
                  <a:pt x="11728" y="23415"/>
                </a:lnTo>
                <a:lnTo>
                  <a:pt x="16138" y="23415"/>
                </a:lnTo>
                <a:lnTo>
                  <a:pt x="16138" y="16187"/>
                </a:lnTo>
                <a:lnTo>
                  <a:pt x="5463" y="16187"/>
                </a:lnTo>
                <a:lnTo>
                  <a:pt x="5463" y="23415"/>
                </a:lnTo>
                <a:lnTo>
                  <a:pt x="9873" y="23415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时间艰涩地流动着，像沙漏坠入我忐忑不安的心房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6" name="Picture 8" descr="line-flower74"/>
          <p:cNvPicPr/>
          <p:nvPr/>
        </p:nvPicPr>
        <p:blipFill>
          <a:blip r:embed="rId1"/>
          <a:stretch/>
        </p:blipFill>
        <p:spPr>
          <a:xfrm>
            <a:off x="533520" y="5769000"/>
            <a:ext cx="7696080" cy="4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line-flower74"/>
          <p:cNvPicPr/>
          <p:nvPr/>
        </p:nvPicPr>
        <p:blipFill>
          <a:blip r:embed="rId2"/>
          <a:stretch/>
        </p:blipFill>
        <p:spPr>
          <a:xfrm>
            <a:off x="762120" y="609480"/>
            <a:ext cx="7696080" cy="533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2"/>
          <p:cNvSpPr/>
          <p:nvPr/>
        </p:nvSpPr>
        <p:spPr>
          <a:xfrm>
            <a:off x="8229600" y="5791320"/>
            <a:ext cx="304920" cy="45720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50" y="31025"/>
                </a:lnTo>
                <a:lnTo>
                  <a:pt x="20250" y="135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350" y="31025"/>
                </a:lnTo>
                <a:lnTo>
                  <a:pt x="20250" y="3102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25"/>
                </a:lnTo>
                <a:close/>
              </a:path>
              <a:path fill="darken" w="21600" h="32375">
                <a:moveTo>
                  <a:pt x="10800" y="9187"/>
                </a:moveTo>
                <a:lnTo>
                  <a:pt x="13390" y="11812"/>
                </a:lnTo>
                <a:lnTo>
                  <a:pt x="13390" y="10062"/>
                </a:lnTo>
                <a:lnTo>
                  <a:pt x="15175" y="10062"/>
                </a:lnTo>
                <a:lnTo>
                  <a:pt x="15175" y="13597"/>
                </a:lnTo>
                <a:lnTo>
                  <a:pt x="17800" y="16187"/>
                </a:lnTo>
                <a:lnTo>
                  <a:pt x="16138" y="16187"/>
                </a:lnTo>
                <a:lnTo>
                  <a:pt x="16138" y="23415"/>
                </a:lnTo>
                <a:lnTo>
                  <a:pt x="5463" y="23415"/>
                </a:lnTo>
                <a:lnTo>
                  <a:pt x="5463" y="16187"/>
                </a:lnTo>
                <a:lnTo>
                  <a:pt x="3800" y="16187"/>
                </a:lnTo>
                <a:close/>
              </a:path>
              <a:path fill="darkenLess" w="21600" h="32375">
                <a:moveTo>
                  <a:pt x="13390" y="11812"/>
                </a:moveTo>
                <a:lnTo>
                  <a:pt x="13390" y="10062"/>
                </a:lnTo>
                <a:lnTo>
                  <a:pt x="15175" y="10062"/>
                </a:lnTo>
                <a:lnTo>
                  <a:pt x="15175" y="13597"/>
                </a:lnTo>
                <a:close/>
              </a:path>
              <a:path fill="darkenLess" w="21600" h="32375">
                <a:moveTo>
                  <a:pt x="9873" y="19705"/>
                </a:moveTo>
                <a:lnTo>
                  <a:pt x="11728" y="19705"/>
                </a:lnTo>
                <a:lnTo>
                  <a:pt x="11728" y="23415"/>
                </a:lnTo>
                <a:lnTo>
                  <a:pt x="16138" y="23415"/>
                </a:lnTo>
                <a:lnTo>
                  <a:pt x="16138" y="16187"/>
                </a:lnTo>
                <a:lnTo>
                  <a:pt x="5463" y="16187"/>
                </a:lnTo>
                <a:lnTo>
                  <a:pt x="5463" y="23415"/>
                </a:lnTo>
                <a:lnTo>
                  <a:pt x="9873" y="23415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3276720" y="63244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8ff9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图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685800" y="3048120"/>
            <a:ext cx="7848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虽然我知道看病是件费时间的事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但我的心还是疼痛地收缩成一团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06640" y="6270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楷体"/>
                <a:ea typeface="楷体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762120" y="838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褐色的口罩上方，一对眼神疲惫的眼睛吃惊的望着我，我的母亲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762120" y="2895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二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他坚定地站起身，向那片废墟走去。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2120" y="44197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三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 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巴迪，真是你写的吗？多美的诗啊！精彩极了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看这首诗糟糕透了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        </a:t>
            </a: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请快速自读课文，注意读准字音，读通句子，想想文章写了一件什么事？它是通过什么来描写这位母亲的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04920" y="8380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762120" y="97776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倚在             艰涩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拖沓             坠入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怔住             噢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打蔫儿         喋喋不休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339920" y="4267080"/>
            <a:ext cx="68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忐忑不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4" name="Picture 41" descr="line-flower74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line-flower74"/>
          <p:cNvPicPr/>
          <p:nvPr/>
        </p:nvPicPr>
        <p:blipFill>
          <a:blip r:embed="rId2"/>
          <a:stretch/>
        </p:blipFill>
        <p:spPr>
          <a:xfrm>
            <a:off x="838080" y="5715000"/>
            <a:ext cx="76964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4920" y="8380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2120" y="90180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倚在             艰涩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拖沓             坠入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怔住             噢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打蔫儿         喋喋不休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339920" y="4267080"/>
            <a:ext cx="65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忐忑不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" name="Picture 5" descr="line-flower74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line-flower74"/>
          <p:cNvPicPr/>
          <p:nvPr/>
        </p:nvPicPr>
        <p:blipFill>
          <a:blip r:embed="rId2"/>
          <a:stretch/>
        </p:blipFill>
        <p:spPr>
          <a:xfrm>
            <a:off x="838080" y="5791320"/>
            <a:ext cx="7696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    </a:t>
            </a:r>
            <a:r>
              <a:rPr b="0" lang="zh-CN" sz="5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我的心立刻软了。是啊，孩子毕竟是孩子，而且是病中的孩子。</a:t>
            </a:r>
            <a:r>
              <a:rPr b="0" lang="zh-CN" sz="44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这样逼问一个生病的孩子也许是一种残忍。但我知道，总有一天他必须独立面对疾病。既然我是母亲，就应该及早教会他看病。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、这样逼问一个生病的孩子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……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、我的心立刻软了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……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、从他出门的那一分钟起，我就开始后悔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……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、时间艰涩地流动着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……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、虽然我毫无疑义地判定儿子患的只是普通感冒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……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、勇气又渐渐回到心里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……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、孩子，不要埋怨我在你生病时的冷漠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FR_0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在这些心理描写的句子中，你能体会到母亲的什么心情呢？请默读课文，在你体会最深的句子旁写下批注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3733920" y="6477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8ff9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忐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4648320" y="6477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8ff9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5:39:34Z</dcterms:created>
  <dc:creator/>
  <dc:description/>
  <cp:keywords>幻灯片之家 http:/www.eeppt.com</cp:keywords>
  <dc:language>en-US</dc:language>
  <cp:lastModifiedBy/>
  <dcterms:modified xsi:type="dcterms:W3CDTF">2015-07-14T03:06:54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