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1D4E-3874-4B5F-A4B4-48A12F4E6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B8FF-611F-431F-8AF4-5DC1A37C5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087A-6D89-4B7D-B066-E37AA8153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1557-BDC0-48A4-B35B-EFB028E6C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AE6C-9EBF-497C-AD14-61BC29CA0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B1AF-76E8-4F26-BA01-502F91BE8A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AA07-E6DB-4FF8-9AE9-7EBB36BEBA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899C-8E32-444A-B9A4-038DA02F97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3A8E-476F-4673-94E6-BB80D27951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7DC8-B3E2-486B-B758-4B0801BEC3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A923-6800-4AAF-9AC9-C29905729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BD94-F007-4E45-AD2D-3984A95FE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F353-326B-4F09-BF6F-D6B7756EFC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582F-1A7D-4666-9B9A-361F50813D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04F0-8E81-42B6-8CE5-4CE91BC9FB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6CFF-2EFD-4C3A-9046-48DF39F33E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697D-15D2-4097-82CB-70B5797B3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57A2-EDB1-41D5-AD66-267EF58A4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3065-A828-4D92-8FBF-E3D132D11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09C5-E4D6-46E7-92D2-873DBAC19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BDFE-0818-4438-A15A-5A0BCEF6B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8C85-D10E-471C-AD96-A32737816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5A02-352D-4BE6-B3CC-CC40D3B51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33EA-F306-421B-B6DE-F5D043662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9D1D-3FD5-49F7-9D3B-9A32F32469D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188-6FDC-41DE-A792-46744F6ED5E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662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《教育心理学》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64000" y="3068640"/>
            <a:ext cx="4929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导学策略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03480" y="4835520"/>
            <a:ext cx="412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50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作者：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XXX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方法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二）建议采用的学习方法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以自学为主，认真钻研教材，理解学习内容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；这一点一定要落到实处，否则“以自学为主”就是一句空话；不过按照“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教学模式”的设想，这里的“自学”有更为丰富的含义：除了同学自己钻研教材外，还应借助其它媒体的教材，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课件、电子教案等，以求收到事半功倍之效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以参加面授为辅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首先，以下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三节课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必须参加——开学第一课、期中考试、期末复习课。因为这三节课在整个学习过程中起着至关重要的关键作用；其次，在学习中遇到难题时，应随时到校与老师当面交流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738B-BBF1-4092-8320-06CAEAB952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充分利用多媒体教材及远程教育的优势。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如通过网络平台与老师、同学及时交流，以弥补不能到校上课的不足；另外，对每一章的教学内容，面授教师都会将重点、难点提炼出来，制成电子教案在校园网上发布，以帮助那些不能到校上课的同学跟上教学进度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本课程兼具理论性、实用性，是一门基础理论与应用学科。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因此，同学们在教学实践中应做个有心人，理论联系实际，在做中学，这样的学习才是更有效、更扎实的学习，效果也一定更好。比如，同一单位的同学，可以组成学习小组，在教学中遇到问题及时讨论，加深对理论知识的理解，促进教育教学工作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在学习中，既要学习知识，更要注重正确运用学习策略，以提高学习效率。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如可根据不同的学习材料选用不同的认知策略。如“案例分析”这种题型，就应该采取“理解策略”，即不必强记每个案例的具体答案，而是要掌握答题的基本方法、步骤，这样才能举一反三，一通百通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F812-48DD-4624-9824-AB7BFEE9B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应试指导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平时不能坚持自学或从不到校上课的同学，一定要上好复习课，临阵磨枪也许还来得及；而平时能坚持学习的同学，也要下功夫认真复习；不管属于哪一种情况，同学们都应采用“获取与编码”的学习策略，即根据知识的特征和类别进行整理、归纳，将所学的知识条理化、有序化、意义化，在此基础上融会贯通，全面记忆、理解、把握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由于是中央电大命题，所以复习范围可能会比较大，平时学习不够扎实的同学可能需要付出更多的努力，才能通过考试；对此要有足够的心理准备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考试时充分发挥职业优势，即理解力强、语言表达能力强的特点，在案例分析、论述题这两个题型上拿到足够的分数，以确保及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A137-2697-4CA0-BE07-5FBE41847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言以蔽之，教育心理学不仅仅是一门必考课目，更是指导我们教育教学实践的有力武器。作为一个学生，应该学好这门课程，以求通过考试；作为一个教师，更应该学好这门课程，这样才能掌握教学过程中的心理规律及特点，有的放矢地教与学；以自己心中的教育情怀，春风化雨般地滋润着学生渴望知识的心灵，让学生的智慧因学习而丰沛，生命因教育而充盈。让我们以此共勉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EA2C-1D01-4634-A56C-F6E92980AC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0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谢 谢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《教育心理学》辅导教师 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XXX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20XX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XX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XX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4A2D-91D6-4FC9-A3EB-79F7580CF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一、课程简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二、学习目标陈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三、学习内容分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四、学习方法分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五、应试指导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4745-1475-4042-9877-A8B8333C2400}" type="slidenum">
              <a:t>2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课程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一）课程性质、特点、教材：《教育心理学》是中央广播电视大学“人才培养模式改革和开放教育试点”教育管理专业（本科）开设的一门必修课。它既具有一定的理论性，又具有很强的应用性。本课程的教学媒体包括：文字教材（《教育心理学》 张向葵主编，）、录像教材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讲，张向葵、路海东、刘晓民老师主讲。）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程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讲，张向葵老师主讲）。其中以文字教材为主，录像教材和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件为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CB3C-4281-4406-BA96-99BC9BECD612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课程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教学方法：本课程总体的教学设计思想与特点是体现开放教育特征，以学员为本，把握专业要求，立足学员实际，满足不同需求，提供全程学习支持。在教学方法上强调以自学为主，面授为辅，同时充分利用多种教学媒体，以提高学习效果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4395-D7E4-447C-8B3F-9D274AEFE6EB}" type="slidenum">
              <a:t>4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课程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54064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三）考核方式及成绩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形成性考核成绩占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20%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包括记分平时作业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6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、网上测试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B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专题讨论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、期中考试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共四项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期末终结性考核成绩占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80%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由中央电大命题，闭卷，考试时间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2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钟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题型及分值：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选择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（包括单选、多选）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名词解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判断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（要求改错）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简答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案例分析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论述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B5FF-78A9-4B44-A13B-3B3AD72436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陈述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学习教育心理学基础知识，掌握教学过程中的心理规律及特点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为更新教育观念、树立先进教育理念，提供理论基础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学以致用，用现代教育心理观念指导教育教学实践，提高教育教学效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F1A9-FBCA-421F-A7C9-C28B724295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内容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从整体上看，本课程全面介绍了教育心理学发展概况和新趋势，根据这一学科的发展实际，又以西方的各理论流派为主；同时也着重阐释了本学科的最新研究成果；并对教学心理及教学评价作了专章介绍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本课程始终强调理论联系实际，在介绍各流派基本概念、基本原理、基本理论、的基础上，特别注重指出它们对教育实践的指导意义；同时还详尽地介绍了极具实践意义的多种培养策略，而这也是学习的重点内容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学习重点是了解各流派的理论要点，并能联系实际加深理解；难点则是在教育实践中能够应用基本原理分析教育教学案例，灵活运用各种培养策略，促进学生心理的健康发展，从而凸显本课程的应用性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6F60-8A8C-464B-A09E-CEE6F381F4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305A-B33F-4CFA-A351-D2FF195E56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方法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学习者特点：作为本科生，而且全是教师，同学们的文化素养、专业素质均较高，自学能力极强；又修过“普通心理学”、“社会心理学”等课程，并具有较为丰富的教育教学经验；同时，为了今后的发展，还有学习本课程的强烈欲望——应该说具备了学好本课程的主、客观条件；但是突出的工学矛盾，又给学习造成了不小的实际困难，这一点应予以正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DAE5-5DC7-4754-B20A-FD41A55D7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39Z</dcterms:created>
  <dc:creator/>
  <dc:description/>
  <cp:keywords>幻灯片之家 http:/www.eeppt.com</cp:keywords>
  <dc:language>en-US</dc:language>
  <cp:lastModifiedBy/>
  <dcterms:modified xsi:type="dcterms:W3CDTF">2015-07-13T09:21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