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74B-80F5-49C7-B42D-1CDA31D3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0AA-99F3-4116-8EA9-FEFB5F7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4D6-37F0-42E6-BAFB-06695D24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CEA-63A9-4F86-84D2-1655FBA2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40AD-C74D-4565-9002-C2B9C02C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539E-7ECA-4C7B-A49F-97380F78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083-5F09-4F9F-BFE0-3F17F4F5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EACC-C25A-41B3-836D-7F575941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A015-AB6C-4643-81C0-721EF7CA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B7CC-D623-4026-9B0F-BFA49CF3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A2DB-AF42-4076-A812-7064207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7A7-1A7B-4C2B-B5D5-1337FCB7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1746-29BE-41FF-8FC0-1E5E73F7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115-B422-47DC-83AA-F0BE6D7A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CC92-77FE-4F42-8F06-465123E6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DA55-C2B1-4AD7-99C5-85E0C11F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B4B6-B735-41C6-812F-FC5C6913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8BA-2A43-4F8F-9DED-C566A6D7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00C-370C-4F18-8CC9-ECA39284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00B-4A97-4B4E-BF27-0E08A75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8DA-1AB0-4AFF-A278-878071EC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FB1-5197-43DE-9FE7-C12B809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51B-1CCB-41D2-BDD9-176EB212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D3A-386D-4AC9-8721-119CEAA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4BF7-43B0-4999-923C-961726697BC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031D-7A01-4EC0-9B79-A683E7DF52E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虚拟语气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PT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课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虚拟语气在条件主从复合句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I ______________  (come)too if I had time   to spa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I didn’t see your sister at the meeting. If  she ________________ (come), she would have met my brother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 If the hurricane had happened during the daytime,there______________________ (be)more death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133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hould 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429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ha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would hav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46280" y="5994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7DB-34A1-4DC5-9E3D-4CC07C6B18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英译汉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tend to have writt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 letter of thanks to him, but I didn’t know his addr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) The plan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as to have taken off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t eight this morning,but a heavy rain poured dow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2133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我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本打算写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封信给他，但不知道他的地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飞机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本要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今早八点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起飞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，但下起了一场倾盆大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)I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would love to have go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o the party last night, but I had to work extra hours to finish a report.(97’NME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)She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’d rather have staye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t home than went to see the dull fil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2133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昨晚我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本想去参加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聚会来的，可我得额外加几个小时的班赶完一篇报告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她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真该呆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在家里而不去看那部乏味的电影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If it ___________________________(rain) tomorrow,we ________________(not go out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.______(be) I in good health, I 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go) with you tomor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eg. Had you told me earlier, I could have done someth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hould anyone call, tell him to call in the afterno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447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rained/should rain/were to r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038480" y="2057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should not go 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29718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ould 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宾语从句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is not a pilot, but he wishes  he______ (b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wish I ___________(meet)him yesterd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wish it __________(be) fine tomor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ordered the work _____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start) at o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  I’d rather you _________(stay) at home all day today.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ad  m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276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ould 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388620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38098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(should ) be star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stay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主语从句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It is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tran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he _____________(mak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ch a mistake. That’s unexpec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(necessary,important,impossible,natural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prising,a pity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It was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require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each student 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bring) enough food on the tri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(ordered,suggested,demanded,desired, etc.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600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(should)  mak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3962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V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表语从句或方式状从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My demand is that you ___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get up)at six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He speaks as if he ________(be) an Englishm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 They talked as if they _____________(b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od friends for year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1600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(should)    get 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743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38862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ad b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同位语从句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sently he made the suggestion that th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________________(carry on)their conver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tion in Fren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2096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(should) carry 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其他句型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n if he _______(be) here, he couldn’t solve the proble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thout air, there __________(be) no living th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for your help, I ______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ot, do) 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only I ____________(take) his advic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I didn’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1600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666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ould 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733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couldn’t have d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ad tak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. I was very busy yesterday, otherwise I _________________(come) to the mee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. Look at the clock! It’s(high) time we _______________(go) h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133720"/>
            <a:ext cx="132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2133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2133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ould have 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ent/should 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复杂句型或惯用结构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If she hadn’t trained so hard, she 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ot,be) able to run so fast tod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They ____________(want) to help b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uldn’t get here in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I _______________(be going to)travel b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in but then we decided to go by a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1523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ouldn’t 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2743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ad wa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8098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was going 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36:22Z</dcterms:created>
  <dc:creator/>
  <dc:description/>
  <cp:keywords>幻灯片之家 http:/www.eeppt.com</cp:keywords>
  <dc:language>en-US</dc:language>
  <cp:lastModifiedBy/>
  <dcterms:modified xsi:type="dcterms:W3CDTF">2015-07-13T09:30:47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