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6FF-FF66-49F5-B38D-8ACE5920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186-B955-463D-A7BC-08AE4450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123-4EBB-47F9-95A1-618A8BBE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423-D462-4993-8067-7FD030BE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227-10C4-45BB-A816-CA87E95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038-615A-45EB-A41F-62158D80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367-F7A3-4BDD-9B92-A81E0D8C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6C7-E5DB-4B21-A8D8-448858E5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E03-B242-4711-B8A4-CD97A52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CBE-229E-442B-B243-64AE794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5BD-1431-4D45-B155-A26A8F4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B36-CF6E-4F52-95C8-40618D9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6F6A-2A7D-4B14-BBE5-AE4CB35B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6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27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28"/>
          <p:cNvSpPr/>
          <p:nvPr/>
        </p:nvSpPr>
        <p:spPr>
          <a:xfrm>
            <a:off x="838080" y="1521000"/>
            <a:ext cx="517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838080" y="620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苏教版二年级语文上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8600" y="1486080"/>
            <a:ext cx="36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乡下孩子优质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123_jpg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396720" y="1197000"/>
            <a:ext cx="604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野菜</a:t>
            </a:r>
            <a:r>
              <a:rPr b="1" lang="en-US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,</a:t>
            </a:r>
            <a:r>
              <a:rPr b="1" lang="en-US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小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小鱼，</a:t>
            </a:r>
            <a:r>
              <a:rPr b="1" lang="zh-CN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猫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0000" y="112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987640" y="765000"/>
            <a:ext cx="79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i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00000" y="2060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059280" y="1989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5013000"/>
            <a:ext cx="460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挖一篮野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撑圆了小猪的肚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喂小猪"/>
          <p:cNvPicPr/>
          <p:nvPr/>
        </p:nvPicPr>
        <p:blipFill>
          <a:blip r:embed="rId1"/>
          <a:stretch/>
        </p:blipFill>
        <p:spPr>
          <a:xfrm>
            <a:off x="0" y="0"/>
            <a:ext cx="4356000" cy="443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第3节图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417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427640" y="4941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逮一串小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乐坏了馋嘴的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684360" y="404640"/>
            <a:ext cx="6121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乡下孩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野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，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鱼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4360" y="189000"/>
            <a:ext cx="61210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乡下孩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捉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编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含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吹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野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，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鱼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猫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采 野花，编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。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折柳枝，织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割青草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拔萝卜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哦，乡下孩子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FR_002"/>
          <p:cNvPicPr/>
          <p:nvPr/>
        </p:nvPicPr>
        <p:blipFill>
          <a:blip r:embed="rId1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348000" y="2781360"/>
            <a:ext cx="3816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哦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乡下孩子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生在阳光下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长在旷野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5280" y="907920"/>
            <a:ext cx="8209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妈妈      怀里      欢唱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野菊      歌曲       野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肚皮      乐坏了    馋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4A4-33FA-468C-9BEA-8ECD20BA65B4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扁日加两竖，曲字要记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横钩一撇一短竖，里面一个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彩虹藏在草丛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日，一个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草字头，包字头，一粒米藏里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口此角，嘴不小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8472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948360" y="220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270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716360" y="3357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087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00720" y="450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6870600" y="527040"/>
            <a:ext cx="623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123_jpg"/>
          <p:cNvPicPr/>
          <p:nvPr/>
        </p:nvPicPr>
        <p:blipFill>
          <a:blip r:embed="rId19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620640"/>
            <a:ext cx="60958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妈妈怀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唱的黄鹂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爸爸背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的野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68360" y="191628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黄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68360" y="47275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野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123_jpg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250920" y="189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乡下孩子像黄鹂一样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____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像野菊一样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2205000"/>
            <a:ext cx="6095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妈妈怀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唱的黄鹂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爸爸背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的野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追蝴蝶"/>
          <p:cNvPicPr/>
          <p:nvPr/>
        </p:nvPicPr>
        <p:blipFill>
          <a:blip r:embed="rId1"/>
          <a:stretch/>
        </p:blipFill>
        <p:spPr>
          <a:xfrm>
            <a:off x="0" y="0"/>
            <a:ext cx="4643280" cy="495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第222节图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500720" y="5084640"/>
            <a:ext cx="44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含一片草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吹出动听的歌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515772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捉一只蝴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编织美丽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FR_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523880" y="1143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16000" y="2133720"/>
            <a:ext cx="676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捉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，编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，吹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013000"/>
            <a:ext cx="460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挖一篮野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撑圆了小猪的肚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喂小猪"/>
          <p:cNvPicPr/>
          <p:nvPr/>
        </p:nvPicPr>
        <p:blipFill>
          <a:blip r:embed="rId1"/>
          <a:stretch/>
        </p:blipFill>
        <p:spPr>
          <a:xfrm>
            <a:off x="0" y="0"/>
            <a:ext cx="435600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第3节图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417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427640" y="4941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逮一串小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乐坏了馋嘴的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5:10:22Z</dcterms:created>
  <dc:creator/>
  <dc:description/>
  <cp:keywords>幻灯片之家 http:/www.eeppt.com</cp:keywords>
  <dc:language>en-US</dc:language>
  <cp:lastModifiedBy/>
  <dcterms:modified xsi:type="dcterms:W3CDTF">2015-07-03T13:40:19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