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4CFF-0B50-4CBE-B3FA-B0F074E10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B561-F6B7-4A13-BC39-FF0E420F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B5A1-5E18-42CA-9D5C-33223AF35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A861-81FE-4538-8697-FCA99637B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5E33-AC74-4180-A4B6-68A3912E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5AE8-F2CE-483E-80C2-2F5030D1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44B8-472C-4C23-958E-50665936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58F8-93EA-4DC5-969D-4801166C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41E2-6A2B-4180-826B-AF5B5495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9EED-9EA4-45AF-8EBC-FFFEA06D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9BE4-159E-4692-9227-468F2E90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B826-1E84-423E-B735-AD160510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6D1A-AF31-4B1E-B4B4-CC2166BE473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8720" y="981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心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360" y="87624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3864-9ABF-4825-9E7E-1DE6145963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/>
  <dc:description/>
  <cp:keywords>幻灯片之家 http:/www.eeppt.com</cp:keywords>
  <dc:language>en-US</dc:language>
  <cp:lastModifiedBy/>
  <dcterms:modified xsi:type="dcterms:W3CDTF">2015-07-13T09:36:28Z</dcterms:modified>
  <cp:revision>7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