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07E-BDE1-4CD0-9EA8-13329F98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D3E-52AE-4F8A-9957-6B4A2EC4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451-2581-4FA6-9171-9D2D648F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878-CD2A-4A30-B1EA-033FB176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B1B-5549-4B2B-9CB4-42453A68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F66-6567-4F6B-A7C1-FA05FE85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662-CEDD-426F-BB06-8B71522E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25C-42D5-49BC-98EC-281599BC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777-C6B5-4716-B904-1BFE9ED3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09A-D24D-484B-9BEC-E75D097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523-094D-4306-8991-F4306877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DEF-2A94-4F7A-95B8-25C1C56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CA38-2A34-4F39-AEF3-83561BE6A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200911171817542968"/>
          <p:cNvPicPr/>
          <p:nvPr/>
        </p:nvPicPr>
        <p:blipFill>
          <a:blip r:embed="rId2"/>
          <a:stretch/>
        </p:blipFill>
        <p:spPr>
          <a:xfrm>
            <a:off x="10800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755640" y="2349360"/>
            <a:ext cx="775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887480" y="40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200560" y="400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43800" y="234936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一个小村庄的故事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200949011477373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自然环境的破坏"/>
          <p:cNvPicPr/>
          <p:nvPr/>
        </p:nvPicPr>
        <p:blipFill>
          <a:blip r:embed="rId3"/>
          <a:stretch/>
        </p:blipFill>
        <p:spPr>
          <a:xfrm>
            <a:off x="0" y="0"/>
            <a:ext cx="6084720" cy="4564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6227640" y="69228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什么都没有了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所有靠斧头得到的一切，包括那些锋利的斧头。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98320" y="479736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用斧头砍的树盖的房子、做成的各式各样的工具，应有尽有的家具，还有那些锋利的斧头，全都没有了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白桦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林海——白桦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林海——丛林"/>
          <p:cNvPicPr/>
          <p:nvPr/>
        </p:nvPicPr>
        <p:blipFill>
          <a:blip r:embed="rId3"/>
          <a:stretch/>
        </p:blipFill>
        <p:spPr>
          <a:xfrm>
            <a:off x="4572000" y="3436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林海——红松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小兴安岭图片4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456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127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0128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6" descr="200912261751980761"/>
          <p:cNvPicPr/>
          <p:nvPr/>
        </p:nvPicPr>
        <p:blipFill>
          <a:blip r:embed="rId2"/>
          <a:stretch/>
        </p:blipFill>
        <p:spPr>
          <a:xfrm>
            <a:off x="10800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3276720" y="17002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文朗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968400" y="42559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词语学习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638680" y="4183200"/>
            <a:ext cx="266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句段赏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3" name="一个小村庄的故事.wav" descr=""/>
          <p:cNvPicPr/>
          <p:nvPr/>
        </p:nvPicPr>
        <p:blipFill>
          <a:blip r:embed="rId3"/>
          <a:stretch/>
        </p:blipFill>
        <p:spPr>
          <a:xfrm>
            <a:off x="4140360" y="316692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button106"/>
          <p:cNvPicPr/>
          <p:nvPr/>
        </p:nvPicPr>
        <p:blipFill>
          <a:blip r:embed="rId4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7164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BFA-8377-4279-A414-4650E49B92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3" descr="200962923364870508"/>
          <p:cNvPicPr/>
          <p:nvPr/>
        </p:nvPicPr>
        <p:blipFill>
          <a:blip r:embed="rId2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button106"/>
          <p:cNvPicPr/>
          <p:nvPr/>
        </p:nvPicPr>
        <p:blipFill>
          <a:blip r:embed="rId3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7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小村庄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152280" y="3092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树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9"/>
          <p:cNvSpPr/>
          <p:nvPr/>
        </p:nvSpPr>
        <p:spPr>
          <a:xfrm>
            <a:off x="3124080" y="1523880"/>
            <a:ext cx="152640" cy="3810240"/>
          </a:xfrm>
          <a:custGeom>
            <a:avLst/>
            <a:gdLst>
              <a:gd name="textAreaLeft" fmla="*/ 97560 w 152640"/>
              <a:gd name="textAreaRight" fmla="*/ 153000 w 15264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3200400" y="144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房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3352680" y="2558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3352680" y="3701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3352680" y="4768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7620120" y="2847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都没有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121932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1447920" y="2863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斧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4419720" y="34290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5181480" y="2863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减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4038480" y="33973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一年年、一代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8" descr="2009102420316515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3716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f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71680" y="1447920"/>
            <a:ext cx="8001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斧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盖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房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断      减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少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扩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5812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g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79132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z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94836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l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90512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du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350532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jiǎ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594360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ku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200911919292231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2057400" y="7621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dò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71680" y="1447920"/>
            <a:ext cx="8001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栋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具      冒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烟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明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洪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4956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j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9436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m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952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ch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á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8098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l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8672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h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ó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200912291857445112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95280" y="1413000"/>
            <a:ext cx="8001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何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包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button106"/>
          <p:cNvPicPr/>
          <p:nvPr/>
        </p:nvPicPr>
        <p:blipFill>
          <a:blip r:embed="rId3"/>
          <a:stretch/>
        </p:blipFill>
        <p:spPr>
          <a:xfrm>
            <a:off x="80773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76720" y="1905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h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867280" y="1905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ku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200911202258245234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324000" y="1413000"/>
            <a:ext cx="71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量的树木随着屋顶冒出的柴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消失在天空中。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4920" y="306864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量的树木被当作柴草烧掉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《一个小村庄的故事》课文插图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685800" y="1339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16000" y="6216480"/>
            <a:ext cx="76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雨没喘气儿。大雨一直下个不停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5:15:54Z</dcterms:created>
  <dc:creator/>
  <dc:description/>
  <cp:keywords>幻灯片之家 http:/www.eeppt.com</cp:keywords>
  <dc:language>en-US</dc:language>
  <cp:lastModifiedBy/>
  <dcterms:modified xsi:type="dcterms:W3CDTF">2015-07-03T14:19:30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