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672-356D-449E-856A-8FF67A8F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E29-A3CA-4555-9E45-06467B2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153-0BF6-47BC-858D-F525E7BD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C2C-9979-417A-86FF-44D31EA3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786-4860-4F7E-A366-F293552E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B6E8-402D-49A0-A065-C86534C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611-F2DE-46DE-8986-E8E1149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BADF-18E4-4D28-AD86-DAB0732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3D8F-4D51-4629-B26E-F97C2027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0FDA-BEFB-49E1-A153-2E320F6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EB7F-C5F4-4CAD-A722-4F2F7402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E97-C4F2-4D52-96FD-6DE3AB85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3266-DF0A-4B60-B897-19E2A35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2B81-3416-426B-ACCB-F5CA9D7A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FBF1-2B4C-4E20-9CA1-F5774A87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E64E-0AEB-4DB7-8C32-FA767067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AE7F-976D-40FA-9969-EDE49880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962-8731-4DA8-8CED-3C0456A8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627-6FE6-4CF5-A743-C298989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C82-6788-4193-9F29-DE633A48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069-5A69-4F3C-B3B2-46D5110E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65C-50D7-42EF-AEA1-55034AD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A86-8454-4BDC-8500-007AB563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C89-9F1F-49F3-8B1C-531DD6E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323F-DD5F-481D-AAF5-1FD6FF84FF7E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E64-54D9-4CF1-BE24-CF12974978B2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2b2b2"/>
                </a:solidFill>
                <a:latin typeface="Impact"/>
                <a:ea typeface="宋体"/>
              </a:rPr>
              <a:t>艺术抽象创意</a:t>
            </a:r>
            <a:r>
              <a:rPr b="1" lang="zh-CN" sz="6000" spc="-1" strike="noStrike">
                <a:solidFill>
                  <a:srgbClr val="b2b2b2"/>
                </a:solidFill>
                <a:latin typeface="Impact"/>
                <a:ea typeface="宋体"/>
              </a:rPr>
              <a:t>PPT</a:t>
            </a:r>
            <a:r>
              <a:rPr b="1" lang="zh-CN" sz="6000" spc="-1" strike="noStrike">
                <a:solidFill>
                  <a:srgbClr val="b2b2b2"/>
                </a:solidFill>
                <a:latin typeface="Impact"/>
                <a:ea typeface="宋体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219320"/>
            <a:ext cx="4724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Impact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Impact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16002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4940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0942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6944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2946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21:23:40Z</dcterms:created>
  <dc:creator/>
  <dc:description/>
  <cp:keywords>幻灯片之家 http:/www.eeppt.com</cp:keywords>
  <dc:language>en-US</dc:language>
  <cp:lastModifiedBy/>
  <dcterms:modified xsi:type="dcterms:W3CDTF">2015-07-05T07:32:5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