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3E21-1502-448F-AD8A-4497A8B13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4F32-BCFB-4D46-8149-6B1D6E37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8D98-6FD2-4FA9-AE81-9A586B2E2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E497-3D02-452D-BEDD-DBA793127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CB81-A253-43C8-B733-A2035C29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7946-D4D1-4632-9792-2B01D950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EFB8-DBE0-480C-B2BD-FC712C41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7754-9C19-4C16-95E3-700C151A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0E75-BBDF-4219-B781-FFC68582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13DD-0302-4468-B252-04432CE0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CB81-51F8-4D6F-99BF-DF55BB79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3266-5FBC-45B0-949F-F333FCAD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321A-2104-4D2B-AFBE-17666A0EC03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B61E-C4D6-482C-87B8-8B09DBFFF0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6720" y="15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有设计感的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5638680"/>
            <a:ext cx="6111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13716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1840" y="6004080"/>
            <a:ext cx="68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创意设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chuangy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881B-E3CD-4190-9A99-CFC6955C8A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幻灯片之家 http:/www.eeppt.com</cp:keywords>
  <dc:language>en-US</dc:language>
  <cp:lastModifiedBy/>
  <dcterms:modified xsi:type="dcterms:W3CDTF">2015-07-06T02:44:2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