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472-966F-41B7-AC2B-9348FF45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22E-E2F3-439E-A57E-D53B4210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8ED-A7C5-4017-98C1-335AB400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CCF-96AD-4C7A-B30B-415A48D7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1BA-EE9D-4011-A550-44FCDD3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A3E-94A3-4254-861E-1ED044B2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C6B-8E88-4426-9E88-F5F64C91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0A0-78BA-47C6-B06F-4B58F669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A54-8C4A-4202-9A5A-47558D25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BB0-0691-4AB7-B1E6-E0115B15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424-8999-430F-8D40-4887ECB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6C3-E1B3-4776-B03D-D6A2B0DA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69AE-A589-4BF2-A7CF-AB64B7F51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yaoxiayu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3124080" y="40384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                  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制作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李振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460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6600" y="836640"/>
            <a:ext cx="25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要下雨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10008"/>
          <p:cNvPicPr/>
          <p:nvPr/>
        </p:nvPicPr>
        <p:blipFill>
          <a:blip r:embed="rId1"/>
          <a:stretch/>
        </p:blipFill>
        <p:spPr>
          <a:xfrm>
            <a:off x="-838080" y="-1066680"/>
            <a:ext cx="10820160" cy="10210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90720" y="838080"/>
            <a:ext cx="5943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一、学习生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5050"/>
                </a:solidFill>
                <a:latin typeface="Times New Roman"/>
              </a:rPr>
              <a:t>奇    怪    今    闷很    低    为    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422100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9995"/>
          <p:cNvPicPr/>
          <p:nvPr/>
        </p:nvPicPr>
        <p:blipFill>
          <a:blip r:embed="rId1"/>
          <a:stretch/>
        </p:blipFill>
        <p:spPr>
          <a:xfrm>
            <a:off x="-304920" y="-19080"/>
            <a:ext cx="9448920" cy="687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57200" y="685800"/>
            <a:ext cx="8077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、比一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怪（           ）很（            ）低（           ）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轻（           ）根（            ）纸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为（           ）闷（            ）今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力（           ）间（           ）冷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371600" y="152388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奇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499040" y="2362320"/>
            <a:ext cx="9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轻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191480" y="1447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很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22316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树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010640" y="1447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很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966360" y="2254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白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67688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为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1600560" y="3962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力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4207320" y="3108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很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23160" y="3886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中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96636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今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6934680" y="3962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冷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9D7-BCE0-4810-8C7D-BFB338BB35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9" descr="10044"/>
          <p:cNvPicPr/>
          <p:nvPr/>
        </p:nvPicPr>
        <p:blipFill>
          <a:blip r:embed="rId1"/>
          <a:stretch/>
        </p:blipFill>
        <p:spPr>
          <a:xfrm>
            <a:off x="-533520" y="-819000"/>
            <a:ext cx="9982440" cy="8896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85800" y="99072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三、说一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62120" y="2209680"/>
            <a:ext cx="8076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要下雨了，所 以 （        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空气很潮湿，所以（                       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（                ），所以燕子低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（                ），所以（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174000" y="2133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空气很潮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714400" y="35812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小虫的翅膀上沾了许多小水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1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1447920" y="106668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四、填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066680" y="190512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下雨前，小鱼在水里觉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    ），游 到（            ）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下雨前，燕子要飞得（        ），才能（           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957320" y="2819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很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792760" y="2819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水面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7062840" y="3733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很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922480" y="4343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捉到虫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1:21:28Z</dcterms:created>
  <dc:creator/>
  <dc:description/>
  <cp:keywords>幻灯片之家 http:/www.eeppt.com</cp:keywords>
  <dc:language>en-US</dc:language>
  <cp:lastModifiedBy/>
  <dcterms:modified xsi:type="dcterms:W3CDTF">2015-07-10T13:24:1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