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11.jpeg" ContentType="image/jpeg"/>
  <Override PartName="/ppt/media/image5.gif" ContentType="image/gif"/>
  <Override PartName="/ppt/media/image9.png" ContentType="image/png"/>
  <Override PartName="/ppt/media/image6.gif" ContentType="image/gif"/>
  <Override PartName="/ppt/media/image10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0053-CA58-49FE-B609-310B2D1B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3A6-D772-4A79-B092-121F5D2C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83A-2566-453A-B36B-2DB3DC5F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BC1C-F795-4D5A-A1BE-820FE618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75F5-9C59-42F8-9018-181AC8E7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9A7C-0FE8-4A97-93A1-1BADB057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7F2-AC57-4393-A493-7BF1043C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DC81-BD79-49A7-86C0-B84AF520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B58-8F07-4B69-A7ED-6B21DF43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E95D-9D46-4B67-97B0-5D273477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EE20-028D-40B7-87CD-25FDE3F0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9978-42F0-401A-A1EC-8BF05B7D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8E78-30F5-4FE6-AC7B-17078BDF9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2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722152030734"/>
          <p:cNvPicPr/>
          <p:nvPr/>
        </p:nvPicPr>
        <p:blipFill>
          <a:blip r:embed="rId2"/>
          <a:stretch/>
        </p:blipFill>
        <p:spPr>
          <a:xfrm>
            <a:off x="-18108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3920" y="242100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寓言两则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539640" y="141300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纪昌回家之后，就开始练习起来。妻子织布的时候，他躺在织布机下面，睁大眼睛，注视着梭子来回穿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回到家里，又开始练习起来。他用一根长头发，绑住一只虱子，把它吊在窗口。然后每天站在虱子旁边，聚精会神地盯着它。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39640" y="192240"/>
            <a:ext cx="187164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过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900000" y="1052640"/>
            <a:ext cx="26640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900000" y="1197000"/>
            <a:ext cx="266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900000" y="1341360"/>
            <a:ext cx="2664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动画星星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020000" y="404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line20"/>
          <p:cNvPicPr/>
          <p:nvPr/>
        </p:nvPicPr>
        <p:blipFill>
          <a:blip r:embed="rId3"/>
          <a:stretch/>
        </p:blipFill>
        <p:spPr>
          <a:xfrm>
            <a:off x="0" y="6523200"/>
            <a:ext cx="9144000" cy="334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2340000" y="18900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勤奋认真刻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200812140184793771"/>
          <p:cNvPicPr/>
          <p:nvPr/>
        </p:nvPicPr>
        <p:blipFill>
          <a:blip r:embed="rId2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2007100515430720"/>
          <p:cNvPicPr/>
          <p:nvPr/>
        </p:nvPicPr>
        <p:blipFill>
          <a:blip r:embed="rId3"/>
          <a:srcRect l="0" t="8396" r="0" b="24279"/>
          <a:stretch/>
        </p:blipFill>
        <p:spPr>
          <a:xfrm>
            <a:off x="324000" y="1916280"/>
            <a:ext cx="8640720" cy="3528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3789000" y="836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梭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1680" y="642312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539640" y="141300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纪昌在练习的过程中是如此的刻苦，如此的聚精会神，那么他练习结果怎样呢？</a:t>
            </a: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9640" y="192240"/>
            <a:ext cx="187164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结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900000" y="1052640"/>
            <a:ext cx="26640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900000" y="1197000"/>
            <a:ext cx="266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900000" y="1341360"/>
            <a:ext cx="2664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95280" y="2637000"/>
            <a:ext cx="8136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年以后，纪昌的本领练得相当到家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就是有人用针刺他的眼皮，他的眼睛也不会眨一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只小虱子，在纪昌的眼里一天天大起来，练到后来，大得竟然像车轮一样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39640" y="192240"/>
            <a:ext cx="187164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结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539640" y="1341360"/>
            <a:ext cx="26640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539640" y="1557360"/>
            <a:ext cx="266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539640" y="1700280"/>
            <a:ext cx="2664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line20"/>
          <p:cNvPicPr/>
          <p:nvPr/>
        </p:nvPicPr>
        <p:blipFill>
          <a:blip r:embed="rId2"/>
          <a:stretch/>
        </p:blipFill>
        <p:spPr>
          <a:xfrm>
            <a:off x="0" y="6523200"/>
            <a:ext cx="9144000" cy="334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3059280" y="69228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百发百中的射箭能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539640" y="184464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黑体"/>
                <a:ea typeface="黑体"/>
              </a:rPr>
              <a:t>读</a:t>
            </a:r>
            <a:r>
              <a:rPr b="0" lang="en-US" sz="5400" spc="-1" strike="noStrike">
                <a:solidFill>
                  <a:srgbClr val="3366ff"/>
                </a:solidFill>
                <a:latin typeface="黑体"/>
                <a:ea typeface="黑体"/>
              </a:rPr>
              <a:t>2</a:t>
            </a:r>
            <a:r>
              <a:rPr b="0" lang="zh-CN" sz="5400" spc="-1" strike="noStrike">
                <a:solidFill>
                  <a:srgbClr val="3366ff"/>
                </a:solidFill>
                <a:latin typeface="黑体"/>
                <a:ea typeface="黑体"/>
              </a:rPr>
              <a:t>、</a:t>
            </a:r>
            <a:r>
              <a:rPr b="0" lang="en-US" sz="5400" spc="-1" strike="noStrike">
                <a:solidFill>
                  <a:srgbClr val="3366ff"/>
                </a:solidFill>
                <a:latin typeface="黑体"/>
                <a:ea typeface="黑体"/>
              </a:rPr>
              <a:t>3</a:t>
            </a:r>
            <a:r>
              <a:rPr b="0" lang="zh-CN" sz="5400" spc="-1" strike="noStrike">
                <a:solidFill>
                  <a:srgbClr val="3366ff"/>
                </a:solidFill>
                <a:latin typeface="黑体"/>
                <a:ea typeface="黑体"/>
              </a:rPr>
              <a:t>自然段，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黑体"/>
                <a:ea typeface="黑体"/>
              </a:rPr>
              <a:t>飞卫让纪昌分哪两步练习眼力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黑体"/>
                <a:ea typeface="黑体"/>
              </a:rPr>
              <a:t>用</a:t>
            </a:r>
            <a:r>
              <a:rPr b="0" lang="zh-CN" sz="5400" spc="-1" strike="noStrike">
                <a:solidFill>
                  <a:srgbClr val="3366ff"/>
                </a:solidFill>
                <a:latin typeface="Arial"/>
                <a:ea typeface="黑体"/>
              </a:rPr>
              <a:t>“</a:t>
            </a:r>
            <a:r>
              <a:rPr b="0" lang="en-US" sz="5400" spc="-1" strike="noStrike">
                <a:solidFill>
                  <a:srgbClr val="3366ff"/>
                </a:solidFill>
                <a:latin typeface="黑体"/>
                <a:ea typeface="黑体"/>
              </a:rPr>
              <a:t>_______</a:t>
            </a:r>
            <a:r>
              <a:rPr b="0" lang="en-US" sz="5400" spc="-1" strike="noStrike">
                <a:solidFill>
                  <a:srgbClr val="3366ff"/>
                </a:solidFill>
                <a:latin typeface="Arial"/>
                <a:ea typeface="黑体"/>
              </a:rPr>
              <a:t>”</a:t>
            </a:r>
            <a:r>
              <a:rPr b="0" lang="zh-CN" sz="5400" spc="-1" strike="noStrike">
                <a:solidFill>
                  <a:srgbClr val="3366ff"/>
                </a:solidFill>
                <a:latin typeface="黑体"/>
                <a:ea typeface="黑体"/>
              </a:rPr>
              <a:t>画出相关句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539640" y="192240"/>
            <a:ext cx="360072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自读自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900000" y="1052640"/>
            <a:ext cx="26640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900000" y="1197000"/>
            <a:ext cx="266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900000" y="1341360"/>
            <a:ext cx="2664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动画星星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77080" y="260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line20"/>
          <p:cNvPicPr/>
          <p:nvPr/>
        </p:nvPicPr>
        <p:blipFill>
          <a:blip r:embed="rId3"/>
          <a:stretch/>
        </p:blipFill>
        <p:spPr>
          <a:xfrm>
            <a:off x="0" y="6308640"/>
            <a:ext cx="914400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动画星星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77080" y="260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line20"/>
          <p:cNvPicPr/>
          <p:nvPr/>
        </p:nvPicPr>
        <p:blipFill>
          <a:blip r:embed="rId3"/>
          <a:stretch/>
        </p:blipFill>
        <p:spPr>
          <a:xfrm>
            <a:off x="0" y="6308640"/>
            <a:ext cx="9144000" cy="3351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468360" y="981000"/>
            <a:ext cx="8064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Arial"/>
              </a:rPr>
              <a:t>第一步： 应该下功夫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练眼力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</a:rPr>
              <a:t>。眼睛要牢牢地盯住一个目标，不能眨一眨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39640" y="4005360"/>
            <a:ext cx="82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Arial"/>
              </a:rPr>
              <a:t>第二步： 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极小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</a:rPr>
              <a:t>的东西，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看成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</a:rPr>
              <a:t>一件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很大很大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</a:rPr>
              <a:t>的东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539640" y="192240"/>
            <a:ext cx="360072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动画星星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77080" y="260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line20"/>
          <p:cNvPicPr/>
          <p:nvPr/>
        </p:nvPicPr>
        <p:blipFill>
          <a:blip r:embed="rId3"/>
          <a:stretch/>
        </p:blipFill>
        <p:spPr>
          <a:xfrm>
            <a:off x="0" y="6308640"/>
            <a:ext cx="9144000" cy="3351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539640" y="1268280"/>
            <a:ext cx="82090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Arial"/>
              </a:rPr>
              <a:t>听完飞卫的两步建议后，纪昌有什么行动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Arial"/>
              </a:rPr>
              <a:t>用                  画出来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6"/>
          <p:cNvSpPr/>
          <p:nvPr/>
        </p:nvSpPr>
        <p:spPr>
          <a:xfrm>
            <a:off x="1835280" y="3860640"/>
            <a:ext cx="3097080" cy="349560"/>
          </a:xfrm>
          <a:custGeom>
            <a:avLst/>
            <a:gdLst/>
            <a:ahLst/>
            <a:rect l="l" t="t" r="r" b="b"/>
            <a:pathLst>
              <a:path w="1270" h="220">
                <a:moveTo>
                  <a:pt x="0" y="23"/>
                </a:moveTo>
                <a:cubicBezTo>
                  <a:pt x="26" y="106"/>
                  <a:pt x="53" y="190"/>
                  <a:pt x="91" y="205"/>
                </a:cubicBezTo>
                <a:cubicBezTo>
                  <a:pt x="129" y="220"/>
                  <a:pt x="197" y="144"/>
                  <a:pt x="227" y="114"/>
                </a:cubicBezTo>
                <a:cubicBezTo>
                  <a:pt x="257" y="84"/>
                  <a:pt x="234" y="8"/>
                  <a:pt x="272" y="23"/>
                </a:cubicBezTo>
                <a:cubicBezTo>
                  <a:pt x="310" y="38"/>
                  <a:pt x="394" y="205"/>
                  <a:pt x="454" y="205"/>
                </a:cubicBezTo>
                <a:cubicBezTo>
                  <a:pt x="514" y="205"/>
                  <a:pt x="582" y="46"/>
                  <a:pt x="635" y="23"/>
                </a:cubicBezTo>
                <a:cubicBezTo>
                  <a:pt x="688" y="0"/>
                  <a:pt x="741" y="46"/>
                  <a:pt x="771" y="69"/>
                </a:cubicBezTo>
                <a:cubicBezTo>
                  <a:pt x="801" y="92"/>
                  <a:pt x="779" y="167"/>
                  <a:pt x="817" y="159"/>
                </a:cubicBezTo>
                <a:cubicBezTo>
                  <a:pt x="855" y="151"/>
                  <a:pt x="923" y="23"/>
                  <a:pt x="998" y="23"/>
                </a:cubicBezTo>
                <a:cubicBezTo>
                  <a:pt x="1073" y="23"/>
                  <a:pt x="1225" y="136"/>
                  <a:pt x="1270" y="159"/>
                </a:cubicBezTo>
              </a:path>
            </a:pathLst>
          </a:custGeom>
          <a:noFill/>
          <a:ln w="79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468360" y="260280"/>
            <a:ext cx="360036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动画星星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380360" y="404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line20"/>
          <p:cNvPicPr/>
          <p:nvPr/>
        </p:nvPicPr>
        <p:blipFill>
          <a:blip r:embed="rId3"/>
          <a:stretch/>
        </p:blipFill>
        <p:spPr>
          <a:xfrm>
            <a:off x="0" y="6308640"/>
            <a:ext cx="9144000" cy="3351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611280" y="119700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cc"/>
                </a:solidFill>
                <a:latin typeface="Arial"/>
              </a:rPr>
              <a:t>1.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</a:rPr>
              <a:t>纪昌回家后，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就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</a:rPr>
              <a:t>开始练习起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84360" y="3284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体会到纪昌练习眼力的决心、毅力和恒心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39640" y="620640"/>
            <a:ext cx="828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妻子织布的时候，他躺在织布机下面，睁大眼睛，注视着梭子来回穿梭。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两年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以后，纪昌的本领练得相当到家了</a:t>
            </a:r>
            <a:r>
              <a:rPr b="1" lang="en-US" sz="4400" spc="-1" strike="noStrike">
                <a:solidFill>
                  <a:srgbClr val="3366ff"/>
                </a:solidFill>
                <a:latin typeface="Arial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就是有人用针刺他的眼皮，他的眼睛也不会眨一下。</a:t>
            </a: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95280" y="486900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觉得纪昌是一个</a:t>
            </a:r>
            <a:r>
              <a:rPr b="1" lang="zh-CN" sz="40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的人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427640" y="4797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耐心、有毅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line20"/>
          <p:cNvPicPr/>
          <p:nvPr/>
        </p:nvPicPr>
        <p:blipFill>
          <a:blip r:embed="rId2"/>
          <a:stretch/>
        </p:blipFill>
        <p:spPr>
          <a:xfrm>
            <a:off x="0" y="6308640"/>
            <a:ext cx="914400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68360" y="260280"/>
            <a:ext cx="360036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动画星星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96360" y="549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line20"/>
          <p:cNvPicPr/>
          <p:nvPr/>
        </p:nvPicPr>
        <p:blipFill>
          <a:blip r:embed="rId3"/>
          <a:stretch/>
        </p:blipFill>
        <p:spPr>
          <a:xfrm>
            <a:off x="0" y="6308640"/>
            <a:ext cx="9144000" cy="3351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539640" y="47628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cc"/>
                </a:solidFill>
                <a:latin typeface="Arial"/>
              </a:rPr>
              <a:t>2.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</a:rPr>
              <a:t>纪昌记住了飞卫的话。回到家里，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又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</a:rPr>
              <a:t>开始练习起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395280" y="2997360"/>
            <a:ext cx="828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体会到纪昌学习态度的虚心和认真。他虚心听从老师指导，并按老师的要求去做，一点也不犹豫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1692360" y="684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395280" y="1268280"/>
            <a:ext cx="835344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纪昌学射    妻子      百发百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扁鹊治病    拜见    理睬   肠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汤药     医治    无能为力   绑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刺刀     烫手     药剂     蔡桓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虱子    聚精会神  昌盛    穿梭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132000" y="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我会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50920" y="260280"/>
            <a:ext cx="90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他用一根长头发，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绑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住一只虱子，把它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吊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在窗口。然后每天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站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在虱子旁边，聚精会神地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盯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着它。那只小虱子，在纪昌的眼里一天天大起来，练到后来，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大得竟然像车轮一样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755640" y="501336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纪昌是个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_____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的人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987640" y="49417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肯付出努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line20"/>
          <p:cNvPicPr/>
          <p:nvPr/>
        </p:nvPicPr>
        <p:blipFill>
          <a:blip r:embed="rId2"/>
          <a:stretch/>
        </p:blipFill>
        <p:spPr>
          <a:xfrm>
            <a:off x="0" y="6308640"/>
            <a:ext cx="914400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24000" y="549360"/>
            <a:ext cx="8461080" cy="34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纪昌向飞卫请教（    ），飞卫让他先（     ）。一是练（                                     ），二是练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）。后来，纪昌成了（          ）的射箭能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line20"/>
          <p:cNvPicPr/>
          <p:nvPr/>
        </p:nvPicPr>
        <p:blipFill>
          <a:blip r:embed="rId2"/>
          <a:stretch/>
        </p:blipFill>
        <p:spPr>
          <a:xfrm>
            <a:off x="0" y="6308640"/>
            <a:ext cx="9144000" cy="3351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5940360" y="476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射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564000" y="119700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练眼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826920" y="1916280"/>
            <a:ext cx="81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用眼睛牢牢地盯住一个目标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826920" y="2565360"/>
            <a:ext cx="2953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不能眨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372360" y="256536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能够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24000" y="321300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极小的东西，看成一件很大的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24000" y="3860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1042920" y="458136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百发百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line20"/>
          <p:cNvPicPr/>
          <p:nvPr/>
        </p:nvPicPr>
        <p:blipFill>
          <a:blip r:embed="rId2"/>
          <a:stretch/>
        </p:blipFill>
        <p:spPr>
          <a:xfrm>
            <a:off x="-36360" y="6237360"/>
            <a:ext cx="9144000" cy="3348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324000" y="26028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隶书"/>
                <a:ea typeface="隶书"/>
              </a:rPr>
              <a:t>课后练习：飞卫为什么先要纪昌练习眼力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468360" y="213372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Arial"/>
                <a:ea typeface="华文新魏"/>
              </a:rPr>
              <a:t>眼力是射箭的关键，只有练到看准目标不眨眼和把大目标看成小目标看大，才能百发百中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动画星星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588000" y="1197000"/>
            <a:ext cx="1008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line20"/>
          <p:cNvPicPr/>
          <p:nvPr/>
        </p:nvPicPr>
        <p:blipFill>
          <a:blip r:embed="rId2"/>
          <a:stretch/>
        </p:blipFill>
        <p:spPr>
          <a:xfrm>
            <a:off x="-36360" y="6093000"/>
            <a:ext cx="9144000" cy="334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200724183147354"/>
          <p:cNvPicPr/>
          <p:nvPr/>
        </p:nvPicPr>
        <p:blipFill>
          <a:blip r:embed="rId3"/>
          <a:stretch/>
        </p:blipFill>
        <p:spPr>
          <a:xfrm>
            <a:off x="108000" y="1844640"/>
            <a:ext cx="3693960" cy="4176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684360" y="18900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你认为纪昌取得成功的原因是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动画星星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740720" y="40464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4500720" y="350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3995640" y="1844640"/>
            <a:ext cx="446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练好扎实的基本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要有认真虚心的学习态度及决心、毅力和恒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名师指点对学习结果有重要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fense"/>
          <p:cNvPicPr/>
          <p:nvPr/>
        </p:nvPicPr>
        <p:blipFill>
          <a:blip r:embed="rId2"/>
          <a:stretch/>
        </p:blipFill>
        <p:spPr>
          <a:xfrm>
            <a:off x="-120600" y="0"/>
            <a:ext cx="92646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WordArt 6"/>
          <p:cNvSpPr txBox="1"/>
          <p:nvPr/>
        </p:nvSpPr>
        <p:spPr>
          <a:xfrm>
            <a:off x="1116000" y="333360"/>
            <a:ext cx="705816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你学到了什么？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971640" y="3068640"/>
            <a:ext cx="69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Arial"/>
                <a:ea typeface="华文新魏"/>
              </a:rPr>
              <a:t>       </a:t>
            </a:r>
            <a:r>
              <a:rPr b="0" lang="zh-CN" sz="6000" spc="-1" strike="noStrike">
                <a:solidFill>
                  <a:srgbClr val="008000"/>
                </a:solidFill>
                <a:latin typeface="Arial"/>
                <a:ea typeface="华文新魏"/>
              </a:rPr>
              <a:t>只有练好基本功才能成大器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826920" y="2205000"/>
            <a:ext cx="3529080" cy="16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6000"/>
                    </a:srgbClr>
                  </a:outerShdw>
                </a:effectLst>
                <a:latin typeface="华文中宋"/>
              </a:rPr>
              <a:t>贵在坚持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6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447984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4788000" y="2276640"/>
            <a:ext cx="3529080" cy="16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6000"/>
                    </a:srgbClr>
                  </a:outerShdw>
                </a:effectLst>
                <a:latin typeface="华文中宋"/>
              </a:rPr>
              <a:t>持之以恒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6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788000" y="620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ine20"/>
          <p:cNvPicPr/>
          <p:nvPr/>
        </p:nvPicPr>
        <p:blipFill>
          <a:blip r:embed="rId2"/>
          <a:stretch/>
        </p:blipFill>
        <p:spPr>
          <a:xfrm>
            <a:off x="34920" y="6237360"/>
            <a:ext cx="9144000" cy="334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324000" y="189000"/>
            <a:ext cx="85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阅读下列片断，回答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纪昌对自己的成绩感到很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﹙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满足 满意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以为自己学得差不多了，就再次去拜见飞卫。飞卫对他说：“虽然你已经取得了不小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成绩 成功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但是你的眼力还不够。等到练得能够把极小的东西，看成一件很大东西的时候，你再来见我吧！”纪昌记住了飞卫的话。回到家里，又开始练习起来。他用一根长头发，绑住一只虱子，把它吊在窗口。然后每天站在虱子旁边，聚精会神地盯着它。那只小虱子，在纪昌的眼里一天天大起来，练到后来，大得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竟然  果然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车轮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5940360" y="836640"/>
            <a:ext cx="792360" cy="3603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539640" y="2276640"/>
            <a:ext cx="792360" cy="3603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1042920" y="5661000"/>
            <a:ext cx="792360" cy="3603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背景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怎样评价飞卫、纪昌两人的行为？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认为当前的学习生活中最重要的是什么？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85800" y="91440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扩展　迁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6237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3E2D-85A1-4173-8647-849EBC88CA2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324000" y="69228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似乎看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在狂风中练习，迎面吹来的风和灰尘几乎使他睁不开眼睛，猛烈的风吹得他站立不稳。可他毫不退缩，拉开弓，搭上箭，朝一片飞速旋转的树叶射了过去，可由于风的阻力，箭的速度也因此慢了下来。眼看着目标渐渐远去，纪昌叹了一口气，又拿出了第二只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看到他哪里练习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755640" y="5229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我似乎看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ordArt 7"/>
          <p:cNvSpPr txBox="1"/>
          <p:nvPr/>
        </p:nvSpPr>
        <p:spPr>
          <a:xfrm>
            <a:off x="3657600" y="-27000"/>
            <a:ext cx="1828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宋体"/>
              </a:rPr>
              <a:t>拓展想象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24000" y="476280"/>
            <a:ext cx="88200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Arial"/>
              </a:rPr>
              <a:t>chān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ɡ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Arial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Arial"/>
              </a:rPr>
              <a:t>qī    cì    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bǎ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昌      妻    刺     绑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biǎn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qu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è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  cǎ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扁     鹊       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79280" y="2276640"/>
            <a:ext cx="187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昌盛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050920" y="2276640"/>
            <a:ext cx="187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妻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夫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356000" y="2276640"/>
            <a:ext cx="187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刺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刺客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443640" y="2276640"/>
            <a:ext cx="187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绑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捆绑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79280" y="5300640"/>
            <a:ext cx="187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扁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扁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124000" y="5229360"/>
            <a:ext cx="2735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喜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鸟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930920" y="5300640"/>
            <a:ext cx="280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理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539640" y="1341360"/>
            <a:ext cx="820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功等于百分之九十九的汗水加百分之一的灵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功来自于恒心、毅力，来自于扎实的基本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宝剑锋从磨砺出，梅花香自苦寒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24000" y="476280"/>
            <a:ext cx="8820000" cy="49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Arial"/>
              </a:rPr>
              <a:t>chán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ɡ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Arial"/>
              </a:rPr>
              <a:t>  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Arial"/>
              </a:rPr>
              <a:t>wèi   tàn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ɡ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Arial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j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肠     胃     烫      剂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tān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ɡ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c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à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i   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汤        蔡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79280" y="2276640"/>
            <a:ext cx="187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肠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大肠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050920" y="2276640"/>
            <a:ext cx="187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肠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胃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2276640"/>
            <a:ext cx="187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烫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烫伤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443640" y="2276640"/>
            <a:ext cx="230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药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一剂药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79280" y="5300640"/>
            <a:ext cx="187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米汤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汤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773440" y="5286240"/>
            <a:ext cx="2735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蔡桓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蔡老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_201005082140153L3ZO"/>
          <p:cNvPicPr/>
          <p:nvPr/>
        </p:nvPicPr>
        <p:blipFill>
          <a:blip r:embed="rId2"/>
          <a:stretch/>
        </p:blipFill>
        <p:spPr>
          <a:xfrm>
            <a:off x="0" y="-819000"/>
            <a:ext cx="9144000" cy="7889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2368440" y="907920"/>
            <a:ext cx="475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Arial"/>
                <a:ea typeface="幼圆"/>
              </a:rPr>
              <a:t>你学过哪些寓言故事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042920" y="213372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99"/>
                </a:solidFill>
                <a:latin typeface="黑体"/>
                <a:ea typeface="黑体"/>
              </a:rPr>
              <a:t>《</a:t>
            </a:r>
            <a:r>
              <a:rPr b="0" lang="zh-CN" sz="54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揠苗助长</a:t>
            </a:r>
            <a:r>
              <a:rPr b="0" lang="en-US" sz="5400" spc="-1" strike="noStrike">
                <a:solidFill>
                  <a:srgbClr val="666699"/>
                </a:solidFill>
                <a:latin typeface="黑体"/>
                <a:ea typeface="黑体"/>
              </a:rPr>
              <a:t>》</a:t>
            </a:r>
            <a:r>
              <a:rPr b="0" lang="zh-CN" sz="5400" spc="-1" strike="noStrike">
                <a:solidFill>
                  <a:srgbClr val="666699"/>
                </a:solidFill>
                <a:latin typeface="黑体"/>
                <a:ea typeface="黑体"/>
              </a:rPr>
              <a:t>、</a:t>
            </a:r>
            <a:r>
              <a:rPr b="0" lang="en-US" sz="5400" spc="-1" strike="noStrike">
                <a:solidFill>
                  <a:srgbClr val="666699"/>
                </a:solidFill>
                <a:latin typeface="黑体"/>
                <a:ea typeface="黑体"/>
              </a:rPr>
              <a:t>《</a:t>
            </a:r>
            <a:r>
              <a:rPr b="0" lang="zh-CN" sz="54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自相矛盾</a:t>
            </a:r>
            <a:r>
              <a:rPr b="0" lang="en-US" sz="5400" spc="-1" strike="noStrike">
                <a:solidFill>
                  <a:srgbClr val="666699"/>
                </a:solidFill>
                <a:latin typeface="黑体"/>
                <a:ea typeface="黑体"/>
              </a:rPr>
              <a:t>》</a:t>
            </a:r>
            <a:r>
              <a:rPr b="0" lang="zh-CN" sz="5400" spc="-1" strike="noStrike">
                <a:solidFill>
                  <a:srgbClr val="666699"/>
                </a:solidFill>
                <a:latin typeface="黑体"/>
                <a:ea typeface="黑体"/>
              </a:rPr>
              <a:t>、</a:t>
            </a:r>
            <a:r>
              <a:rPr b="0" lang="en-US" sz="5400" spc="-1" strike="noStrike">
                <a:solidFill>
                  <a:srgbClr val="666699"/>
                </a:solidFill>
                <a:latin typeface="黑体"/>
                <a:ea typeface="黑体"/>
              </a:rPr>
              <a:t>《</a:t>
            </a:r>
            <a:r>
              <a:rPr b="0" lang="zh-CN" sz="54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守株待兔</a:t>
            </a:r>
            <a:r>
              <a:rPr b="0" lang="en-US" sz="5400" spc="-1" strike="noStrike">
                <a:solidFill>
                  <a:srgbClr val="666699"/>
                </a:solidFill>
                <a:latin typeface="黑体"/>
                <a:ea typeface="黑体"/>
              </a:rPr>
              <a:t>》</a:t>
            </a:r>
            <a:r>
              <a:rPr b="0" lang="zh-CN" sz="5400" spc="-1" strike="noStrike">
                <a:solidFill>
                  <a:srgbClr val="666699"/>
                </a:solidFill>
                <a:latin typeface="黑体"/>
                <a:ea typeface="黑体"/>
              </a:rPr>
              <a:t>、</a:t>
            </a:r>
            <a:r>
              <a:rPr b="0" lang="en-US" sz="5400" spc="-1" strike="noStrike">
                <a:solidFill>
                  <a:srgbClr val="666699"/>
                </a:solidFill>
                <a:latin typeface="黑体"/>
                <a:ea typeface="黑体"/>
              </a:rPr>
              <a:t>《</a:t>
            </a:r>
            <a:r>
              <a:rPr b="0" lang="zh-CN" sz="54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刻舟求剑</a:t>
            </a:r>
            <a:r>
              <a:rPr b="0" lang="en-US" sz="5400" spc="-1" strike="noStrike">
                <a:solidFill>
                  <a:srgbClr val="666699"/>
                </a:solidFill>
                <a:latin typeface="黑体"/>
                <a:ea typeface="黑体"/>
              </a:rPr>
              <a:t>》</a:t>
            </a:r>
            <a:r>
              <a:rPr b="0" lang="zh-CN" sz="5400" spc="-1" strike="noStrike">
                <a:solidFill>
                  <a:srgbClr val="666699"/>
                </a:solidFill>
                <a:latin typeface="黑体"/>
                <a:ea typeface="黑体"/>
              </a:rPr>
              <a:t>、</a:t>
            </a:r>
            <a:r>
              <a:rPr b="0" lang="en-US" sz="5400" spc="-1" strike="noStrike">
                <a:solidFill>
                  <a:srgbClr val="666699"/>
                </a:solidFill>
                <a:latin typeface="黑体"/>
                <a:ea typeface="黑体"/>
              </a:rPr>
              <a:t>《</a:t>
            </a:r>
            <a:r>
              <a:rPr b="0" lang="zh-CN" sz="54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画蛇添足</a:t>
            </a:r>
            <a:r>
              <a:rPr b="0" lang="en-US" sz="5400" spc="-1" strike="noStrike">
                <a:solidFill>
                  <a:srgbClr val="666699"/>
                </a:solidFill>
                <a:latin typeface="黑体"/>
                <a:ea typeface="黑体"/>
              </a:rPr>
              <a:t>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400" spc="-1" strike="noStrike">
                <a:solidFill>
                  <a:srgbClr val="000000"/>
                </a:solidFill>
                <a:latin typeface="Arial"/>
              </a:rPr>
              <a:t>寓言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1" lang="zh-CN" sz="5000" spc="-1" strike="noStrike">
                <a:solidFill>
                  <a:srgbClr val="0099ff"/>
                </a:solidFill>
                <a:latin typeface="Arial"/>
              </a:rPr>
              <a:t>寓言是文学作品的一种体裁，常带有讽刺或劝戒的性质，用假托的故事或拟人手法说明某个道理或教训。“寓”有“寄托”的意思。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539640" y="141300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009999"/>
                </a:solidFill>
                <a:latin typeface="黑体"/>
                <a:ea typeface="黑体"/>
              </a:rPr>
              <a:t>读了</a:t>
            </a:r>
            <a:r>
              <a:rPr b="1" lang="en-US" sz="5400" spc="-1" strike="noStrike">
                <a:solidFill>
                  <a:srgbClr val="009999"/>
                </a:solidFill>
                <a:latin typeface="黑体"/>
                <a:ea typeface="黑体"/>
              </a:rPr>
              <a:t>2</a:t>
            </a:r>
            <a:r>
              <a:rPr b="1" lang="zh-CN" sz="5400" spc="-1" strike="noStrike">
                <a:solidFill>
                  <a:srgbClr val="009999"/>
                </a:solidFill>
                <a:latin typeface="黑体"/>
                <a:ea typeface="黑体"/>
              </a:rPr>
              <a:t>、</a:t>
            </a:r>
            <a:r>
              <a:rPr b="1" lang="en-US" sz="5400" spc="-1" strike="noStrike">
                <a:solidFill>
                  <a:srgbClr val="009999"/>
                </a:solidFill>
                <a:latin typeface="黑体"/>
                <a:ea typeface="黑体"/>
              </a:rPr>
              <a:t>3</a:t>
            </a:r>
            <a:r>
              <a:rPr b="1" lang="zh-CN" sz="5400" spc="-1" strike="noStrike">
                <a:solidFill>
                  <a:srgbClr val="009999"/>
                </a:solidFill>
                <a:latin typeface="黑体"/>
                <a:ea typeface="黑体"/>
              </a:rPr>
              <a:t>自然段，想想，都先写什么，再写什么，最后写什么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9640" y="192240"/>
            <a:ext cx="360072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自读自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900000" y="1052640"/>
            <a:ext cx="26640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900000" y="1197000"/>
            <a:ext cx="266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900000" y="1341360"/>
            <a:ext cx="2664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动画星星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020000" y="404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line20"/>
          <p:cNvPicPr/>
          <p:nvPr/>
        </p:nvPicPr>
        <p:blipFill>
          <a:blip r:embed="rId3"/>
          <a:stretch/>
        </p:blipFill>
        <p:spPr>
          <a:xfrm>
            <a:off x="0" y="6523200"/>
            <a:ext cx="9144000" cy="334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900000" y="4076640"/>
            <a:ext cx="77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要求  过程  结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39640" y="14130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开始练习的时候，飞卫对纪昌说：“你要想学会射箭，首先应该下功夫练眼力。眼睛要牢牢地盯住一个目标，不能眨一眨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飞卫对他说：“虽然你已经取得了不小的成绩，但你的眼力还不够。等到练得能够把极小的东西，看成一件很大东西的时候，你再来见我吧！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539640" y="192240"/>
            <a:ext cx="187164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要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900000" y="1052640"/>
            <a:ext cx="26640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900000" y="1197000"/>
            <a:ext cx="266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900000" y="1341360"/>
            <a:ext cx="2664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动画星星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020000" y="404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line20"/>
          <p:cNvPicPr/>
          <p:nvPr/>
        </p:nvPicPr>
        <p:blipFill>
          <a:blip r:embed="rId3"/>
          <a:stretch/>
        </p:blipFill>
        <p:spPr>
          <a:xfrm>
            <a:off x="0" y="6523200"/>
            <a:ext cx="9144000" cy="3348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2340000" y="18900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严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68360" y="285264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纪昌又是怎样练习的呢？</a:t>
            </a: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9640" y="192240"/>
            <a:ext cx="187164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过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900000" y="1052640"/>
            <a:ext cx="26640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900000" y="1197000"/>
            <a:ext cx="266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900000" y="1341360"/>
            <a:ext cx="2664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动画星星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020000" y="404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line20"/>
          <p:cNvPicPr/>
          <p:nvPr/>
        </p:nvPicPr>
        <p:blipFill>
          <a:blip r:embed="rId3"/>
          <a:stretch/>
        </p:blipFill>
        <p:spPr>
          <a:xfrm>
            <a:off x="0" y="6523200"/>
            <a:ext cx="9144000" cy="33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4:32:03Z</dcterms:created>
  <dc:creator/>
  <dc:description/>
  <cp:keywords>幻灯片之家 http:/www.eeppt.com</cp:keywords>
  <dc:language>en-US</dc:language>
  <cp:lastModifiedBy/>
  <dcterms:modified xsi:type="dcterms:W3CDTF">2015-07-14T03:05:43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