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76F-44D4-4CD3-83E6-21431B54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312-73F3-426F-8E29-6CAE24A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E2A-4EA9-4A46-AE34-C728060F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C50-AC4A-4DE3-B865-7358B07F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F9A-0442-4A34-9535-204417E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B8-3AC6-4B12-9574-E822BC7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370-B75F-4533-B6B0-D6BDF515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A15-E157-443F-8E1B-0D19BFE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4F5-2D95-41B4-B9B0-A55D0038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540-CEB8-4143-AD72-E973671B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49C-5C0D-4B46-AACA-E3C451F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801-19CB-4F02-9AB1-CAAA8F2A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80A7-8F7A-475B-9372-C364CA01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4920" y="404640"/>
            <a:ext cx="4914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80000"/>
                  </a:outerShdw>
                </a:effectLst>
                <a:latin typeface="华文新魏"/>
              </a:rPr>
              <a:t>北师大版六年级数学（下）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8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32000" y="5300640"/>
            <a:ext cx="63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80000"/>
                  </a:outerShdw>
                </a:effectLst>
                <a:latin typeface="微软简隶书"/>
              </a:rPr>
              <a:t>孙家岔第一小学    王向荣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80000"/>
                </a:outerShdw>
              </a:effectLst>
              <a:latin typeface="微软简隶书"/>
              <a:ea typeface="微软简隶书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2421000"/>
            <a:ext cx="2016360" cy="2879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6240" y="645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6440" y="1341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圆柱表面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9010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说一说：圆柱的特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圆柱侧面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圆柱表面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）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7120" y="1989000"/>
            <a:ext cx="17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底面周长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99840" y="34290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侧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9360" y="34290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两个底面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要求计算。（求圆柱的表面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4080" y="1125360"/>
            <a:ext cx="2239200" cy="2302560"/>
            <a:chOff x="244080" y="1125360"/>
            <a:chExt cx="2239200" cy="2302560"/>
          </a:xfrm>
        </p:grpSpPr>
        <p:grpSp>
          <p:nvGrpSpPr>
            <p:cNvPr id="60" name=""/>
            <p:cNvGrpSpPr/>
            <p:nvPr/>
          </p:nvGrpSpPr>
          <p:grpSpPr>
            <a:xfrm>
              <a:off x="919800" y="1125360"/>
              <a:ext cx="1563480" cy="2302560"/>
              <a:chOff x="919800" y="1125360"/>
              <a:chExt cx="1563480" cy="23025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919800" y="1125360"/>
                <a:ext cx="1563120" cy="2302560"/>
                <a:chOff x="919800" y="1125360"/>
                <a:chExt cx="1563120" cy="23025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923400" y="1125360"/>
                  <a:ext cx="1559520" cy="2302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19800" y="2861280"/>
                  <a:ext cx="1559520" cy="566640"/>
                </a:xfrm>
                <a:prstGeom prst="ellipse">
                  <a:avLst/>
                </a:pr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701360" y="3165120"/>
                <a:ext cx="781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44080" y="2150280"/>
              <a:ext cx="83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分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5640" y="2607840"/>
              <a:ext cx="184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164360" y="2924280"/>
            <a:ext cx="144000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1268280"/>
            <a:ext cx="1440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1628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380360" y="335736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86440" y="4076640"/>
            <a:ext cx="16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25.1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0720" y="1989000"/>
            <a:ext cx="46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32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162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4836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6720" y="3691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123640" y="321300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1125360"/>
            <a:ext cx="1655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2997360"/>
            <a:ext cx="1655640" cy="86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9080" y="422100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342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88000" y="3499920"/>
            <a:ext cx="21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557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1989000"/>
            <a:ext cx="4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29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侧面积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39.1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圆柱的底面半径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侧面积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39.1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平方厘米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圆柱的表面积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40" y="6453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的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侧面展开是个正方形，圆柱的侧面积是多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、圆柱的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侧面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开是个正方形，圆柱的表面积是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少平方厘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一个没有盖的圆柱形铁皮水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桶，高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，底面直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米，做这个水桶要用铁皮多少平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厘米？（得数保留整百平方厘米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2280"/>
            <a:ext cx="9145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大厅里有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根圆柱形柱子，每根的底面直径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米，如果每平方米需油漆费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元，漆这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根柱子约需要油漆费多少元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5EB-4813-420A-80BC-D5065EEBB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把一个底面直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的圆柱，分成四个小圆柱，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面积比原来增加了多少平方分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9000"/>
            <a:ext cx="1944360" cy="1152360"/>
          </a:xfrm>
          <a:prstGeom prst="wedgeEllipseCallout">
            <a:avLst>
              <a:gd name="adj1" fmla="val 32365"/>
              <a:gd name="adj2" fmla="val 8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76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2428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把一个底面半径是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，高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分米的圆柱沿着垂直于底面分为两个半圆柱，表面积增加了多少平方分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55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24000" y="2133720"/>
            <a:ext cx="475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隶书"/>
              </a:rPr>
              <a:t>再 见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40:41Z</dcterms:created>
  <dc:creator/>
  <dc:description/>
  <cp:keywords>幻灯片之家 http:/www.eeppt.com</cp:keywords>
  <dc:language>en-US</dc:language>
  <cp:lastModifiedBy/>
  <dcterms:modified xsi:type="dcterms:W3CDTF">2015-07-04T12:38:4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