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gif" ContentType="image/gif"/>
  <Override PartName="/ppt/media/image4.gif" ContentType="image/gif"/>
  <Override PartName="/ppt/media/image6.gif" ContentType="image/gif"/>
  <Override PartName="/ppt/media/image11.gif" ContentType="image/gif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10.jpeg" ContentType="image/jpeg"/>
  <Override PartName="/ppt/media/image2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641-5042-438F-8856-D7D1F2F4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EE3-600D-493F-BC5B-9D5755F0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A54-AFD9-447D-B838-3A7AB6A4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90E-B322-4E77-A09C-4B485EE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C74-FEE0-438E-8EF4-9D8F84E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913-49F1-4616-BE75-9267DCC0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449-B9D7-442F-9F5B-D9F9522B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366-BDA0-4F26-8B78-68DBB71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F54-47B0-4B05-9F4C-F916B6AC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663-9B5E-4A07-8478-63DF364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B44-3AE4-4C97-9FA5-C6BCF9E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901-B75A-4442-94AE-0CB40BF6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F404-5887-4259-B705-E10EA200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90000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4"/>
          <p:cNvSpPr/>
          <p:nvPr/>
        </p:nvSpPr>
        <p:spPr>
          <a:xfrm>
            <a:off x="2411280" y="5500800"/>
            <a:ext cx="100836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5"/>
          <p:cNvSpPr/>
          <p:nvPr/>
        </p:nvSpPr>
        <p:spPr>
          <a:xfrm>
            <a:off x="6948360" y="5500800"/>
            <a:ext cx="100836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6"/>
          <p:cNvSpPr/>
          <p:nvPr/>
        </p:nvSpPr>
        <p:spPr>
          <a:xfrm>
            <a:off x="543564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7"/>
          <p:cNvSpPr/>
          <p:nvPr/>
        </p:nvSpPr>
        <p:spPr>
          <a:xfrm>
            <a:off x="3924360" y="5500800"/>
            <a:ext cx="1008000" cy="718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971640" y="564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  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2411280" y="56451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3995640" y="56451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  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7020000" y="5645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扩  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5435640" y="5645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21960" y="981000"/>
            <a:ext cx="21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一株紫丁香》公开课课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4842000" y="76500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kejian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语文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kejian/yuwen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数学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kejian/shuxue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英语课件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kejian/yingyu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一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kejian/yuwen/138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二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kejian/yuwen/160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三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kejian/yuwen/161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四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kejian/yuwen/162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五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kejian/yuwen/163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六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yuwen/164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七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165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八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kejian/yuwen/166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人教版九年级语文上册：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kejian</a:t>
            </a:r>
            <a:r>
              <a:rPr b="1" lang="en-US" sz="1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yuwen/167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_25172703"/>
          <p:cNvPicPr/>
          <p:nvPr/>
        </p:nvPicPr>
        <p:blipFill>
          <a:blip r:embed="rId20"/>
          <a:stretch/>
        </p:blipFill>
        <p:spPr>
          <a:xfrm>
            <a:off x="2627280" y="620640"/>
            <a:ext cx="4321080" cy="5400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1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这是什么花呢？你们觉得它漂亮吗？有一群小朋友有它作为礼物送给了老师，这是怎么回事呢？让我们一起来了解一下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>
            <a:hlinkClick r:id="" action="ppaction://hlinkshowjump?jump=previousslide"/>
          </p:cNvPr>
          <p:cNvSpPr/>
          <p:nvPr/>
        </p:nvSpPr>
        <p:spPr>
          <a:xfrm>
            <a:off x="7885080" y="5805360"/>
            <a:ext cx="936720" cy="64800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8000"/>
              <a:gd name="textAreaBottom" fmla="*/ 60768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69" y="1350"/>
                </a:lnTo>
                <a:lnTo>
                  <a:pt x="1350" y="135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69" y="20250"/>
                </a:lnTo>
                <a:lnTo>
                  <a:pt x="29869" y="135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69" y="2025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19" h="21600">
                <a:moveTo>
                  <a:pt x="8566" y="10800"/>
                </a:moveTo>
                <a:lnTo>
                  <a:pt x="22653" y="3756"/>
                </a:lnTo>
                <a:lnTo>
                  <a:pt x="22653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956720" y="5877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2" descr="hahaha"/>
          <p:cNvPicPr/>
          <p:nvPr/>
        </p:nvPicPr>
        <p:blipFill>
          <a:blip r:embed="rId2"/>
          <a:stretch/>
        </p:blipFill>
        <p:spPr>
          <a:xfrm>
            <a:off x="2771640" y="1557360"/>
            <a:ext cx="3926160" cy="3960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3"/>
          <p:cNvSpPr/>
          <p:nvPr/>
        </p:nvSpPr>
        <p:spPr>
          <a:xfrm>
            <a:off x="263520" y="1197000"/>
            <a:ext cx="16066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休伸甜歌院除息您牵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2987640" y="1341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休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2987640" y="76500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8"/>
          <p:cNvSpPr/>
          <p:nvPr/>
        </p:nvSpPr>
        <p:spPr>
          <a:xfrm>
            <a:off x="2916360" y="1413000"/>
            <a:ext cx="37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伸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9"/>
          <p:cNvSpPr/>
          <p:nvPr/>
        </p:nvSpPr>
        <p:spPr>
          <a:xfrm>
            <a:off x="2987640" y="126828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甜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2987640" y="141300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2987640" y="126828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院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298764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除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305928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息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4"/>
          <p:cNvSpPr/>
          <p:nvPr/>
        </p:nvSpPr>
        <p:spPr>
          <a:xfrm>
            <a:off x="3059280" y="13413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您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5"/>
          <p:cNvSpPr/>
          <p:nvPr/>
        </p:nvSpPr>
        <p:spPr>
          <a:xfrm>
            <a:off x="3059280" y="1341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牵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2916360" y="1341360"/>
            <a:ext cx="352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Arial"/>
              </a:rPr>
              <a:t>困</a:t>
            </a:r>
            <a:endParaRPr b="1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7">
            <a:hlinkClick r:id="" action="ppaction://hlinkshowjump?jump=previousslide"/>
          </p:cNvPr>
          <p:cNvSpPr/>
          <p:nvPr/>
        </p:nvSpPr>
        <p:spPr>
          <a:xfrm>
            <a:off x="7956720" y="333360"/>
            <a:ext cx="936360" cy="647640"/>
          </a:xfrm>
          <a:custGeom>
            <a:avLst/>
            <a:gdLst>
              <a:gd name="textAreaLeft" fmla="*/ 40320 w 936360"/>
              <a:gd name="textAreaRight" fmla="*/ 896040 w 9363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24" h="21600">
                <a:moveTo>
                  <a:pt x="0" y="0"/>
                </a:moveTo>
                <a:lnTo>
                  <a:pt x="31224" y="0"/>
                </a:lnTo>
                <a:lnTo>
                  <a:pt x="31224" y="21600"/>
                </a:lnTo>
                <a:lnTo>
                  <a:pt x="0" y="21600"/>
                </a:lnTo>
                <a:close/>
              </a:path>
              <a:path fill="lightenLess" w="31224" h="21600">
                <a:moveTo>
                  <a:pt x="0" y="0"/>
                </a:moveTo>
                <a:lnTo>
                  <a:pt x="31224" y="0"/>
                </a:lnTo>
                <a:lnTo>
                  <a:pt x="29874" y="1350"/>
                </a:lnTo>
                <a:lnTo>
                  <a:pt x="1350" y="1350"/>
                </a:lnTo>
                <a:close/>
              </a:path>
              <a:path fill="darken" w="31224" h="21600">
                <a:moveTo>
                  <a:pt x="31224" y="0"/>
                </a:moveTo>
                <a:lnTo>
                  <a:pt x="31224" y="21600"/>
                </a:lnTo>
                <a:lnTo>
                  <a:pt x="29874" y="20250"/>
                </a:lnTo>
                <a:lnTo>
                  <a:pt x="29874" y="1350"/>
                </a:lnTo>
                <a:close/>
              </a:path>
              <a:path fill="darkenLess" w="31224" h="21600">
                <a:moveTo>
                  <a:pt x="312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74" y="20250"/>
                </a:lnTo>
                <a:close/>
              </a:path>
              <a:path fill="lighten" w="312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24" h="21600">
                <a:moveTo>
                  <a:pt x="8568" y="10800"/>
                </a:moveTo>
                <a:lnTo>
                  <a:pt x="22656" y="3756"/>
                </a:lnTo>
                <a:lnTo>
                  <a:pt x="22656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8"/>
          <p:cNvSpPr/>
          <p:nvPr/>
        </p:nvSpPr>
        <p:spPr>
          <a:xfrm>
            <a:off x="7956720" y="404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484360" y="1052640"/>
            <a:ext cx="44640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踮起脚尖儿，走进安静的小院，              我们把一株紫丁香，载在老师的窗前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，老师，就让它绿色的枝叶，          伸进您的窗口，夜夜和您做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绿叶在风里沙沙，                     那是我们给您唱歌，                                  帮您消除一天的疲惫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老师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满枝盛开的花儿，                      那是我们的笑脸，                                    感谢您时时为我们挂牵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夜深了，星星困得眨眼睛，                      老师，休息吧，                                       让花香飘进您的梦里，                            那梦呀，准是又香又甜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46880" y="1989000"/>
            <a:ext cx="8913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ts val="55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一株紫丁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7885080" y="260280"/>
            <a:ext cx="936720" cy="6476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86" y="1350"/>
                </a:lnTo>
                <a:lnTo>
                  <a:pt x="1350" y="135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86" y="20250"/>
                </a:lnTo>
                <a:lnTo>
                  <a:pt x="29886" y="135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6" y="2025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6" h="21600">
                <a:moveTo>
                  <a:pt x="8574" y="10800"/>
                </a:moveTo>
                <a:lnTo>
                  <a:pt x="22662" y="3756"/>
                </a:lnTo>
                <a:lnTo>
                  <a:pt x="22662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50919100109140"/>
          <p:cNvPicPr/>
          <p:nvPr/>
        </p:nvPicPr>
        <p:blipFill>
          <a:blip r:embed="rId2"/>
          <a:stretch/>
        </p:blipFill>
        <p:spPr>
          <a:xfrm>
            <a:off x="2556000" y="1484280"/>
            <a:ext cx="4321080" cy="446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未命名1"/>
          <p:cNvPicPr/>
          <p:nvPr/>
        </p:nvPicPr>
        <p:blipFill>
          <a:blip r:embed="rId3"/>
          <a:stretch/>
        </p:blipFill>
        <p:spPr>
          <a:xfrm>
            <a:off x="539640" y="1052640"/>
            <a:ext cx="1656000" cy="4895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916360" y="90792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美丽的丁香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送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老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E9C-2D4E-47E7-A461-96764B138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2_024"/>
          <p:cNvPicPr/>
          <p:nvPr/>
        </p:nvPicPr>
        <p:blipFill>
          <a:blip r:embed="rId2"/>
          <a:stretch/>
        </p:blipFill>
        <p:spPr>
          <a:xfrm>
            <a:off x="3780000" y="2349360"/>
            <a:ext cx="1512720" cy="20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2276640"/>
            <a:ext cx="143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们一起来认识一下我们的词语朋友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211640" y="98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148360" y="14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580000" y="198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84720" y="2708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枝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940360" y="342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724360" y="407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休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435640" y="47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788000" y="522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780000" y="522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盛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87640" y="465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2627280" y="40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挂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41128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2484360" y="2637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疲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2771640" y="198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眨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2987640" y="148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香又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A2_157"/>
          <p:cNvPicPr/>
          <p:nvPr/>
        </p:nvPicPr>
        <p:blipFill>
          <a:blip r:embed="rId3"/>
          <a:stretch/>
        </p:blipFill>
        <p:spPr>
          <a:xfrm>
            <a:off x="755640" y="1341360"/>
            <a:ext cx="1285920" cy="10209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3">
            <a:hlinkClick r:id="" action="ppaction://hlinkshowjump?jump=previousslide"/>
          </p:cNvPr>
          <p:cNvSpPr/>
          <p:nvPr/>
        </p:nvSpPr>
        <p:spPr>
          <a:xfrm>
            <a:off x="7885080" y="260280"/>
            <a:ext cx="936720" cy="647640"/>
          </a:xfrm>
          <a:custGeom>
            <a:avLst/>
            <a:gdLst>
              <a:gd name="textAreaLeft" fmla="*/ 40320 w 936720"/>
              <a:gd name="textAreaRight" fmla="*/ 896400 w 93672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86" y="1350"/>
                </a:lnTo>
                <a:lnTo>
                  <a:pt x="1350" y="135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86" y="20250"/>
                </a:lnTo>
                <a:lnTo>
                  <a:pt x="29886" y="135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86" y="2025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36" h="21600">
                <a:moveTo>
                  <a:pt x="8574" y="10800"/>
                </a:moveTo>
                <a:lnTo>
                  <a:pt x="22662" y="3756"/>
                </a:lnTo>
                <a:lnTo>
                  <a:pt x="22662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23736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未命名"/>
          <p:cNvPicPr/>
          <p:nvPr/>
        </p:nvPicPr>
        <p:blipFill>
          <a:blip r:embed="rId2"/>
          <a:stretch/>
        </p:blipFill>
        <p:spPr>
          <a:xfrm>
            <a:off x="539640" y="1125360"/>
            <a:ext cx="1600200" cy="482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24900095008"/>
          <p:cNvPicPr/>
          <p:nvPr/>
        </p:nvPicPr>
        <p:blipFill>
          <a:blip r:embed="rId3"/>
          <a:stretch/>
        </p:blipFill>
        <p:spPr>
          <a:xfrm>
            <a:off x="2484360" y="1052640"/>
            <a:ext cx="4392720" cy="4944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2484360" y="1557360"/>
            <a:ext cx="4392720" cy="3816360"/>
          </a:xfrm>
          <a:prstGeom prst="rect">
            <a:avLst/>
          </a:prstGeom>
          <a:gradFill rotWithShape="0">
            <a:gsLst>
              <a:gs pos="0">
                <a:srgbClr val="9900cc">
                  <a:alpha val="47058"/>
                </a:srgbClr>
              </a:gs>
              <a:gs pos="100000">
                <a:srgbClr val="47005e">
                  <a:alpha val="44313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56000" y="1557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紫丁香，木樨科。落叶灌木或小乔木。叶对生，圆卵形至肾形，通常宽大于长。春季开花，花紫色，密集成圆锥花序，有香气。蒴果。原产中国北部，现广为栽培。可供观赏；花可提取芳香油；嫩叶晒干后可代茶，叶有清热解毒、消炎的功能。变种白丁香花，花白色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900000" y="1125360"/>
            <a:ext cx="863640" cy="4824720"/>
          </a:xfrm>
          <a:prstGeom prst="rect">
            <a:avLst/>
          </a:prstGeom>
          <a:gradFill rotWithShape="0">
            <a:gsLst>
              <a:gs pos="0">
                <a:srgbClr val="9900cc">
                  <a:alpha val="67058"/>
                </a:srgbClr>
              </a:gs>
              <a:gs pos="100000">
                <a:srgbClr val="47005e">
                  <a:alpha val="65098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42920" y="134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我们一起了解美丽的紫丁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>
            <a:hlinkClick r:id="" action="ppaction://hlinkshowjump?jump=previousslide"/>
          </p:cNvPr>
          <p:cNvSpPr/>
          <p:nvPr/>
        </p:nvSpPr>
        <p:spPr>
          <a:xfrm>
            <a:off x="7956720" y="260280"/>
            <a:ext cx="936360" cy="647640"/>
          </a:xfrm>
          <a:custGeom>
            <a:avLst/>
            <a:gdLst>
              <a:gd name="textAreaLeft" fmla="*/ 40320 w 936360"/>
              <a:gd name="textAreaRight" fmla="*/ 896040 w 936360"/>
              <a:gd name="textAreaTop" fmla="*/ 40320 h 647640"/>
              <a:gd name="textAreaBottom" fmla="*/ 607320 h 647640"/>
            </a:gdLst>
            <a:ahLst/>
            <a:rect l="textAreaLeft" t="textAreaTop" r="textAreaRight" b="textAreaBottom"/>
            <a:pathLst>
              <a:path w="31224" h="21600">
                <a:moveTo>
                  <a:pt x="0" y="0"/>
                </a:moveTo>
                <a:lnTo>
                  <a:pt x="31224" y="0"/>
                </a:lnTo>
                <a:lnTo>
                  <a:pt x="31224" y="21600"/>
                </a:lnTo>
                <a:lnTo>
                  <a:pt x="0" y="21600"/>
                </a:lnTo>
                <a:close/>
              </a:path>
              <a:path fill="lightenLess" w="31224" h="21600">
                <a:moveTo>
                  <a:pt x="0" y="0"/>
                </a:moveTo>
                <a:lnTo>
                  <a:pt x="31224" y="0"/>
                </a:lnTo>
                <a:lnTo>
                  <a:pt x="29874" y="1350"/>
                </a:lnTo>
                <a:lnTo>
                  <a:pt x="1350" y="1350"/>
                </a:lnTo>
                <a:close/>
              </a:path>
              <a:path fill="darken" w="31224" h="21600">
                <a:moveTo>
                  <a:pt x="31224" y="0"/>
                </a:moveTo>
                <a:lnTo>
                  <a:pt x="31224" y="21600"/>
                </a:lnTo>
                <a:lnTo>
                  <a:pt x="29874" y="20250"/>
                </a:lnTo>
                <a:lnTo>
                  <a:pt x="29874" y="1350"/>
                </a:lnTo>
                <a:close/>
              </a:path>
              <a:path fill="darkenLess" w="31224" h="21600">
                <a:moveTo>
                  <a:pt x="312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74" y="20250"/>
                </a:lnTo>
                <a:close/>
              </a:path>
              <a:path fill="lighten" w="312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224" h="21600">
                <a:moveTo>
                  <a:pt x="8568" y="10800"/>
                </a:moveTo>
                <a:lnTo>
                  <a:pt x="22656" y="3756"/>
                </a:lnTo>
                <a:lnTo>
                  <a:pt x="22656" y="17844"/>
                </a:lnTo>
                <a:close/>
              </a:path>
            </a:pathLst>
          </a:custGeom>
          <a:gradFill rotWithShape="0">
            <a:gsLst>
              <a:gs pos="0">
                <a:srgbClr val="e82ccd">
                  <a:alpha val="54117"/>
                </a:srgbClr>
              </a:gs>
              <a:gs pos="100000">
                <a:srgbClr val="6b145f">
                  <a:alpha val="5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956720" y="33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6:59:56Z</dcterms:created>
  <dc:creator/>
  <dc:description/>
  <cp:keywords>幻灯片之家 http:/www.eeppt.com</cp:keywords>
  <dc:language>en-US</dc:language>
  <cp:lastModifiedBy/>
  <dcterms:modified xsi:type="dcterms:W3CDTF">2015-07-13T08:26:5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