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18.png" ContentType="image/png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6.png" ContentType="image/png"/>
  <Override PartName="/ppt/media/image31.png" ContentType="image/png"/>
  <Override PartName="/ppt/media/image29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2.png" ContentType="image/png"/>
  <Override PartName="/ppt/media/image1.jpeg" ContentType="image/jpeg"/>
  <Override PartName="/ppt/media/image33.png" ContentType="image/png"/>
  <Override PartName="/ppt/media/image15.gif" ContentType="image/gif"/>
  <Override PartName="/ppt/media/image5.jpeg" ContentType="image/jpe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14.gif" ContentType="image/gif"/>
  <Override PartName="/ppt/media/image16.gif" ContentType="image/gif"/>
  <Override PartName="/ppt/media/image19.png" ContentType="image/png"/>
  <Override PartName="/ppt/media/image21.png" ContentType="image/png"/>
  <Override PartName="/ppt/media/image17.gif" ContentType="image/gif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B62E-95B7-4A07-A250-5D1A4C0E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22AE-F636-45F0-A5CB-09401CA8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9B2E-7C82-4A22-A668-07DDC9DD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E63D-07D8-4094-A017-454559898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654C-19C9-43F8-A282-7C9F6937A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CCF1-8C6B-4B36-B199-1DCB004B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E0FC-051D-4557-8362-F67D8980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83B8-0619-4BB6-BBE9-4C01E3D5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FC7F-6D44-45AC-8B9D-7B588E52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5AF2-B0B2-4982-B467-9265CD5F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8CAB-68B9-4F6C-888B-D2BE0C75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CCB1-75DA-46A7-BC2B-5CCA22E1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3DE2-4D80-4715-BE57-3308B65F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FF78-E053-485F-A852-72CFE709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E4D6-94BB-412E-8A57-96A46808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D6C3-E74C-415C-9817-A30F5828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60A2-607E-447D-9C28-2811759B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C9D01-9BD1-4126-A0F5-D3DB06B8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330E9-3FD5-4EFD-9C1A-59A2625E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C87D5-F2E2-47CB-9218-28730049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49C6B-EEC2-4610-A801-1099FDE2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4F67F-E1B4-4E85-A174-A697E295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5E61-3272-4B43-B32A-D1668DEB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55995-0686-4927-A7CC-DC6A0499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6EFB7-1463-4FB2-9C94-EE4DD6BA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BA4B0-8169-451A-B7CD-F356F722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5AA43-A5E4-44B7-BD7A-6154268D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411D2-6823-4BE2-A8DF-30BE335F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4B519-ED5B-4984-BD03-12D5866F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C5029-9D66-4275-861D-ACD60BC9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CC1AA-653C-4C5D-A8EA-CAA01750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11A20-5AE5-44EC-B8D1-76D6D052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E3435-8708-4F3E-BD0F-1F24547D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60E3-2F34-41D6-AC94-EE6C95EA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4F948-1F83-4B3E-8DD0-DE850AEA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DBB5A-4123-4DD5-A81A-F45E0B34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5D163-4823-4EAB-9F8B-FA89C268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7F2A5-7FAD-4DC8-AD93-82B13CD7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05BAA-87D8-4119-9151-3357E292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2665F-66F6-4415-8D53-B0EB5A2D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90EDB-12CA-4CB6-9E26-22F0AAB0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9A402-BE05-4C56-B506-57D72F9BE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7BD5B-1CB5-46FC-B33B-7ECB28AE5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009B-288B-4C31-A79D-A2FD6E70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B0EB-98CB-437A-8CF3-B52AFFE8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E488-B49D-4C6B-A18D-A50A9EC5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BB0C-5CED-4827-954B-48E248AE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1AB9-3567-4596-97A6-EADE8355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D091-3E69-4B34-82FD-85DC5719870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AE28-1F22-4065-9891-C912D421C09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64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57DC-A78B-406D-AC36-DC6ACDBD6E0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BFE1-3F42-4D3E-9E6C-FB6409DC482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25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647B-34F8-425F-A683-57CE1689464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DCA4-647F-4BB9-98F0-82307D8B6B3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A4C2-3850-4520-B969-8B0C3BF76CF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2AE8-4C96-46C0-A731-E16D6040264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7.gif"/><Relationship Id="rId7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zhongguofeng/" TargetMode="External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slideLayout" Target="../slideLayouts/slideLayout3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6" descr=""/>
          <p:cNvPicPr/>
          <p:nvPr/>
        </p:nvPicPr>
        <p:blipFill>
          <a:blip r:embed="rId2"/>
          <a:stretch/>
        </p:blipFill>
        <p:spPr>
          <a:xfrm>
            <a:off x="611280" y="552600"/>
            <a:ext cx="5472000" cy="22716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7"/>
          <p:cNvSpPr/>
          <p:nvPr/>
        </p:nvSpPr>
        <p:spPr>
          <a:xfrm>
            <a:off x="3780000" y="487368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幼圆"/>
                <a:ea typeface="幼圆"/>
              </a:rPr>
              <a:t>演 说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幼圆"/>
                <a:ea typeface="幼圆"/>
              </a:rPr>
              <a:t>2014.01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1080" y="24987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1"/>
          <p:cNvSpPr/>
          <p:nvPr/>
        </p:nvSpPr>
        <p:spPr>
          <a:xfrm>
            <a:off x="2987640" y="19368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汇报提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321000" y="912960"/>
            <a:ext cx="2430360" cy="3240000"/>
            <a:chOff x="3321000" y="912960"/>
            <a:chExt cx="2430360" cy="3240000"/>
          </a:xfrm>
        </p:grpSpPr>
        <p:sp>
          <p:nvSpPr>
            <p:cNvPr id="170" name=""/>
            <p:cNvSpPr/>
            <p:nvPr/>
          </p:nvSpPr>
          <p:spPr>
            <a:xfrm>
              <a:off x="3321000" y="912960"/>
              <a:ext cx="2430360" cy="498240"/>
            </a:xfrm>
            <a:prstGeom prst="roundRect">
              <a:avLst>
                <a:gd name="adj" fmla="val 10000"/>
              </a:avLst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56680" y="912960"/>
              <a:ext cx="189468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、分段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70680" y="962640"/>
              <a:ext cx="486000" cy="398520"/>
            </a:xfrm>
            <a:prstGeom prst="roundRect">
              <a:avLst>
                <a:gd name="adj" fmla="val 1000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21000" y="1461240"/>
              <a:ext cx="2430360" cy="498240"/>
            </a:xfrm>
            <a:prstGeom prst="roundRect">
              <a:avLst>
                <a:gd name="adj" fmla="val 10000"/>
              </a:avLst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56680" y="1461240"/>
              <a:ext cx="189468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二、分段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70680" y="1510920"/>
              <a:ext cx="486000" cy="398520"/>
            </a:xfrm>
            <a:prstGeom prst="roundRect">
              <a:avLst>
                <a:gd name="adj" fmla="val 1000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21000" y="2009520"/>
              <a:ext cx="2430360" cy="498240"/>
            </a:xfrm>
            <a:prstGeom prst="roundRect">
              <a:avLst>
                <a:gd name="adj" fmla="val 10000"/>
              </a:avLst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56680" y="2009520"/>
              <a:ext cx="189468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三、分段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70680" y="2059200"/>
              <a:ext cx="486000" cy="398520"/>
            </a:xfrm>
            <a:prstGeom prst="roundRect">
              <a:avLst>
                <a:gd name="adj" fmla="val 1000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21000" y="2557800"/>
              <a:ext cx="2430360" cy="498240"/>
            </a:xfrm>
            <a:prstGeom prst="roundRect">
              <a:avLst>
                <a:gd name="adj" fmla="val 10000"/>
              </a:avLst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56680" y="2557800"/>
              <a:ext cx="189468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四、分段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70680" y="2607840"/>
              <a:ext cx="486000" cy="398520"/>
            </a:xfrm>
            <a:prstGeom prst="roundRect">
              <a:avLst>
                <a:gd name="adj" fmla="val 1000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21000" y="3106080"/>
              <a:ext cx="2430360" cy="498240"/>
            </a:xfrm>
            <a:prstGeom prst="roundRect">
              <a:avLst>
                <a:gd name="adj" fmla="val 10000"/>
              </a:avLst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56680" y="3106080"/>
              <a:ext cx="189468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五、分段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70680" y="3156120"/>
              <a:ext cx="486000" cy="398520"/>
            </a:xfrm>
            <a:prstGeom prst="roundRect">
              <a:avLst>
                <a:gd name="adj" fmla="val 1000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21000" y="3654720"/>
              <a:ext cx="2430360" cy="498240"/>
            </a:xfrm>
            <a:prstGeom prst="roundRect">
              <a:avLst>
                <a:gd name="adj" fmla="val 10000"/>
              </a:avLst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56680" y="3654720"/>
              <a:ext cx="189468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六、分段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370680" y="3704400"/>
              <a:ext cx="486000" cy="398520"/>
            </a:xfrm>
            <a:prstGeom prst="roundRect">
              <a:avLst>
                <a:gd name="adj" fmla="val 1000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26692-8E07-4D58-A487-EFC14D03DE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755640" y="3278160"/>
            <a:ext cx="25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 Narrow"/>
              </a:rPr>
              <a:t>来源</a:t>
            </a:r>
            <a:r>
              <a:rPr b="1" lang="zh-CN" sz="1800" spc="-1" strike="noStrike">
                <a:solidFill>
                  <a:srgbClr val="1c1c1c"/>
                </a:solidFill>
                <a:latin typeface="Arial Narrow"/>
              </a:rPr>
              <a:t>: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06960" y="3693960"/>
            <a:ext cx="1511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</a:rPr>
              <a:t>分享者</a:t>
            </a:r>
            <a:r>
              <a:rPr b="0" lang="zh-CN" sz="1400" spc="-1" strike="noStrike">
                <a:solidFill>
                  <a:srgbClr val="1c1c1c"/>
                </a:solidFill>
                <a:latin typeface="Arial"/>
              </a:rPr>
              <a:t>: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4478400"/>
            <a:ext cx="640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eeppt.com- 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为您免费提供大量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下载包括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背景图片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素材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图表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动态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PowerPoin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等各类幻灯片模板。让您轻松制作出精美好看的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857160" y="277920"/>
            <a:ext cx="1524240" cy="523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2927520" y="277920"/>
            <a:ext cx="1428480" cy="4921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4775040" y="338040"/>
            <a:ext cx="1238400" cy="4287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6813720" y="404640"/>
            <a:ext cx="1143000" cy="397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516720" y="5197320"/>
            <a:ext cx="251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3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i="1" lang="zh-CN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13440" y="1986120"/>
            <a:ext cx="250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1-3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张     加最后一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4-6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张     加两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7-10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张   加三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张以上  加四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B6DE8-566F-4426-97DF-05003BC68B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64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060560" y="363708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1" descr=""/>
          <p:cNvPicPr/>
          <p:nvPr/>
        </p:nvPicPr>
        <p:blipFill>
          <a:blip r:embed="rId2"/>
          <a:stretch/>
        </p:blipFill>
        <p:spPr>
          <a:xfrm>
            <a:off x="108000" y="841320"/>
            <a:ext cx="1947960" cy="184932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2" descr=""/>
          <p:cNvPicPr/>
          <p:nvPr/>
        </p:nvPicPr>
        <p:blipFill>
          <a:blip r:embed="rId3"/>
          <a:stretch/>
        </p:blipFill>
        <p:spPr>
          <a:xfrm>
            <a:off x="3708360" y="2641680"/>
            <a:ext cx="1720800" cy="70488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3" descr=""/>
          <p:cNvPicPr/>
          <p:nvPr/>
        </p:nvPicPr>
        <p:blipFill>
          <a:blip r:embed="rId4"/>
          <a:stretch/>
        </p:blipFill>
        <p:spPr>
          <a:xfrm>
            <a:off x="4203720" y="1025640"/>
            <a:ext cx="728640" cy="147960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4" descr=""/>
          <p:cNvPicPr/>
          <p:nvPr/>
        </p:nvPicPr>
        <p:blipFill>
          <a:blip r:embed="rId5"/>
          <a:stretch/>
        </p:blipFill>
        <p:spPr>
          <a:xfrm>
            <a:off x="2055960" y="946080"/>
            <a:ext cx="2092320" cy="163980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5" descr=""/>
          <p:cNvPicPr/>
          <p:nvPr/>
        </p:nvPicPr>
        <p:blipFill>
          <a:blip r:embed="rId6"/>
          <a:stretch/>
        </p:blipFill>
        <p:spPr>
          <a:xfrm>
            <a:off x="5076720" y="909720"/>
            <a:ext cx="1812960" cy="152244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6" descr=""/>
          <p:cNvPicPr/>
          <p:nvPr/>
        </p:nvPicPr>
        <p:blipFill>
          <a:blip r:embed="rId7"/>
          <a:stretch/>
        </p:blipFill>
        <p:spPr>
          <a:xfrm>
            <a:off x="6889680" y="1031760"/>
            <a:ext cx="2000160" cy="134640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7" descr=""/>
          <p:cNvPicPr/>
          <p:nvPr/>
        </p:nvPicPr>
        <p:blipFill>
          <a:blip r:embed="rId8"/>
          <a:stretch/>
        </p:blipFill>
        <p:spPr>
          <a:xfrm>
            <a:off x="5364000" y="2584440"/>
            <a:ext cx="2303640" cy="118116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8" descr=""/>
          <p:cNvPicPr/>
          <p:nvPr/>
        </p:nvPicPr>
        <p:blipFill>
          <a:blip r:embed="rId9"/>
          <a:stretch/>
        </p:blipFill>
        <p:spPr>
          <a:xfrm>
            <a:off x="4119480" y="3433680"/>
            <a:ext cx="898560" cy="210672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9" descr=""/>
          <p:cNvPicPr/>
          <p:nvPr/>
        </p:nvPicPr>
        <p:blipFill>
          <a:blip r:embed="rId10"/>
          <a:stretch/>
        </p:blipFill>
        <p:spPr>
          <a:xfrm>
            <a:off x="7515360" y="2209680"/>
            <a:ext cx="1373040" cy="141768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10" descr=""/>
          <p:cNvPicPr/>
          <p:nvPr/>
        </p:nvPicPr>
        <p:blipFill>
          <a:blip r:embed="rId11"/>
          <a:stretch/>
        </p:blipFill>
        <p:spPr>
          <a:xfrm flipH="1">
            <a:off x="5292360" y="3765600"/>
            <a:ext cx="1978200" cy="115560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11" descr=""/>
          <p:cNvPicPr/>
          <p:nvPr/>
        </p:nvPicPr>
        <p:blipFill>
          <a:blip r:embed="rId12"/>
          <a:stretch/>
        </p:blipFill>
        <p:spPr>
          <a:xfrm>
            <a:off x="7237440" y="3629160"/>
            <a:ext cx="1604880" cy="138888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12" descr=""/>
          <p:cNvPicPr/>
          <p:nvPr/>
        </p:nvPicPr>
        <p:blipFill>
          <a:blip r:embed="rId13"/>
          <a:stretch/>
        </p:blipFill>
        <p:spPr>
          <a:xfrm flipH="1">
            <a:off x="0" y="2641680"/>
            <a:ext cx="1541520" cy="123336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13" descr=""/>
          <p:cNvPicPr/>
          <p:nvPr/>
        </p:nvPicPr>
        <p:blipFill>
          <a:blip r:embed="rId14"/>
          <a:stretch/>
        </p:blipFill>
        <p:spPr>
          <a:xfrm>
            <a:off x="1736640" y="2462040"/>
            <a:ext cx="1979640" cy="159408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14" descr=""/>
          <p:cNvPicPr/>
          <p:nvPr/>
        </p:nvPicPr>
        <p:blipFill>
          <a:blip r:embed="rId15"/>
          <a:stretch/>
        </p:blipFill>
        <p:spPr>
          <a:xfrm>
            <a:off x="5200560" y="4867200"/>
            <a:ext cx="2038320" cy="75420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15" descr=""/>
          <p:cNvPicPr/>
          <p:nvPr/>
        </p:nvPicPr>
        <p:blipFill>
          <a:blip r:embed="rId16"/>
          <a:stretch/>
        </p:blipFill>
        <p:spPr>
          <a:xfrm flipH="1">
            <a:off x="1954080" y="3992400"/>
            <a:ext cx="2486160" cy="10810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16" descr=""/>
          <p:cNvPicPr/>
          <p:nvPr/>
        </p:nvPicPr>
        <p:blipFill>
          <a:blip r:embed="rId17"/>
          <a:stretch/>
        </p:blipFill>
        <p:spPr>
          <a:xfrm>
            <a:off x="0" y="4343400"/>
            <a:ext cx="2798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2T14:33:00Z</dcterms:created>
  <dc:creator/>
  <dc:description/>
  <cp:keywords>幻灯片之家 http:/www.eeppt.com</cp:keywords>
  <dc:language>en-US</dc:language>
  <cp:lastModifiedBy/>
  <dcterms:modified xsi:type="dcterms:W3CDTF">2015-07-09T10:03:15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