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1F0-76A6-45C1-84E9-55D9DDC1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E5C-7BD5-44EF-A2D0-6C5627D9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0DD-75C1-4FBA-83E6-482430FD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207-8950-44A8-9A73-4E9AFCC8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4D1-BE1E-4426-BB42-299ACC5F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AD3-98C0-4C00-BE20-FB18954D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0FF-02BB-4D81-9D55-81C8B58A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901E-00E8-4EC7-8213-B84560D9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469-126A-485B-8456-EBF4436F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DC5-9BAF-48D2-8614-0C2C7B2C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EFA-A408-42B1-988B-8FF37E33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366-9F60-4D95-B6B3-E19477F7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BC1E-ACF7-4875-8E4E-221E51777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2960" y="1052640"/>
            <a:ext cx="35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654160" y="29422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57080" y="29422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4720" y="296496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0720" y="296496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13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830-CC1A-4C42-BCBE-3817A2444B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335760" y="162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35760" y="292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9040" y="4219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040" y="422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8320" y="5582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62680" y="5582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75760" y="5582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/>
  <dc:description/>
  <cp:keywords>幻灯片之家 http:/www.eeppt.com</cp:keywords>
  <dc:language>en-US</dc:language>
  <cp:lastModifiedBy/>
  <dcterms:modified xsi:type="dcterms:W3CDTF">2015-07-09T10:07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