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0D8-A1B9-4B20-B8C6-125BA985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105156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227760"/>
            <a:ext cx="105156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92D-249F-4258-8FEE-7DEF13FF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322776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B93-1A0F-477F-BFA5-7B82B1CC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43820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43820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22776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322776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322776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482-543F-4DDD-8610-99AF08A4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438200"/>
            <a:ext cx="10515600" cy="34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17D-F5EF-4A22-A817-F39727D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105156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0EB-9DFF-482E-883D-745A17B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F72-A8CD-4176-BA6B-6761E245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E17-EB8F-47FD-99B8-55515DA7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87280"/>
            <a:ext cx="105156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88"/>
              </a:spcBef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039-0DA4-4936-9686-28096C6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CF1-AC6C-4E5B-97F1-FF335D8B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322776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0AE-045E-4B30-B970-B6F7D48E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105156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567-2B77-4DD8-A53A-E2A3345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438200"/>
            <a:ext cx="105156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36036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20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81080" indent="-36036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41440" indent="-720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41440" indent="-720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41440" indent="-720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5005440"/>
            <a:ext cx="27432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5C82-3A09-44E7-9DF5-8A477EBE1A7F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5005440"/>
            <a:ext cx="4114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5005440"/>
            <a:ext cx="27432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31E8-6086-4398-A6AD-F0D0753536F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表 7" descr=""/>
          <p:cNvPicPr/>
          <p:nvPr/>
        </p:nvPicPr>
        <p:blipFill>
          <a:blip r:embed="rId1"/>
          <a:stretch/>
        </p:blipFill>
        <p:spPr>
          <a:xfrm>
            <a:off x="1238400" y="98280"/>
            <a:ext cx="9188280" cy="52452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9"/>
          <p:cNvSpPr/>
          <p:nvPr/>
        </p:nvSpPr>
        <p:spPr>
          <a:xfrm>
            <a:off x="5670720" y="257976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4120" y="8096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最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创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5320" y="4146480"/>
            <a:ext cx="68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4960" y="149400"/>
            <a:ext cx="109429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360" y="999720"/>
            <a:ext cx="119030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9715680" y="262080"/>
            <a:ext cx="1852560" cy="276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590-C659-4A71-A348-0905D1D72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1:33:00Z</dcterms:created>
  <dc:creator/>
  <dc:description/>
  <cp:keywords>幻灯片之家 http:/www.eeppt.com</cp:keywords>
  <dc:language>en-US</dc:language>
  <cp:lastModifiedBy/>
  <dcterms:modified xsi:type="dcterms:W3CDTF">2015-07-06T02:44:39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