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0F2-6448-42CF-8772-36332BF5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591-0862-4939-A6C6-B78C4E33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60C-E70F-463D-9881-594D22BA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8D2-1D68-4240-A9EC-B6AA4A27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1B1-4367-4A17-B820-74E729C6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037-3D82-4A17-80B2-662E8F61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B0F-03FD-4C3E-B6CB-AA558064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1CE-4FE8-4B9B-82C0-C520E950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41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C6A-7641-4E6D-BBD2-D7D64D8F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24F-CB8D-4628-99FD-38FD5F3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56F-2360-4E6E-BD91-8155BADB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42C-0811-4C8C-AE2F-7A818BC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0cf9b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10cf9b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10cf9b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10cf9b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10cf9b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871-14CA-4A5A-9CFC-59C056E4B038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071D-3E3C-4085-887C-CA4FFF61909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47941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440" y="5692320"/>
            <a:ext cx="8207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273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01600" y="836640"/>
            <a:ext cx="22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植物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10cf9b"/>
              </a:buClr>
              <a:buSzPct val="2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Times New Roman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6A0-0BE0-407D-A58F-A4EE463F12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21:16:00Z</dcterms:created>
  <dc:creator/>
  <dc:description/>
  <cp:keywords>幻灯片之家 http:/www.eeppt.com</cp:keywords>
  <dc:language>en-US</dc:language>
  <cp:lastModifiedBy/>
  <dcterms:modified xsi:type="dcterms:W3CDTF">2015-07-13T09:43:0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