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A3B-0705-4DEE-8A34-BEC7E256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828-A1E7-4BF7-B2F4-FBDFD16E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447-3C7E-4420-82A7-F90670D6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46F-326D-4255-ABDC-59991734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7362-450B-4C53-8B09-D7EA0834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3E9E-C728-4B69-BA82-1695E2E1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BD3A-B5FA-4D4E-8558-55C89059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503B-38BE-4509-9B1C-D579EA68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FE5E-7D31-4754-87FE-B5FC013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7E74-3098-4999-B7C7-9E1CC29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36DA-0C02-4D04-98EC-54F9B9B5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DEC-E2E2-477D-A3E1-C3C4D99B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A3AE-9219-477D-829C-358D7A0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3E2E-B599-4AE1-A347-23394273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ABD8-C9E6-4ECA-BD6C-401F2A70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1FBC-54E7-41CA-A8B7-ACC97D4E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D1B9-A26D-46E0-803D-EB2DB41A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BE4-A47E-47AF-B233-7F5B2043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15A-D0CB-4F7D-A1C4-3AF8EFD7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248-45AE-40E4-8A54-30C9DAD6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B82-566D-4A89-A47D-46DB65F9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823-FC00-4FE0-8DA5-4C66420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762-B0CC-46F5-A75B-7D79A3FA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52E-DBA3-45CD-8C6B-C9E2D69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11160" y="281160"/>
            <a:ext cx="915516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0520" y="5335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5" name="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0720" y="347760"/>
              <a:ext cx="258120" cy="2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8" name="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152640"/>
              <a:ext cx="508320" cy="39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1" name="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360" y="945720"/>
              <a:ext cx="600480" cy="50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44A4-338A-4D1B-A542-3EBFAE977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7" name="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86600" y="1947960"/>
              <a:ext cx="355680" cy="35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60" name="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0120" y="1523880"/>
              <a:ext cx="762120" cy="60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3" name="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3657240"/>
              <a:ext cx="10792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2FA6-5C8F-4E9E-9E41-631C8CCD7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69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最新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国外简约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下载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da0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e38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2e38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7a47"/>
              </a:gs>
              <a:gs pos="50000">
                <a:srgbClr val="b2e385"/>
              </a:gs>
              <a:gs pos="100000">
                <a:srgbClr val="5f7a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e385">
                  <a:alpha val="0"/>
                </a:srgbClr>
              </a:gs>
              <a:gs pos="100000">
                <a:srgbClr val="708f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3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5aa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e4e6b"/>
              </a:gs>
              <a:gs pos="100000">
                <a:srgbClr val="65aa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5b7d"/>
              </a:gs>
              <a:gs pos="50000">
                <a:srgbClr val="65aae9"/>
              </a:gs>
              <a:gs pos="100000">
                <a:srgbClr val="365b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5aae9">
                  <a:alpha val="0"/>
                </a:srgbClr>
              </a:gs>
              <a:gs pos="100000">
                <a:srgbClr val="3f6b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3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8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1523880"/>
            <a:ext cx="7543800" cy="4495680"/>
            <a:chOff x="914400" y="1523880"/>
            <a:chExt cx="7543800" cy="4495680"/>
          </a:xfrm>
        </p:grpSpPr>
        <p:sp>
          <p:nvSpPr>
            <p:cNvPr id="300" name=""/>
            <p:cNvSpPr/>
            <p:nvPr/>
          </p:nvSpPr>
          <p:spPr>
            <a:xfrm>
              <a:off x="106668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da0d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048120" y="3836880"/>
              <a:ext cx="1981080" cy="2030400"/>
              <a:chOff x="3048120" y="3836880"/>
              <a:chExt cx="1981080" cy="2030400"/>
            </a:xfrm>
          </p:grpSpPr>
          <p:pic>
            <p:nvPicPr>
              <p:cNvPr id="3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3208320" y="383688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29200" y="384624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64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8640" y="3906720"/>
                <a:ext cx="140976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143000" y="3473280"/>
              <a:ext cx="1676520" cy="1631880"/>
              <a:chOff x="1143000" y="3473280"/>
              <a:chExt cx="1676520" cy="1631880"/>
            </a:xfrm>
          </p:grpSpPr>
          <p:pic>
            <p:nvPicPr>
              <p:cNvPr id="3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464184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1362240" y="347328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79520" y="348120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93920" y="3493800"/>
                <a:ext cx="1266840" cy="1244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67000" y="3528720"/>
                <a:ext cx="1126800" cy="1009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914400" y="2104920"/>
              <a:ext cx="1371600" cy="1204920"/>
              <a:chOff x="914400" y="2104920"/>
              <a:chExt cx="1371600" cy="1204920"/>
            </a:xfrm>
          </p:grpSpPr>
          <p:pic>
            <p:nvPicPr>
              <p:cNvPr id="3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400" y="2931840"/>
                <a:ext cx="13716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1117440" y="210492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0400" y="21096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415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55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514600" y="1523880"/>
              <a:ext cx="1066680" cy="828720"/>
              <a:chOff x="2514600" y="1523880"/>
              <a:chExt cx="1066680" cy="828720"/>
            </a:xfrm>
          </p:grpSpPr>
          <p:pic>
            <p:nvPicPr>
              <p:cNvPr id="3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146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271296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7226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28800" y="153324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765520" y="15523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27835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472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4592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259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1320" y="3595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33da9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39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42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45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48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51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54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94961"/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61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57760" y="31528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143000" y="1984320"/>
            <a:ext cx="2170080" cy="4035600"/>
            <a:chOff x="1143000" y="1984320"/>
            <a:chExt cx="2170080" cy="4035600"/>
          </a:xfrm>
        </p:grpSpPr>
        <p:sp>
          <p:nvSpPr>
            <p:cNvPr id="375" name=""/>
            <p:cNvSpPr/>
            <p:nvPr/>
          </p:nvSpPr>
          <p:spPr>
            <a:xfrm>
              <a:off x="114300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7648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9376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9376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948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9376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887480" y="1984320"/>
              <a:ext cx="642960" cy="642960"/>
              <a:chOff x="1887480" y="1984320"/>
              <a:chExt cx="642960" cy="642960"/>
            </a:xfrm>
          </p:grpSpPr>
          <p:sp>
            <p:nvSpPr>
              <p:cNvPr id="382" name=""/>
              <p:cNvSpPr/>
              <p:nvPr/>
            </p:nvSpPr>
            <p:spPr>
              <a:xfrm>
                <a:off x="18874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939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0188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083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422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02752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932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05320" y="1984320"/>
            <a:ext cx="2166840" cy="4035600"/>
            <a:chOff x="3505320" y="1984320"/>
            <a:chExt cx="2166840" cy="4035600"/>
          </a:xfrm>
        </p:grpSpPr>
        <p:sp>
          <p:nvSpPr>
            <p:cNvPr id="390" name=""/>
            <p:cNvSpPr/>
            <p:nvPr/>
          </p:nvSpPr>
          <p:spPr>
            <a:xfrm>
              <a:off x="350532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3880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5608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608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49800" y="1984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56280" y="19890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64200" y="19922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70320" y="19987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05600" y="20145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8984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164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085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52840" y="517356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861160" y="1984320"/>
            <a:ext cx="2170080" cy="4035600"/>
            <a:chOff x="5861160" y="1984320"/>
            <a:chExt cx="2170080" cy="4035600"/>
          </a:xfrm>
        </p:grpSpPr>
        <p:sp>
          <p:nvSpPr>
            <p:cNvPr id="404" name=""/>
            <p:cNvSpPr/>
            <p:nvPr/>
          </p:nvSpPr>
          <p:spPr>
            <a:xfrm>
              <a:off x="586764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0076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1840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1840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6612120" y="1984320"/>
              <a:ext cx="642960" cy="642960"/>
              <a:chOff x="6612120" y="1984320"/>
              <a:chExt cx="642960" cy="642960"/>
            </a:xfrm>
          </p:grpSpPr>
          <p:sp>
            <p:nvSpPr>
              <p:cNvPr id="409" name=""/>
              <p:cNvSpPr/>
              <p:nvPr/>
            </p:nvSpPr>
            <p:spPr>
              <a:xfrm>
                <a:off x="661212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1860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2652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3300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6684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675216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360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611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05440" y="517356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906080" y="3584160"/>
            <a:ext cx="1703880" cy="2679120"/>
            <a:chOff x="4906080" y="3584160"/>
            <a:chExt cx="1703880" cy="2679120"/>
          </a:xfrm>
        </p:grpSpPr>
        <p:grpSp>
          <p:nvGrpSpPr>
            <p:cNvPr id="422" name=""/>
            <p:cNvGrpSpPr/>
            <p:nvPr/>
          </p:nvGrpSpPr>
          <p:grpSpPr>
            <a:xfrm>
              <a:off x="4906080" y="3762720"/>
              <a:ext cx="1577160" cy="2500560"/>
              <a:chOff x="4906080" y="3762720"/>
              <a:chExt cx="1577160" cy="2500560"/>
            </a:xfrm>
          </p:grpSpPr>
          <p:sp>
            <p:nvSpPr>
              <p:cNvPr id="423" name=""/>
              <p:cNvSpPr/>
              <p:nvPr/>
            </p:nvSpPr>
            <p:spPr>
              <a:xfrm rot="3876600">
                <a:off x="44427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876600">
                <a:off x="59475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26" name="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4427640" y="2662200"/>
            <a:ext cx="1439640" cy="1440000"/>
            <a:chOff x="4427640" y="2662200"/>
            <a:chExt cx="1439640" cy="1440000"/>
          </a:xfrm>
        </p:grpSpPr>
        <p:sp>
          <p:nvSpPr>
            <p:cNvPr id="429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22680" y="27558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22680" y="275904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84600" y="281952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601880" y="2836800"/>
              <a:ext cx="1090440" cy="1092240"/>
              <a:chOff x="4601880" y="2836800"/>
              <a:chExt cx="1090440" cy="1092240"/>
            </a:xfrm>
          </p:grpSpPr>
          <p:sp>
            <p:nvSpPr>
              <p:cNvPr id="435" name=""/>
              <p:cNvSpPr/>
              <p:nvPr/>
            </p:nvSpPr>
            <p:spPr>
              <a:xfrm>
                <a:off x="460188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15560" y="284292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2708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8612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7138080" y="3657240"/>
            <a:ext cx="1703880" cy="2679120"/>
            <a:chOff x="7138080" y="3657240"/>
            <a:chExt cx="1703880" cy="2679120"/>
          </a:xfrm>
        </p:grpSpPr>
        <p:grpSp>
          <p:nvGrpSpPr>
            <p:cNvPr id="440" name=""/>
            <p:cNvGrpSpPr/>
            <p:nvPr/>
          </p:nvGrpSpPr>
          <p:grpSpPr>
            <a:xfrm>
              <a:off x="7138080" y="3835800"/>
              <a:ext cx="1577160" cy="2500560"/>
              <a:chOff x="7138080" y="3835800"/>
              <a:chExt cx="1577160" cy="2500560"/>
            </a:xfrm>
          </p:grpSpPr>
          <p:sp>
            <p:nvSpPr>
              <p:cNvPr id="441" name=""/>
              <p:cNvSpPr/>
              <p:nvPr/>
            </p:nvSpPr>
            <p:spPr>
              <a:xfrm rot="3876600">
                <a:off x="6674760" y="48070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3876600">
                <a:off x="8179560" y="57754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44" name="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52" name="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69720" y="272016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858760" y="3583800"/>
            <a:ext cx="1703880" cy="2679480"/>
            <a:chOff x="2858760" y="3583800"/>
            <a:chExt cx="1703880" cy="2679480"/>
          </a:xfrm>
        </p:grpSpPr>
        <p:grpSp>
          <p:nvGrpSpPr>
            <p:cNvPr id="457" name="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58" name="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876600">
                <a:off x="390024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352680" y="3583800"/>
              <a:ext cx="1209960" cy="1918800"/>
              <a:chOff x="3352680" y="3583800"/>
              <a:chExt cx="1209960" cy="1918800"/>
            </a:xfrm>
          </p:grpSpPr>
          <p:sp>
            <p:nvSpPr>
              <p:cNvPr id="461" name=""/>
              <p:cNvSpPr/>
              <p:nvPr/>
            </p:nvSpPr>
            <p:spPr>
              <a:xfrm flipV="1" rot="3876600">
                <a:off x="299700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 rot="3876600">
                <a:off x="413424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2379600" y="2662200"/>
            <a:ext cx="1440000" cy="1440000"/>
            <a:chOff x="2379600" y="2662200"/>
            <a:chExt cx="1440000" cy="1440000"/>
          </a:xfrm>
        </p:grpSpPr>
        <p:sp>
          <p:nvSpPr>
            <p:cNvPr id="464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7500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7500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3692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554200" y="2836800"/>
              <a:ext cx="1090800" cy="1092240"/>
              <a:chOff x="2554200" y="2836800"/>
              <a:chExt cx="1090800" cy="1092240"/>
            </a:xfrm>
          </p:grpSpPr>
          <p:sp>
            <p:nvSpPr>
              <p:cNvPr id="470" name=""/>
              <p:cNvSpPr/>
              <p:nvPr/>
            </p:nvSpPr>
            <p:spPr>
              <a:xfrm>
                <a:off x="255420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57940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3844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875880" y="3583800"/>
            <a:ext cx="1703880" cy="2679480"/>
            <a:chOff x="875880" y="3583800"/>
            <a:chExt cx="1703880" cy="2679480"/>
          </a:xfrm>
        </p:grpSpPr>
        <p:grpSp>
          <p:nvGrpSpPr>
            <p:cNvPr id="475" name="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76" name="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3876600">
                <a:off x="19173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369800" y="3583800"/>
              <a:ext cx="1209960" cy="1918800"/>
              <a:chOff x="1369800" y="3583800"/>
              <a:chExt cx="1209960" cy="1918800"/>
            </a:xfrm>
          </p:grpSpPr>
          <p:sp>
            <p:nvSpPr>
              <p:cNvPr id="479" name=""/>
              <p:cNvSpPr/>
              <p:nvPr/>
            </p:nvSpPr>
            <p:spPr>
              <a:xfrm flipV="1" rot="3876600">
                <a:off x="101412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 rot="3876600">
                <a:off x="215136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396720" y="2662200"/>
            <a:ext cx="1440000" cy="1440000"/>
            <a:chOff x="396720" y="2662200"/>
            <a:chExt cx="1440000" cy="1440000"/>
          </a:xfrm>
        </p:grpSpPr>
        <p:sp>
          <p:nvSpPr>
            <p:cNvPr id="482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212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212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404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571320" y="2836800"/>
              <a:ext cx="1090800" cy="1092240"/>
              <a:chOff x="571320" y="2836800"/>
              <a:chExt cx="1090800" cy="1092240"/>
            </a:xfrm>
          </p:grpSpPr>
          <p:sp>
            <p:nvSpPr>
              <p:cNvPr id="488" name=""/>
              <p:cNvSpPr/>
              <p:nvPr/>
            </p:nvSpPr>
            <p:spPr>
              <a:xfrm>
                <a:off x="57132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9652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556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0" idx="3"/>
            <a:endCxn id="501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1" idx="3"/>
            <a:endCxn id="502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2" idx="3"/>
            <a:endCxn id="503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112040" y="1935000"/>
            <a:ext cx="6436800" cy="1387800"/>
            <a:chOff x="1112040" y="1935000"/>
            <a:chExt cx="6436800" cy="1387800"/>
          </a:xfrm>
        </p:grpSpPr>
        <p:sp>
          <p:nvSpPr>
            <p:cNvPr id="520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2286360" y="2331720"/>
              <a:ext cx="932040" cy="131760"/>
              <a:chOff x="2286360" y="2331720"/>
              <a:chExt cx="932040" cy="131760"/>
            </a:xfrm>
          </p:grpSpPr>
          <p:sp>
            <p:nvSpPr>
              <p:cNvPr id="522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7564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7728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5252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007520" y="2331720"/>
              <a:ext cx="932040" cy="131760"/>
              <a:chOff x="4007520" y="2331720"/>
              <a:chExt cx="932040" cy="131760"/>
            </a:xfrm>
          </p:grpSpPr>
          <p:sp>
            <p:nvSpPr>
              <p:cNvPr id="528" name=""/>
              <p:cNvSpPr/>
              <p:nvPr/>
            </p:nvSpPr>
            <p:spPr>
              <a:xfrm>
                <a:off x="400752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09680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736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rot="3418800">
              <a:off x="469260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728680" y="2331720"/>
              <a:ext cx="1218600" cy="131760"/>
              <a:chOff x="5728680" y="2331720"/>
              <a:chExt cx="1218600" cy="131760"/>
            </a:xfrm>
          </p:grpSpPr>
          <p:sp>
            <p:nvSpPr>
              <p:cNvPr id="534" name=""/>
              <p:cNvSpPr/>
              <p:nvPr/>
            </p:nvSpPr>
            <p:spPr>
              <a:xfrm>
                <a:off x="5728680" y="23317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4532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6124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rot="3418800">
              <a:off x="641376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85800" y="2184480"/>
          <a:ext cx="7620120" cy="31716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990000" y="1173600"/>
            <a:ext cx="6879600" cy="4804560"/>
            <a:chOff x="990000" y="1173600"/>
            <a:chExt cx="6879600" cy="4804560"/>
          </a:xfrm>
        </p:grpSpPr>
        <p:sp>
          <p:nvSpPr>
            <p:cNvPr id="551" name="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130320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rot="20602200">
              <a:off x="128124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131292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rot="20602200">
              <a:off x="129528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601600">
              <a:off x="284976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7016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7220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539200">
              <a:off x="130752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75" name=""/>
            <p:cNvSpPr/>
            <p:nvPr/>
          </p:nvSpPr>
          <p:spPr>
            <a:xfrm>
              <a:off x="69339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81680" y="448164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08f54"/>
                </a:gs>
                <a:gs pos="100000">
                  <a:srgbClr val="b2e385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720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0a460"/>
                </a:gs>
                <a:gs pos="100000">
                  <a:srgbClr val="b2e3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713124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82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0600" y="4481640"/>
              <a:ext cx="154476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6b93"/>
                </a:gs>
                <a:gs pos="100000">
                  <a:srgbClr val="65aa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87aa8"/>
                </a:gs>
                <a:gs pos="100000">
                  <a:srgbClr val="65aa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515016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9" name=""/>
            <p:cNvSpPr/>
            <p:nvPr/>
          </p:nvSpPr>
          <p:spPr>
            <a:xfrm>
              <a:off x="297144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19520" y="4481640"/>
              <a:ext cx="154440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2640" y="451800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4f6585"/>
                </a:gs>
                <a:gs pos="100000">
                  <a:srgbClr val="7da0d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952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5a7398"/>
                </a:gs>
                <a:gs pos="100000">
                  <a:srgbClr val="7da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316872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96" name=""/>
            <p:cNvSpPr/>
            <p:nvPr/>
          </p:nvSpPr>
          <p:spPr>
            <a:xfrm>
              <a:off x="9903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80920" y="448164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712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23048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13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20239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3080" y="2063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28800" y="2938320"/>
            <a:ext cx="762120" cy="665280"/>
            <a:chOff x="1828800" y="2938320"/>
            <a:chExt cx="762120" cy="665280"/>
          </a:xfrm>
        </p:grpSpPr>
        <p:sp>
          <p:nvSpPr>
            <p:cNvPr id="117" name=""/>
            <p:cNvSpPr/>
            <p:nvPr/>
          </p:nvSpPr>
          <p:spPr>
            <a:xfrm>
              <a:off x="1834920" y="2949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29383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3080" y="2977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1002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0146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27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3830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28800" y="4745160"/>
            <a:ext cx="762120" cy="664920"/>
            <a:chOff x="1828800" y="4745160"/>
            <a:chExt cx="762120" cy="664920"/>
          </a:xfrm>
        </p:grpSpPr>
        <p:sp>
          <p:nvSpPr>
            <p:cNvPr id="131" name=""/>
            <p:cNvSpPr/>
            <p:nvPr/>
          </p:nvSpPr>
          <p:spPr>
            <a:xfrm>
              <a:off x="1834920" y="4756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8800" y="4745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906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8211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2133720" y="27432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33da9"/>
                    </a:gs>
                    <a:gs pos="100000">
                      <a:srgbClr val="7da0d3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33da9"/>
                  </a:gs>
                  <a:gs pos="100000">
                    <a:srgbClr val="7da0d3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5aa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5aa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5aa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5aa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49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50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4d66"/>
                  </a:gs>
                  <a:gs pos="100000">
                    <a:srgbClr val="7da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da0d3"/>
                  </a:gs>
                  <a:gs pos="100000">
                    <a:srgbClr val="c4d4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8e0f6"/>
                </a:gs>
                <a:gs pos="100000">
                  <a:srgbClr val="65aa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48235"/>
                  </a:srgbClr>
                </a:gs>
                <a:gs pos="100000">
                  <a:srgbClr val="4f86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60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2a37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1f35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250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b2e385"/>
                </a:gs>
                <a:gs pos="100000">
                  <a:srgbClr val="3d4e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656565">
                  <a:alpha val="12156"/>
                </a:srgbClr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dddddd"/>
              </a:gs>
              <a:gs pos="100000">
                <a:srgbClr val="65656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94961"/>
              </a:gs>
              <a:gs pos="50000">
                <a:srgbClr val="7da0d3"/>
              </a:gs>
              <a:gs pos="100000">
                <a:srgbClr val="3949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ddddd"/>
              </a:gs>
              <a:gs pos="100000">
                <a:srgbClr val="e8e8e8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8e8e8">
                  <a:alpha val="12156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95480" y="2057400"/>
            <a:ext cx="3196800" cy="2890800"/>
            <a:chOff x="2895480" y="2057400"/>
            <a:chExt cx="3196800" cy="2890800"/>
          </a:xfrm>
        </p:grpSpPr>
        <p:sp>
          <p:nvSpPr>
            <p:cNvPr id="201" name=""/>
            <p:cNvSpPr/>
            <p:nvPr/>
          </p:nvSpPr>
          <p:spPr>
            <a:xfrm flipH="1" rot="16200000">
              <a:off x="2813760" y="31726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rot="5400000">
              <a:off x="5682960" y="311832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10800000">
              <a:off x="4249080" y="46213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22360" y="2057400"/>
              <a:ext cx="25653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520" y="2201760"/>
              <a:ext cx="227124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2080" y="233676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a0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2080" y="233676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34200" y="246852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435671"/>
                </a:gs>
                <a:gs pos="50000">
                  <a:srgbClr val="7da0d3"/>
                </a:gs>
                <a:gs pos="100000">
                  <a:srgbClr val="435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34200" y="246852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aae9"/>
              </a:gs>
              <a:gs pos="50000">
                <a:srgbClr val="f9fbfd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6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82880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5aae9"/>
              </a:gs>
              <a:gs pos="100000">
                <a:srgbClr val="2e4e6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624852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>幻灯片之家 http:/www.eeppt.com</cp:keywords>
  <dc:language>en-US</dc:language>
  <cp:lastModifiedBy/>
  <dcterms:modified xsi:type="dcterms:W3CDTF">2015-07-05T03:22:24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