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3.png" ContentType="image/png"/>
  <Override PartName="/ppt/media/image20.gif" ContentType="image/gif"/>
  <Override PartName="/ppt/media/image13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10.png" ContentType="image/png"/>
  <Override PartName="/ppt/media/image27.jpeg" ContentType="image/jpeg"/>
  <Override PartName="/ppt/media/image9.jpeg" ContentType="image/jpeg"/>
  <Override PartName="/ppt/media/image36.jpeg" ContentType="image/jpeg"/>
  <Override PartName="/ppt/media/image11.jpeg" ContentType="image/jpeg"/>
  <Override PartName="/ppt/media/image40.png" ContentType="image/png"/>
  <Override PartName="/ppt/media/image12.png" ContentType="image/png"/>
  <Override PartName="/ppt/media/image33.jpeg" ContentType="image/jpeg"/>
  <Override PartName="/ppt/media/image34.gif" ContentType="image/gif"/>
  <Override PartName="/ppt/media/image37.png" ContentType="image/png"/>
  <Override PartName="/ppt/media/image35.png" ContentType="image/png"/>
  <Override PartName="/ppt/media/image31.jpeg" ContentType="image/jpeg"/>
  <Override PartName="/ppt/media/image38.gif" ContentType="image/gif"/>
  <Override PartName="/ppt/media/image41.png" ContentType="image/png"/>
  <Override PartName="/ppt/media/image7.jpeg" ContentType="image/jpeg"/>
  <Override PartName="/ppt/media/image28.jpeg" ContentType="image/jpeg"/>
  <Override PartName="/ppt/media/image5.jpeg" ContentType="image/jpeg"/>
  <Override PartName="/ppt/media/image15.gif" ContentType="image/gif"/>
  <Override PartName="/ppt/media/image6.png" ContentType="image/png"/>
  <Override PartName="/ppt/media/image39.jpeg" ContentType="image/jpeg"/>
  <Override PartName="/ppt/media/image8.jpeg" ContentType="image/jpeg"/>
  <Override PartName="/ppt/media/image29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260C-73F0-4648-B5A7-A18A1FE09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A2F6-AD6E-49DE-A985-1BC98D75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D1CA-D3BF-42DA-9EFE-EDA6275B8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18FE-4750-4F47-9AA3-871744F4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BB71-3DCD-4C7C-8804-CED78103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37F-A1A2-444C-9D14-DD8D784E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03F6-F879-4BAE-AA76-FCB629443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691-FB13-4E16-83CF-C65BB9DE1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528-0177-4EE0-A537-FC03398F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842-1405-415A-A5CA-2A78F533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3BA-8115-4E8E-8977-CAB459D2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DE65-6FC3-4A78-8538-18D0CFD6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F4EB-6A61-4CE5-A6FD-AE841024A0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0.gif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820880" y="3716280"/>
            <a:ext cx="735120" cy="205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0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丰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子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恺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556000" y="5157720"/>
            <a:ext cx="7315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05_高山流水.mp3" descr=""/>
          <p:cNvPicPr/>
          <p:nvPr/>
        </p:nvPicPr>
        <p:blipFill>
          <a:blip r:embed="rId2"/>
          <a:stretch/>
        </p:blipFill>
        <p:spPr>
          <a:xfrm>
            <a:off x="8389800" y="6021360"/>
            <a:ext cx="574920" cy="574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ott010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10280" y="4800600"/>
            <a:ext cx="1371600" cy="1311120"/>
          </a:xfrm>
          <a:prstGeom prst="rect">
            <a:avLst/>
          </a:prstGeom>
          <a:ln w="0">
            <a:noFill/>
          </a:ln>
        </p:spPr>
      </p:pic>
      <p:pic>
        <p:nvPicPr>
          <p:cNvPr id="96" name="WordArt 3" descr=""/>
          <p:cNvPicPr/>
          <p:nvPr/>
        </p:nvPicPr>
        <p:blipFill>
          <a:blip r:embed="rId3"/>
          <a:stretch/>
        </p:blipFill>
        <p:spPr>
          <a:xfrm>
            <a:off x="536400" y="3670200"/>
            <a:ext cx="2968920" cy="2322720"/>
          </a:xfrm>
          <a:prstGeom prst="rect">
            <a:avLst/>
          </a:prstGeom>
          <a:ln w="0">
            <a:noFill/>
          </a:ln>
        </p:spPr>
      </p:pic>
      <p:pic>
        <p:nvPicPr>
          <p:cNvPr id="97" name="WordArt 4" descr=""/>
          <p:cNvPicPr/>
          <p:nvPr/>
        </p:nvPicPr>
        <p:blipFill>
          <a:blip r:embed="rId4"/>
          <a:stretch/>
        </p:blipFill>
        <p:spPr>
          <a:xfrm>
            <a:off x="5261040" y="785880"/>
            <a:ext cx="3157560" cy="2006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01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24000" y="62064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第一段主要交代了什么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11280" y="1700280"/>
            <a:ext cx="6705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隶书"/>
              </a:rPr>
              <a:t>时间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隶书"/>
              </a:rPr>
              <a:t>地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隶书"/>
              </a:rPr>
              <a:t>人物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99"/>
                </a:solidFill>
                <a:latin typeface="Times New Roman"/>
                <a:ea typeface="隶书"/>
              </a:rPr>
              <a:t>起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11280" y="1700280"/>
            <a:ext cx="41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隶书"/>
              </a:rPr>
              <a:t>夏天吃过晚饭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340000" y="2781360"/>
            <a:ext cx="35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隶书"/>
              </a:rPr>
              <a:t>屋后的院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484360" y="371628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隶书"/>
              </a:rPr>
              <a:t>我和弟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2556000" y="4724280"/>
            <a:ext cx="2209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隶书"/>
              </a:rPr>
              <a:t>乘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50735_20043111281685065"/>
          <p:cNvPicPr/>
          <p:nvPr/>
        </p:nvPicPr>
        <p:blipFill>
          <a:blip r:embed="rId3"/>
          <a:stretch/>
        </p:blipFill>
        <p:spPr>
          <a:xfrm>
            <a:off x="4191120" y="5486400"/>
            <a:ext cx="49528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6" dur="3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1" dur="3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3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3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468360" y="692280"/>
            <a:ext cx="807732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3399"/>
                </a:solidFill>
                <a:latin typeface="华文新魏"/>
                <a:ea typeface="华文新魏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　文章洋溢着天真烂漫的童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童趣，文章通过哪些句子体现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真童趣呢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感情地朗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相关的语句，并谈谈你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体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WordArt 3"/>
          <p:cNvSpPr txBox="1"/>
          <p:nvPr/>
        </p:nvSpPr>
        <p:spPr>
          <a:xfrm rot="5400000">
            <a:off x="-73080" y="453600"/>
            <a:ext cx="1393920" cy="1247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？</a:t>
            </a:r>
            <a:endParaRPr b="0" i="1" lang="en-US" sz="28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pic>
        <p:nvPicPr>
          <p:cNvPr id="109" name="Picture 4" descr="50735_20043111281685065"/>
          <p:cNvPicPr/>
          <p:nvPr/>
        </p:nvPicPr>
        <p:blipFill>
          <a:blip r:embed="rId4"/>
          <a:stretch/>
        </p:blipFill>
        <p:spPr>
          <a:xfrm>
            <a:off x="152280" y="5675400"/>
            <a:ext cx="4953240" cy="103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5"/>
          <a:stretch/>
        </p:blipFill>
        <p:spPr>
          <a:xfrm>
            <a:off x="7335720" y="4572000"/>
            <a:ext cx="18082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6"/>
          <p:cNvGrpSpPr/>
          <p:nvPr/>
        </p:nvGrpSpPr>
        <p:grpSpPr>
          <a:xfrm>
            <a:off x="6858000" y="2666880"/>
            <a:ext cx="2285640" cy="1600200"/>
            <a:chOff x="6858000" y="2666880"/>
            <a:chExt cx="2285640" cy="1600200"/>
          </a:xfrm>
        </p:grpSpPr>
        <p:sp>
          <p:nvSpPr>
            <p:cNvPr id="112" name="AutoShape 7"/>
            <p:cNvSpPr/>
            <p:nvPr/>
          </p:nvSpPr>
          <p:spPr>
            <a:xfrm>
              <a:off x="6858000" y="2666880"/>
              <a:ext cx="2285640" cy="1600200"/>
            </a:xfrm>
            <a:prstGeom prst="wedgeEllipseCallout">
              <a:avLst>
                <a:gd name="adj1" fmla="val -24745"/>
                <a:gd name="adj2" fmla="val 93699"/>
              </a:avLst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8"/>
            <p:cNvSpPr/>
            <p:nvPr/>
          </p:nvSpPr>
          <p:spPr>
            <a:xfrm>
              <a:off x="7157880" y="2868120"/>
              <a:ext cx="1788840" cy="10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Text Box 9"/>
          <p:cNvSpPr/>
          <p:nvPr/>
        </p:nvSpPr>
        <p:spPr>
          <a:xfrm>
            <a:off x="6732720" y="31417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Times New Roman"/>
              </a:rPr>
              <a:t>各抒己见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a0007246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250920" y="1890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看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24000" y="112536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★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天空好像一盏乏了油的灯，红光渐渐地减弱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52360" y="278136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★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那光一跳一跳地沉下去，非常微细，但又非常迅速而不可挽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179280" y="4726080"/>
            <a:ext cx="835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★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另有一种微光，渐渐地在那里强起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a0007017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179280" y="69228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★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原来月亮已在东天的竹叶中间放出她的清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看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250920" y="191628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★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院子里的光景已由</a:t>
            </a:r>
            <a:r>
              <a:rPr b="1" lang="zh-CN" sz="4400" spc="-1" strike="noStrike" u="sng">
                <a:solidFill>
                  <a:srgbClr val="6600ff"/>
                </a:solidFill>
                <a:uFillTx/>
                <a:latin typeface="华文新魏"/>
                <a:ea typeface="华文新魏"/>
              </a:rPr>
              <a:t>暖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色变成</a:t>
            </a:r>
            <a:r>
              <a:rPr b="1" lang="zh-CN" sz="4400" spc="-1" strike="noStrike" u="sng">
                <a:solidFill>
                  <a:srgbClr val="6600ff"/>
                </a:solidFill>
                <a:uFillTx/>
                <a:latin typeface="华文新魏"/>
                <a:ea typeface="华文新魏"/>
              </a:rPr>
              <a:t>寒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色，由</a:t>
            </a:r>
            <a:r>
              <a:rPr b="1" lang="zh-CN" sz="4400" spc="-1" strike="noStrike" u="sng">
                <a:solidFill>
                  <a:srgbClr val="6600ff"/>
                </a:solidFill>
                <a:uFillTx/>
                <a:latin typeface="华文新魏"/>
                <a:ea typeface="华文新魏"/>
              </a:rPr>
              <a:t>长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音阶（大音阶）成</a:t>
            </a:r>
            <a:r>
              <a:rPr b="1" lang="zh-CN" sz="4400" spc="-1" strike="noStrike" u="sng">
                <a:solidFill>
                  <a:srgbClr val="6600ff"/>
                </a:solidFill>
                <a:uFillTx/>
                <a:latin typeface="华文新魏"/>
                <a:ea typeface="华文新魏"/>
              </a:rPr>
              <a:t>短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音阶（小音阶）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50920" y="408636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★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月亮已经升得很高，隐在一丛竹叶中。竹叶的</a:t>
            </a:r>
            <a:r>
              <a:rPr b="1" lang="zh-CN" sz="4400" spc="-1" strike="noStrike" u="sng">
                <a:solidFill>
                  <a:srgbClr val="6600ff"/>
                </a:solidFill>
                <a:uFillTx/>
                <a:latin typeface="华文新魏"/>
                <a:ea typeface="华文新魏"/>
              </a:rPr>
              <a:t>摇动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把她</a:t>
            </a:r>
            <a:r>
              <a:rPr b="1" lang="zh-CN" sz="4400" spc="-1" strike="noStrike" u="sng">
                <a:solidFill>
                  <a:srgbClr val="6600ff"/>
                </a:solidFill>
                <a:uFillTx/>
                <a:latin typeface="华文新魏"/>
                <a:ea typeface="华文新魏"/>
              </a:rPr>
              <a:t>切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成许多不规则的小块，</a:t>
            </a:r>
            <a:r>
              <a:rPr b="1" lang="zh-CN" sz="4400" spc="-1" strike="noStrike" u="sng">
                <a:solidFill>
                  <a:srgbClr val="6600ff"/>
                </a:solidFill>
                <a:uFillTx/>
                <a:latin typeface="华文新魏"/>
                <a:ea typeface="华文新魏"/>
              </a:rPr>
              <a:t>闪烁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地映入我们的眼中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a0007246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324000" y="1890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看人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395280" y="119700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★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门口一个黑影出现，好像一只立起的青蛙，向我们跳将过来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68360" y="342900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★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头上有一缕一缕的细烟，好像漫画里所描写的动怒的人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a00070175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0" y="33336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看竹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50920" y="1197000"/>
            <a:ext cx="871380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华文新魏"/>
                <a:ea typeface="华文新魏"/>
              </a:rPr>
              <a:t>★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我们同时发现了映在水门汀上的竹叶的影子，同声地叫起来：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“</a:t>
            </a: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啊！好看啊！中国画！</a:t>
            </a:r>
            <a:r>
              <a:rPr b="1" lang="zh-CN" sz="44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a0007246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>
            <a:off x="324000" y="189000"/>
            <a:ext cx="266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  <a:ea typeface="华文行楷"/>
              </a:rPr>
              <a:t>描竹影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1413000"/>
            <a:ext cx="87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华文新魏"/>
                <a:ea typeface="华文新魏"/>
              </a:rPr>
              <a:t>★</a:t>
            </a:r>
            <a:r>
              <a:rPr b="1" lang="zh-CN" sz="5400" spc="-1" strike="noStrike">
                <a:solidFill>
                  <a:srgbClr val="6600ff"/>
                </a:solidFill>
                <a:latin typeface="华文新魏"/>
                <a:ea typeface="华文新魏"/>
              </a:rPr>
              <a:t>大家蹲下去，用木炭在水门汀上参参差差地描出许多竹叶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/>
          <p:cNvSpPr/>
          <p:nvPr/>
        </p:nvSpPr>
        <p:spPr>
          <a:xfrm>
            <a:off x="2666880" y="838080"/>
            <a:ext cx="533520" cy="4876920"/>
          </a:xfrm>
          <a:custGeom>
            <a:avLst/>
            <a:gdLst>
              <a:gd name="textAreaLeft" fmla="*/ 0 w 533520"/>
              <a:gd name="textAreaRight" fmla="*/ 192600 w 533520"/>
              <a:gd name="textAreaTop" fmla="*/ 127080 h 4876920"/>
              <a:gd name="textAreaBottom" fmla="*/ 4749840 h 487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116600" y="2438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细致的观察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044960" y="3733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丰富的想象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121280" y="4724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极强的模仿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6864480" y="274320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（童真童趣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4073760" y="1197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纯洁的童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684360" y="0"/>
            <a:ext cx="19047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</a:rPr>
              <a:t>看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</a:rPr>
              <a:t>看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</a:rPr>
              <a:t>看人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</a:rPr>
              <a:t>看竹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Times New Roman"/>
              </a:rPr>
              <a:t>描竹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UE-19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28600" y="38088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孩子们与父亲一同探讨中国画，哪句话最能体现西洋画和中国画的区别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veThemeFromRomeoJulia.mp3" descr=""/>
          <p:cNvPicPr/>
          <p:nvPr/>
        </p:nvPicPr>
        <p:blipFill>
          <a:blip r:embed="rId2"/>
          <a:stretch/>
        </p:blipFill>
        <p:spPr>
          <a:xfrm>
            <a:off x="102106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2971800" y="3048120"/>
            <a:ext cx="541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西洋画像照相，中国画像符号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539640" y="2565360"/>
            <a:ext cx="8305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 学会从日常生活中去认识和体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验艺术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04920" y="380880"/>
            <a:ext cx="347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教学目标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539640" y="1341360"/>
            <a:ext cx="76201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 体会课文所表现的天真烂漫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童真之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55640" y="6093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0WK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914400" y="914400"/>
            <a:ext cx="7238880" cy="47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宋体"/>
              </a:rPr>
              <a:t>    </a:t>
            </a:r>
            <a:r>
              <a:rPr b="1" lang="zh-CN" sz="5400" spc="-1" strike="noStrike">
                <a:solidFill>
                  <a:srgbClr val="9900ff"/>
                </a:solidFill>
                <a:latin typeface="宋体"/>
              </a:rPr>
              <a:t>你是如何理解第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宋体"/>
              </a:rPr>
              <a:t>自然段中</a:t>
            </a:r>
            <a:r>
              <a:rPr b="1" lang="zh-CN" sz="5400" spc="-1" strike="noStrike">
                <a:solidFill>
                  <a:srgbClr val="9900ff"/>
                </a:solidFill>
                <a:latin typeface="Times New Roman"/>
              </a:rPr>
              <a:t>“</a:t>
            </a:r>
            <a:r>
              <a:rPr b="1" lang="zh-CN" sz="5400" spc="-1" strike="noStrike">
                <a:solidFill>
                  <a:srgbClr val="9900ff"/>
                </a:solidFill>
                <a:latin typeface="宋体"/>
              </a:rPr>
              <a:t>西洋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宋体"/>
              </a:rPr>
              <a:t>像照相，中国画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ff"/>
                </a:solidFill>
                <a:latin typeface="宋体"/>
              </a:rPr>
              <a:t>符号</a:t>
            </a:r>
            <a:r>
              <a:rPr b="1" lang="zh-CN" sz="5400" spc="-1" strike="noStrike">
                <a:solidFill>
                  <a:srgbClr val="9900ff"/>
                </a:solidFill>
                <a:latin typeface="Times New Roman"/>
              </a:rPr>
              <a:t>”</a:t>
            </a:r>
            <a:r>
              <a:rPr b="1" lang="zh-CN" sz="5400" spc="-1" strike="noStrike">
                <a:solidFill>
                  <a:srgbClr val="9900ff"/>
                </a:solidFill>
                <a:latin typeface="宋体"/>
              </a:rPr>
              <a:t>这句话的？</a:t>
            </a:r>
            <a:r>
              <a:rPr b="1" lang="zh-CN" sz="5400" spc="-1" strike="noStrike">
                <a:solidFill>
                  <a:srgbClr val="ffcc99"/>
                </a:solidFill>
                <a:latin typeface="Times New Roman"/>
                <a:ea typeface="华文新魏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6781680" y="4572000"/>
            <a:ext cx="1808280" cy="22860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5"/>
          <p:cNvGrpSpPr/>
          <p:nvPr/>
        </p:nvGrpSpPr>
        <p:grpSpPr>
          <a:xfrm>
            <a:off x="6172200" y="2590920"/>
            <a:ext cx="2285640" cy="1523880"/>
            <a:chOff x="6172200" y="2590920"/>
            <a:chExt cx="2285640" cy="1523880"/>
          </a:xfrm>
        </p:grpSpPr>
        <p:sp>
          <p:nvSpPr>
            <p:cNvPr id="151" name="AutoShape 6"/>
            <p:cNvSpPr/>
            <p:nvPr/>
          </p:nvSpPr>
          <p:spPr>
            <a:xfrm>
              <a:off x="6172200" y="2590920"/>
              <a:ext cx="2285640" cy="1523880"/>
            </a:xfrm>
            <a:prstGeom prst="wedgeEllipseCallout">
              <a:avLst>
                <a:gd name="adj1" fmla="val -24745"/>
                <a:gd name="adj2" fmla="val 93699"/>
              </a:avLst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7"/>
            <p:cNvSpPr/>
            <p:nvPr/>
          </p:nvSpPr>
          <p:spPr>
            <a:xfrm>
              <a:off x="6472080" y="2782440"/>
              <a:ext cx="1788840" cy="96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Text Box 8"/>
          <p:cNvSpPr/>
          <p:nvPr/>
        </p:nvSpPr>
        <p:spPr>
          <a:xfrm>
            <a:off x="6178680" y="2997360"/>
            <a:ext cx="296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加油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自画像"/>
          <p:cNvPicPr/>
          <p:nvPr/>
        </p:nvPicPr>
        <p:blipFill>
          <a:blip r:embed="rId1"/>
          <a:stretch/>
        </p:blipFill>
        <p:spPr>
          <a:xfrm>
            <a:off x="304920" y="762120"/>
            <a:ext cx="4140000" cy="5327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da17"/>
          <p:cNvPicPr/>
          <p:nvPr/>
        </p:nvPicPr>
        <p:blipFill>
          <a:blip r:embed="rId2"/>
          <a:stretch/>
        </p:blipFill>
        <p:spPr>
          <a:xfrm>
            <a:off x="4932360" y="765000"/>
            <a:ext cx="392436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pic_17059"/>
          <p:cNvPicPr/>
          <p:nvPr/>
        </p:nvPicPr>
        <p:blipFill>
          <a:blip r:embed="rId2"/>
          <a:srcRect l="19636" t="6538" r="13813" b="10333"/>
          <a:stretch/>
        </p:blipFill>
        <p:spPr>
          <a:xfrm>
            <a:off x="4716360" y="260280"/>
            <a:ext cx="4165560" cy="6248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黄宾虹"/>
          <p:cNvPicPr/>
          <p:nvPr/>
        </p:nvPicPr>
        <p:blipFill>
          <a:blip r:embed="rId3"/>
          <a:stretch/>
        </p:blipFill>
        <p:spPr>
          <a:xfrm>
            <a:off x="468360" y="333360"/>
            <a:ext cx="3816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-147600" y="0"/>
            <a:ext cx="10510920" cy="7007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1952280" y="304920"/>
            <a:ext cx="511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华文新魏"/>
                <a:ea typeface="华文新魏"/>
              </a:rPr>
              <a:t>照相是对事物真实的反映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891440" y="1447920"/>
            <a:ext cx="470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33ff"/>
                </a:solidFill>
                <a:latin typeface="华文新魏"/>
                <a:ea typeface="华文新魏"/>
              </a:rPr>
              <a:t>符号是抽象地指称事物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2040840" y="2781360"/>
            <a:ext cx="554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西洋画重</a:t>
            </a:r>
            <a:r>
              <a:rPr b="1" lang="zh-CN" sz="4400" spc="-1" strike="noStrike" u="sng">
                <a:solidFill>
                  <a:srgbClr val="9933ff"/>
                </a:solidFill>
                <a:uFillTx/>
                <a:latin typeface="Times New Roman"/>
                <a:ea typeface="华文新魏"/>
              </a:rPr>
              <a:t>写实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，重形似，</a:t>
            </a:r>
            <a:r>
              <a:rPr b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华文新魏"/>
              </a:rPr>
              <a:t>客观性强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2144880" y="4076640"/>
            <a:ext cx="548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中国画重</a:t>
            </a:r>
            <a:r>
              <a:rPr b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华文新魏"/>
              </a:rPr>
              <a:t>写意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，重神似，</a:t>
            </a:r>
            <a:r>
              <a:rPr b="1" lang="zh-CN" sz="4400" spc="-1" strike="noStrike" u="sng">
                <a:solidFill>
                  <a:srgbClr val="ff0066"/>
                </a:solidFill>
                <a:uFillTx/>
                <a:latin typeface="Times New Roman"/>
                <a:ea typeface="华文新魏"/>
              </a:rPr>
              <a:t>主观性强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dfg"/>
          <p:cNvPicPr/>
          <p:nvPr/>
        </p:nvPicPr>
        <p:blipFill>
          <a:blip r:embed="rId2"/>
          <a:stretch/>
        </p:blipFill>
        <p:spPr>
          <a:xfrm>
            <a:off x="152280" y="4648320"/>
            <a:ext cx="8382240" cy="19047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4"/>
          <p:cNvSpPr txBox="1"/>
          <p:nvPr/>
        </p:nvSpPr>
        <p:spPr>
          <a:xfrm>
            <a:off x="685800" y="228600"/>
            <a:ext cx="4267080" cy="15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华文行楷"/>
              </a:rPr>
              <a:t>写作特点</a:t>
            </a:r>
            <a:endParaRPr b="1" lang="en-US" sz="2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华文行楷"/>
              <a:ea typeface="华文行楷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990720" y="2209680"/>
            <a:ext cx="782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、取材于平凡的生活小事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990720" y="34290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、行文简洁，文情并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04920" y="98100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散文的特点在于取材广泛，表现形式不拘一格，主题思想集中而又统一，这就是所谓的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形散神聚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切景语皆情语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情景交融是散文的又一特点。一篇优美的散文使人陶醉，这就是美的享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　　这篇课文既是一篇优美的散文，又让我们体会到中国画的艺术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WordArt 3" descr=""/>
          <p:cNvPicPr/>
          <p:nvPr/>
        </p:nvPicPr>
        <p:blipFill>
          <a:blip r:embed="rId2"/>
          <a:stretch/>
        </p:blipFill>
        <p:spPr>
          <a:xfrm>
            <a:off x="291960" y="-55440"/>
            <a:ext cx="3110040" cy="1019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20041119402664605"/>
          <p:cNvPicPr/>
          <p:nvPr/>
        </p:nvPicPr>
        <p:blipFill>
          <a:blip r:embed="rId3"/>
          <a:stretch/>
        </p:blipFill>
        <p:spPr>
          <a:xfrm>
            <a:off x="3887640" y="6191280"/>
            <a:ext cx="52563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6EF6-02A2-457D-97E0-C1077EB189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FLOWERS2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1258920" y="907920"/>
            <a:ext cx="66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39640" y="90792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生活中处处有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冰心奶奶说过： “有了爱，就有了一切！”祝愿同学们永远快乐充实，以一颗充满爱的心感受生活中的真善美！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FLOWERS2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"/>
          <p:cNvSpPr/>
          <p:nvPr/>
        </p:nvSpPr>
        <p:spPr>
          <a:xfrm>
            <a:off x="1042920" y="765000"/>
            <a:ext cx="42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写作练习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042920" y="2205000"/>
            <a:ext cx="64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《日光下的影子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0" y="4365720"/>
            <a:ext cx="100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树影 、人影、屋影、篮球架的影……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3780000" y="162864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01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" name="track 11.mp3" descr=""/>
          <p:cNvPicPr/>
          <p:nvPr/>
        </p:nvPicPr>
        <p:blipFill>
          <a:blip r:embed="rId2"/>
          <a:stretch/>
        </p:blipFill>
        <p:spPr>
          <a:xfrm>
            <a:off x="99061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 rot="19251000">
            <a:off x="539280" y="1557000"/>
            <a:ext cx="305748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5496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46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真善美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46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597120" y="2061360"/>
            <a:ext cx="4204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科学是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真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实的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文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艺术给人美的享受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宗教是善的寄托。</a:t>
            </a:r>
            <a:r>
              <a:rPr b="1" lang="en-US" sz="4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Art30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547640" y="1844640"/>
            <a:ext cx="7201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文学指：散文、小说、诗歌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　　　　剧本四大文学样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619280" y="3645000"/>
            <a:ext cx="7812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艺术指：音乐、舞蹈、戏剧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　　　　美术等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LOWERS2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0" y="339120"/>
            <a:ext cx="9328320" cy="57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第四单元</a:t>
            </a:r>
            <a:r>
              <a:rPr b="0" lang="zh-CN" sz="4800" spc="-1" strike="noStrike">
                <a:solidFill>
                  <a:srgbClr val="9900ff"/>
                </a:solidFill>
                <a:latin typeface="Times New Roman"/>
                <a:ea typeface="华文行楷"/>
              </a:rPr>
              <a:t>——</a:t>
            </a:r>
            <a:r>
              <a:rPr b="0" lang="zh-CN" sz="4800" spc="-1" strike="noStrike">
                <a:solidFill>
                  <a:srgbClr val="d60093"/>
                </a:solidFill>
                <a:latin typeface="华文行楷"/>
                <a:ea typeface="华文行楷"/>
              </a:rPr>
              <a:t>美文</a:t>
            </a: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《社戏》体现了</a:t>
            </a:r>
            <a:r>
              <a:rPr b="0" lang="zh-CN" sz="4800" spc="-1" strike="noStrike">
                <a:solidFill>
                  <a:srgbClr val="d60093"/>
                </a:solidFill>
                <a:latin typeface="华文行楷"/>
                <a:ea typeface="华文行楷"/>
              </a:rPr>
              <a:t>人情美、人性美</a:t>
            </a: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《安塞腰鼓》流露出</a:t>
            </a:r>
            <a:r>
              <a:rPr b="0" lang="zh-CN" sz="4800" spc="-1" strike="noStrike">
                <a:solidFill>
                  <a:srgbClr val="d60093"/>
                </a:solidFill>
                <a:latin typeface="华文行楷"/>
                <a:ea typeface="华文行楷"/>
              </a:rPr>
              <a:t>力量美</a:t>
            </a: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《竹影》营造了</a:t>
            </a:r>
            <a:r>
              <a:rPr b="0" lang="zh-CN" sz="4800" spc="-1" strike="noStrike">
                <a:solidFill>
                  <a:srgbClr val="d60093"/>
                </a:solidFill>
                <a:latin typeface="华文行楷"/>
                <a:ea typeface="华文行楷"/>
              </a:rPr>
              <a:t>意境美</a:t>
            </a: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《观舞记》带出了</a:t>
            </a:r>
            <a:r>
              <a:rPr b="0" lang="zh-CN" sz="4800" spc="-1" strike="noStrike">
                <a:solidFill>
                  <a:srgbClr val="d60093"/>
                </a:solidFill>
                <a:latin typeface="华文行楷"/>
                <a:ea typeface="华文行楷"/>
              </a:rPr>
              <a:t>艺术美</a:t>
            </a: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《口技》表现了</a:t>
            </a:r>
            <a:r>
              <a:rPr b="0" lang="zh-CN" sz="4800" spc="-1" strike="noStrike">
                <a:solidFill>
                  <a:srgbClr val="d60093"/>
                </a:solidFill>
                <a:latin typeface="华文行楷"/>
                <a:ea typeface="华文行楷"/>
              </a:rPr>
              <a:t>技艺美</a:t>
            </a:r>
            <a:r>
              <a:rPr b="0" lang="zh-CN" sz="4800" spc="-1" strike="noStrike">
                <a:solidFill>
                  <a:srgbClr val="9900ff"/>
                </a:solidFill>
                <a:latin typeface="华文行楷"/>
                <a:ea typeface="华文行楷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赵子昂 木竹石图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79280" y="907920"/>
            <a:ext cx="87487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《竹影》是一篇优美的散文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文情并茂，情景交融。让我们跟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丰子恺走进《竹影》，去体会其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美的意蕴和神气！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289548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丰子恺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(1898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～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1975)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，原名丰润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, 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浙江崇德人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,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现代画家、散文家。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他自幼爱好美术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1921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年赴日学习音乐和美术。回国后，曾任复旦大学、浙江大学美术教授。后专门从事绘画和写作。建国后，曾任中国美术家协会上海分会主席、上海文学艺术界联合会副主席等。丰子恺风格独特的漫画作品影响很大，深受人们喜爱。他的散文在我国新文学史上也有较大的影响。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</a:rPr>
              <a:t>主要作品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《缘缘堂随笔》《缘缘堂再笔》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《随笔二十篇》   《甘美的回忆》《率真集》等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m14-3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5181480" y="0"/>
            <a:ext cx="3581640" cy="289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tk"/>
          <p:cNvPicPr/>
          <p:nvPr/>
        </p:nvPicPr>
        <p:blipFill>
          <a:blip r:embed="rId3"/>
          <a:stretch/>
        </p:blipFill>
        <p:spPr>
          <a:xfrm>
            <a:off x="152280" y="0"/>
            <a:ext cx="3581640" cy="2895480"/>
          </a:xfrm>
          <a:prstGeom prst="rect">
            <a:avLst/>
          </a:prstGeom>
          <a:ln w="0">
            <a:noFill/>
          </a:ln>
        </p:spPr>
      </p:pic>
      <p:sp>
        <p:nvSpPr>
          <p:cNvPr id="64" name="WordArt 5"/>
          <p:cNvSpPr txBox="1"/>
          <p:nvPr/>
        </p:nvSpPr>
        <p:spPr>
          <a:xfrm>
            <a:off x="2666880" y="533520"/>
            <a:ext cx="3048120" cy="771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cc99ff"/>
                  </a:solidFill>
                  <a:miter/>
                </a:ln>
                <a:solidFill>
                  <a:srgbClr val="99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作者介绍</a:t>
            </a:r>
            <a:endParaRPr b="1" lang="en-US" sz="6000" spc="1" strike="noStrike">
              <a:ln w="12600">
                <a:solidFill>
                  <a:srgbClr val="cc99ff"/>
                </a:solidFill>
                <a:miter/>
              </a:ln>
              <a:solidFill>
                <a:srgbClr val="99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228600" y="152280"/>
            <a:ext cx="41148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二、检查预习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855720" y="91440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(piě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431520" y="91440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(zhà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758160" y="1844640"/>
            <a:ext cx="116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(qiè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029200" y="2666880"/>
            <a:ext cx="465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包括（指大范围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666880" y="1828800"/>
            <a:ext cx="507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满意；称心；舒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853440" y="2708280"/>
            <a:ext cx="119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luó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675720" y="266688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(shū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1451160" y="3505320"/>
            <a:ext cx="125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(shā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5946120" y="3505320"/>
            <a:ext cx="15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(chá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1141920" y="4343400"/>
            <a:ext cx="19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(cēn)(cī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13"/>
          <p:cNvSpPr/>
          <p:nvPr/>
        </p:nvSpPr>
        <p:spPr>
          <a:xfrm>
            <a:off x="4191120" y="4495680"/>
            <a:ext cx="533376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短、高低、大小                                  等不一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1736280" y="5943600"/>
            <a:ext cx="1492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(tīng)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108000" y="1052640"/>
            <a:ext cx="8991720" cy="67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撇                蘸                   幽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惬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                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疏 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密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包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罗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口头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参差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不齐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水门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6"/>
          <p:cNvSpPr/>
          <p:nvPr/>
        </p:nvSpPr>
        <p:spPr>
          <a:xfrm>
            <a:off x="6175080" y="914400"/>
            <a:ext cx="131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(yōu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0WK17"/>
          <p:cNvPicPr/>
          <p:nvPr/>
        </p:nvPicPr>
        <p:blipFill>
          <a:blip r:embed="rId1"/>
          <a:stretch/>
        </p:blipFill>
        <p:spPr>
          <a:xfrm>
            <a:off x="-528480" y="-681120"/>
            <a:ext cx="9672480" cy="97678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457200" y="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通读课文，概括课文内容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6372360" y="4005360"/>
            <a:ext cx="20494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5867280" y="2209680"/>
            <a:ext cx="2438280" cy="1524240"/>
            <a:chOff x="5867280" y="2209680"/>
            <a:chExt cx="2438280" cy="1524240"/>
          </a:xfrm>
        </p:grpSpPr>
        <p:sp>
          <p:nvSpPr>
            <p:cNvPr id="84" name="AutoShape 6"/>
            <p:cNvSpPr/>
            <p:nvPr/>
          </p:nvSpPr>
          <p:spPr>
            <a:xfrm>
              <a:off x="5867280" y="2209680"/>
              <a:ext cx="2438280" cy="1524240"/>
            </a:xfrm>
            <a:prstGeom prst="wedgeEllipseCallout">
              <a:avLst>
                <a:gd name="adj1" fmla="val -24745"/>
                <a:gd name="adj2" fmla="val 93699"/>
              </a:avLst>
            </a:prstGeom>
            <a:noFill/>
            <a:ln w="72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6187320" y="2401200"/>
              <a:ext cx="1908360" cy="96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216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Text Box 8"/>
          <p:cNvSpPr/>
          <p:nvPr/>
        </p:nvSpPr>
        <p:spPr>
          <a:xfrm>
            <a:off x="6084720" y="2637000"/>
            <a:ext cx="280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ff"/>
                </a:solidFill>
                <a:latin typeface="Times New Roman"/>
              </a:rPr>
              <a:t>想一想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68360" y="907920"/>
            <a:ext cx="221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什么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468360" y="1700280"/>
            <a:ext cx="245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干什么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539640" y="278136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表现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11280" y="357336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说明了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3"/>
          <p:cNvSpPr/>
          <p:nvPr/>
        </p:nvSpPr>
        <p:spPr>
          <a:xfrm>
            <a:off x="2438280" y="990720"/>
            <a:ext cx="544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”、弟弟、华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爸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2362320" y="167652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借着月光画竹影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和爸爸探讨中国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5"/>
          <p:cNvSpPr/>
          <p:nvPr/>
        </p:nvSpPr>
        <p:spPr>
          <a:xfrm>
            <a:off x="2362320" y="28195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真切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童真童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6"/>
          <p:cNvSpPr/>
          <p:nvPr/>
        </p:nvSpPr>
        <p:spPr>
          <a:xfrm>
            <a:off x="2286000" y="35812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真善美和艺术有时就蕴含在孩子的童稚活动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1:41Z</dcterms:created>
  <dc:creator>An</dc:creator>
  <dc:description/>
  <cp:keywords>幻灯片之家 http:/www.eeppt.com</cp:keywords>
  <dc:language>en-US</dc:language>
  <cp:lastModifiedBy/>
  <dcterms:modified xsi:type="dcterms:W3CDTF">2015-07-14T03:15:45Z</dcterms:modified>
  <cp:revision>2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