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BC2-9927-42C7-A478-73AB633C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E2F-5B52-48B8-B73B-0F7E9DD4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4B5-607C-4CCF-B393-598EB4A0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81D-C4F9-4B36-99BF-3404E5D9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653-4553-413C-A1EB-47B57734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C0D-D8CB-415A-89BA-B2A19C50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842-006D-4BAA-82DF-2AA43F69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175-1537-4136-B3B8-D93C4477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54D-3850-437B-A230-78842EEC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46A-9661-4B6D-B8EF-D912F4D5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71C-BC47-4AE0-9202-9ADE8E71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7EE-2B61-46D3-B846-31518D3A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9CEE-CAF7-42D0-ADA7-B9C3332B6A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0,5,&#24187;&#28783;&#29255; 5" TargetMode="External"/><Relationship Id="rId3" Type="http://schemas.openxmlformats.org/officeDocument/2006/relationships/hyperlink" Target="280,17,&#24187;&#28783;&#29255; 17" TargetMode="External"/><Relationship Id="rId4" Type="http://schemas.openxmlformats.org/officeDocument/2006/relationships/hyperlink" Target="257,3,&#24187;&#28783;&#29255; 3" TargetMode="External"/><Relationship Id="rId5" Type="http://schemas.openxmlformats.org/officeDocument/2006/relationships/hyperlink" Target="297,4,&#24187;&#28783;&#29255; 4" TargetMode="External"/><Relationship Id="rId6" Type="http://schemas.openxmlformats.org/officeDocument/2006/relationships/hyperlink" Target="261,6,&#24187;&#28783;&#29255; 6" TargetMode="External"/><Relationship Id="rId7" Type="http://schemas.openxmlformats.org/officeDocument/2006/relationships/hyperlink" Target="262,15,&#24187;&#28783;&#29255; 15" TargetMode="Externa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300,3,&#24187;&#28783;&#29255; 3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300,3,&#24187;&#28783;&#29255; 3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hyperlink" Target="300,3,&#24187;&#28783;&#29255; 3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hyperlink" Target="300,3,&#24187;&#28783;&#29255; 3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hyperlink" Target="300,3,&#24187;&#28783;&#29255; 3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背景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7"/>
          <p:cNvGrpSpPr/>
          <p:nvPr/>
        </p:nvGrpSpPr>
        <p:grpSpPr>
          <a:xfrm>
            <a:off x="1600200" y="4419720"/>
            <a:ext cx="1295280" cy="685800"/>
            <a:chOff x="1600200" y="4419720"/>
            <a:chExt cx="1295280" cy="685800"/>
          </a:xfrm>
        </p:grpSpPr>
        <p:sp>
          <p:nvSpPr>
            <p:cNvPr id="44" name="Oval 8"/>
            <p:cNvSpPr/>
            <p:nvPr/>
          </p:nvSpPr>
          <p:spPr>
            <a:xfrm>
              <a:off x="1600200" y="4419720"/>
              <a:ext cx="12952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9"/>
            <p:cNvSpPr/>
            <p:nvPr/>
          </p:nvSpPr>
          <p:spPr>
            <a:xfrm>
              <a:off x="1828800" y="449604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10"/>
          <p:cNvGrpSpPr/>
          <p:nvPr/>
        </p:nvGrpSpPr>
        <p:grpSpPr>
          <a:xfrm>
            <a:off x="4495680" y="4419720"/>
            <a:ext cx="1295280" cy="685800"/>
            <a:chOff x="4495680" y="4419720"/>
            <a:chExt cx="1295280" cy="685800"/>
          </a:xfrm>
        </p:grpSpPr>
        <p:sp>
          <p:nvSpPr>
            <p:cNvPr id="47" name="Oval 11"/>
            <p:cNvSpPr/>
            <p:nvPr/>
          </p:nvSpPr>
          <p:spPr>
            <a:xfrm>
              <a:off x="4495680" y="4419720"/>
              <a:ext cx="12952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12"/>
            <p:cNvSpPr/>
            <p:nvPr/>
          </p:nvSpPr>
          <p:spPr>
            <a:xfrm>
              <a:off x="4724280" y="449604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Oval 13"/>
          <p:cNvSpPr/>
          <p:nvPr/>
        </p:nvSpPr>
        <p:spPr>
          <a:xfrm>
            <a:off x="5943600" y="4419720"/>
            <a:ext cx="12952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495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6"/>
          <p:cNvGrpSpPr/>
          <p:nvPr/>
        </p:nvGrpSpPr>
        <p:grpSpPr>
          <a:xfrm>
            <a:off x="152280" y="4419720"/>
            <a:ext cx="1295280" cy="685800"/>
            <a:chOff x="152280" y="4419720"/>
            <a:chExt cx="1295280" cy="685800"/>
          </a:xfrm>
        </p:grpSpPr>
        <p:sp>
          <p:nvSpPr>
            <p:cNvPr id="52" name="Oval 17"/>
            <p:cNvSpPr/>
            <p:nvPr/>
          </p:nvSpPr>
          <p:spPr>
            <a:xfrm>
              <a:off x="152280" y="4419720"/>
              <a:ext cx="12952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8"/>
            <p:cNvSpPr/>
            <p:nvPr/>
          </p:nvSpPr>
          <p:spPr>
            <a:xfrm>
              <a:off x="380880" y="449604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9"/>
          <p:cNvGrpSpPr/>
          <p:nvPr/>
        </p:nvGrpSpPr>
        <p:grpSpPr>
          <a:xfrm>
            <a:off x="3048120" y="4419720"/>
            <a:ext cx="1295280" cy="685800"/>
            <a:chOff x="3048120" y="4419720"/>
            <a:chExt cx="1295280" cy="685800"/>
          </a:xfrm>
        </p:grpSpPr>
        <p:sp>
          <p:nvSpPr>
            <p:cNvPr id="55" name="Oval 20"/>
            <p:cNvSpPr/>
            <p:nvPr/>
          </p:nvSpPr>
          <p:spPr>
            <a:xfrm>
              <a:off x="3048120" y="4419720"/>
              <a:ext cx="12952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21"/>
            <p:cNvSpPr/>
            <p:nvPr/>
          </p:nvSpPr>
          <p:spPr>
            <a:xfrm>
              <a:off x="3276720" y="4496040"/>
              <a:ext cx="9144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太阳能汽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22"/>
          <p:cNvGrpSpPr/>
          <p:nvPr/>
        </p:nvGrpSpPr>
        <p:grpSpPr>
          <a:xfrm>
            <a:off x="7315200" y="4495680"/>
            <a:ext cx="1295280" cy="685800"/>
            <a:chOff x="7315200" y="4495680"/>
            <a:chExt cx="1295280" cy="685800"/>
          </a:xfrm>
        </p:grpSpPr>
        <p:sp>
          <p:nvSpPr>
            <p:cNvPr id="58" name="Oval 23"/>
            <p:cNvSpPr/>
            <p:nvPr/>
          </p:nvSpPr>
          <p:spPr>
            <a:xfrm>
              <a:off x="7315200" y="4495680"/>
              <a:ext cx="12952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24"/>
            <p:cNvSpPr/>
            <p:nvPr/>
          </p:nvSpPr>
          <p:spPr>
            <a:xfrm>
              <a:off x="7543800" y="4572000"/>
              <a:ext cx="9144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杨立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Text Box 25"/>
          <p:cNvSpPr/>
          <p:nvPr/>
        </p:nvSpPr>
        <p:spPr>
          <a:xfrm>
            <a:off x="228600" y="4572000"/>
            <a:ext cx="109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载人飞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1676520" y="4572000"/>
            <a:ext cx="109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可视电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4756680" y="4572000"/>
            <a:ext cx="729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掌上电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6311160" y="4572000"/>
            <a:ext cx="59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第七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52120" y="2349360"/>
            <a:ext cx="13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《阿德的梦》课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4552920"/>
            <a:ext cx="6112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824040" y="2484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可视电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080880" y="341280"/>
            <a:ext cx="35334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请和小伙伴讨论、交流吧</a:t>
            </a:r>
            <a:r>
              <a:rPr b="1" i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请自读课文，说说阿德梦见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你喜欢阿德梦中的哪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新科技产品，愿意和小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伴说说喜欢的原因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背景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阿德1 副本"/>
          <p:cNvPicPr/>
          <p:nvPr/>
        </p:nvPicPr>
        <p:blipFill>
          <a:blip r:embed="rId2"/>
          <a:stretch/>
        </p:blipFill>
        <p:spPr>
          <a:xfrm>
            <a:off x="63360" y="762120"/>
            <a:ext cx="4051440" cy="4952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114800" y="15228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德早早地起了床。今天上午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，他要乘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最新的载人飞船，到火星上去旅游，并顺便去月球看望移居到那里的亲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057800" y="624852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2"/>
          <p:cNvGrpSpPr/>
          <p:nvPr/>
        </p:nvGrpSpPr>
        <p:grpSpPr>
          <a:xfrm>
            <a:off x="152280" y="0"/>
            <a:ext cx="9372240" cy="3657240"/>
            <a:chOff x="152280" y="0"/>
            <a:chExt cx="9372240" cy="3657240"/>
          </a:xfrm>
        </p:grpSpPr>
        <p:pic>
          <p:nvPicPr>
            <p:cNvPr id="75" name="Picture 3" descr="阿德2 副本"/>
            <p:cNvPicPr/>
            <p:nvPr/>
          </p:nvPicPr>
          <p:blipFill>
            <a:blip r:embed="rId1"/>
            <a:stretch/>
          </p:blipFill>
          <p:spPr>
            <a:xfrm>
              <a:off x="152280" y="236880"/>
              <a:ext cx="4217400" cy="342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4"/>
            <p:cNvSpPr/>
            <p:nvPr/>
          </p:nvSpPr>
          <p:spPr>
            <a:xfrm>
              <a:off x="4682160" y="0"/>
              <a:ext cx="4842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Picture 5" descr="阿德3 副本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4572000" y="3581280"/>
            <a:ext cx="4572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婆出现在电话的屏幕上。“外婆，您好！两个小时以后就能见到您了。”    “这么快呀！”    “当然喽！我这次坐的飞船是新型的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572000" y="6015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离飞船起飞的时间还有半个小时，怎么打发这段时光呢？阿德拨通了可视电话，要跟月球上的外婆聊聊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391520" y="6324480"/>
            <a:ext cx="838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  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B2A-50DE-45FB-B7BA-8D2209F689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背景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5"/>
          <p:cNvGrpSpPr/>
          <p:nvPr/>
        </p:nvGrpSpPr>
        <p:grpSpPr>
          <a:xfrm>
            <a:off x="0" y="438120"/>
            <a:ext cx="9144000" cy="5276880"/>
            <a:chOff x="0" y="438120"/>
            <a:chExt cx="9144000" cy="5276880"/>
          </a:xfrm>
        </p:grpSpPr>
        <p:pic>
          <p:nvPicPr>
            <p:cNvPr id="87" name="Picture 3" descr="阿德4 副本"/>
            <p:cNvPicPr/>
            <p:nvPr/>
          </p:nvPicPr>
          <p:blipFill>
            <a:blip r:embed="rId2"/>
            <a:stretch/>
          </p:blipFill>
          <p:spPr>
            <a:xfrm>
              <a:off x="0" y="762120"/>
              <a:ext cx="3746520" cy="49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4"/>
            <p:cNvSpPr/>
            <p:nvPr/>
          </p:nvSpPr>
          <p:spPr>
            <a:xfrm>
              <a:off x="4038480" y="438120"/>
              <a:ext cx="5105520" cy="48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“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外婆，听说月球上的科研人员已研制出了无污染的太阳能汽车，市场上有卖的吗？”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“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噢！大商场里都有！”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6"/>
          <p:cNvSpPr/>
          <p:nvPr/>
        </p:nvSpPr>
        <p:spPr>
          <a:xfrm>
            <a:off x="7041960" y="611676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背景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阿德5 副本"/>
          <p:cNvPicPr/>
          <p:nvPr/>
        </p:nvPicPr>
        <p:blipFill>
          <a:blip r:embed="rId2"/>
          <a:stretch/>
        </p:blipFill>
        <p:spPr>
          <a:xfrm>
            <a:off x="0" y="609480"/>
            <a:ext cx="4191120" cy="5181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4419720" y="652320"/>
            <a:ext cx="4724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阿德打开掌上电脑，进入月球最大的网上销售中心。“我要预订这辆太阳能汽车，下午两点来取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203520" y="611676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背景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5"/>
          <p:cNvGrpSpPr/>
          <p:nvPr/>
        </p:nvGrpSpPr>
        <p:grpSpPr>
          <a:xfrm>
            <a:off x="0" y="301680"/>
            <a:ext cx="9144000" cy="5337000"/>
            <a:chOff x="0" y="301680"/>
            <a:chExt cx="9144000" cy="5337000"/>
          </a:xfrm>
        </p:grpSpPr>
        <p:pic>
          <p:nvPicPr>
            <p:cNvPr id="98" name="Picture 3" descr="阿德6 副本"/>
            <p:cNvPicPr/>
            <p:nvPr/>
          </p:nvPicPr>
          <p:blipFill>
            <a:blip r:embed="rId2"/>
            <a:stretch/>
          </p:blipFill>
          <p:spPr>
            <a:xfrm>
              <a:off x="0" y="533520"/>
              <a:ext cx="412416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4"/>
            <p:cNvSpPr/>
            <p:nvPr/>
          </p:nvSpPr>
          <p:spPr>
            <a:xfrm>
              <a:off x="4038480" y="301680"/>
              <a:ext cx="51055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“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亲爱的旅客，飞船就要起飞了，请系好安全带。” “呜——”飞船长鸣一声飞向太空。这时，阿德的安全带还没系好，他从椅子上滑了下来！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Text Box 7"/>
          <p:cNvSpPr/>
          <p:nvPr/>
        </p:nvSpPr>
        <p:spPr>
          <a:xfrm>
            <a:off x="7210080" y="624852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198200" y="380880"/>
            <a:ext cx="164268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Times New Roman"/>
                <a:ea typeface="黑体"/>
              </a:rPr>
              <a:t>航天英雄杨立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2:22:1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4:07:41Z</dcterms:modified>
  <cp:revision>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