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C21-CF6E-4F69-BEC6-8FCAC1AF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8C2-D648-4304-8BC0-C2CE4036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58D-77B2-40F7-BD16-97DA1943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FED-2667-49FA-9E08-A93A95E9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090-811C-4CF2-B9B4-E212A119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9C4-2728-493E-B0E6-8EE6A1A6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3F9-A17B-4CFF-977B-AEB7973F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7686-03BE-4810-96A2-B79257F5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D15-4628-4789-B35A-502F5319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AF9-6697-4C1D-8923-634CC8E1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200-E46C-4BE0-A886-61612AF9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04E-16BE-4A2E-8834-098CC247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1A89-3EF2-408F-A8DA-FB74297CF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shiti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2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7200" y="2494080"/>
            <a:ext cx="338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《北大荒的秋天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14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856160" y="1989000"/>
            <a:ext cx="586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啊，北大荒的秋天真美呀！</a:t>
            </a:r>
            <a:r>
              <a:rPr b="1" lang="zh-CN" sz="6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2195640" y="2567160"/>
            <a:ext cx="6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14"/>
          <p:cNvPicPr/>
          <p:nvPr/>
        </p:nvPicPr>
        <p:blipFill>
          <a:blip r:embed="rId19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2102040" y="1190520"/>
            <a:ext cx="56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啊，</a:t>
            </a: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北大荒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秋天真美呀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539640" y="836640"/>
            <a:ext cx="8136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天空一碧如洗，只有在傍晚，西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的天空才会有几缕流云。这些流云在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日的映照下，转眼间变成一道银灰、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道橘黄、一道血红、一道绛紫，就像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美丽的仙女在天空中抖动着五彩斑斓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锦缎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0272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ff"/>
                </a:solidFill>
                <a:latin typeface="Arial"/>
                <a:ea typeface="方正大黑简体"/>
              </a:rPr>
              <a:t>一碧如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187280" y="1197000"/>
            <a:ext cx="6912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河清澈见底，如同一条透明的蓝绸子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静静地躺在大地的怀抱里。一群小鱼顶着水游过来，明镜一样的水面顿时漾起了一道道波纹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81200" y="1341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澈见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023640" y="220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蓝绸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40476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409920" y="386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明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6920" y="8366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原野热闹非凡。成片的大豆摇动着豆荚，发出哗啦拉的笑声；挺拔的高粱扬起黑红黑红的脸庞，像是在乐呵呵地演唱。山坡上，大路边，村子口，榛树叶子全都红了，红得像一团团火，把人们的心也燃烧起来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1979640" y="1628640"/>
            <a:ext cx="3024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8028000" y="6021360"/>
            <a:ext cx="647640" cy="57636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7020000" y="6165720"/>
            <a:ext cx="576360" cy="476280"/>
          </a:xfrm>
          <a:prstGeom prst="smileyFace">
            <a:avLst>
              <a:gd name="adj" fmla="val 465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2802600" y="907920"/>
            <a:ext cx="318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一 碧 如 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976-2005-4-4-21-15-471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3"/>
          <p:cNvSpPr/>
          <p:nvPr/>
        </p:nvSpPr>
        <p:spPr>
          <a:xfrm>
            <a:off x="8172360" y="5950080"/>
            <a:ext cx="709560" cy="69192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708600" y="285264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彩斑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光十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颜六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五彩缤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02E-937F-45A7-9831-65EBD42959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d3d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684360" y="404640"/>
            <a:ext cx="2735280" cy="1008360"/>
          </a:xfrm>
          <a:prstGeom prst="wedgeEllipseCallout">
            <a:avLst>
              <a:gd name="adj1" fmla="val 19356"/>
              <a:gd name="adj2" fmla="val 84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63640" y="55728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小练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55640" y="2205000"/>
            <a:ext cx="7488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操场上热闹非凡。同学们有的（       ），有的（       ），有的（   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家玩得多开心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8:37:3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54:47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