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DF3-B68E-48FA-BB64-BA013FDA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5C0-0453-43B4-B507-C63F76B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B3E-92A4-4A2B-9A84-E3D17408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7D5-9F7D-4495-963A-D91BE4A8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3B1-EA03-4248-985C-94554DC4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91E3-0CC7-4F95-840B-110D251C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3187-782F-43CB-9E28-BB040BDC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15C2-EA65-4918-8CA1-72CEF87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D3C7-BA4C-4466-8BE1-BCA3E9BE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6917-EE8F-4641-BB37-57076FEA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159A-248B-4780-8505-3EDC205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996-3AEF-47EC-89FF-6F320515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C2E0-08B8-4B59-8DE1-78DA860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554B-3C8A-4FBE-8079-59BBCC23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ACB7-C157-4D46-9306-90AA9C77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65EA-0A33-430D-8713-8AC7FB33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93E3-11AB-43B3-8FAF-382E1CAB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F743-EC3C-4969-B50B-C684904E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2ED4-EF7F-4E9A-8EBA-5178867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9C47-8E36-48EA-A80C-D25D127A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1DD2E-ABF7-4C86-9151-343DF1CA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E91C-6EB2-4F87-BB4F-8DA6D7F9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6AF-3172-43B1-9A50-8B851A6F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2754-966D-4C14-A4D1-1CA7946D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39CD-E954-4014-883E-F12DFC6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18B8-5AE9-4D69-8F7D-D0C31F1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AE68-E913-4A8C-8CAD-7775E18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40DC-135F-4F8E-8FC7-70C2B972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30F0-0EDC-42DA-AD07-25C7E9F2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AF18-FFE5-4F27-9F32-68D66550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FC07-3DEC-48FE-8BDA-33DA6F0B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4AED-24C2-4E7D-B294-9002186E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774B-2EE7-4FD3-B79F-D155BA90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28B-0F20-492C-BA44-E5B3E1E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679E-F245-4F1D-8DAA-528DFF8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F883-D3DE-4766-AEB0-D3215F66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66FD-5BFF-4FA0-8723-70A6C81A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6FAB-E743-4C4D-800F-8D995B5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98D6-136B-40A8-B614-6F6159F2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569E-9C1D-451B-A884-53FE1419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4766-1B7F-4C38-A1FF-A4FC91B7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DE71C-8818-4A3C-B23B-430DE42C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42C5-9E8C-42AE-9B1F-404A54FF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08E0-02ED-41C3-9041-4AD79F9A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F50-C472-4100-BFC1-B5F6DC53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3C4A4-7C96-488E-AEFE-1E7EE7B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8F066-A01A-4A61-9E49-DC99D2A5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91BAA-34B5-4DDA-BF6A-F68CD95B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DAAE-989B-4FED-A48E-B7E03FD9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41B8-1C2D-4359-A432-E11A44FF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511C-3C06-4555-B381-96E71E0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65877-5D60-45B6-B471-7DC6857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7F36B-14C0-4401-9307-9DF7E2B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4E00-02E1-4231-97EB-D6163E7C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C7F18-1776-4C4D-AD1B-BA8AD20B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07E-1332-4BDE-8AA9-8DCC424E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FA0B-56DE-4507-92C3-632D4467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E2A-6A85-4909-9017-D9763766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C25-6C9D-4B9C-9F30-F145DD5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D34-3AE5-4188-B9BB-98FDB42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28A2-8229-41FF-BC47-DB18CCE48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A637-0D2A-4F98-8E08-9CC77A83E8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90B-0BB7-4C39-A62F-3E746D1A8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0D3F-5BD4-4EF6-A979-BDEB5CBD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2CF4-971B-4674-9712-913C32064AA3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9" descr="F:\ppt\705\新课标人教版第七册语文白鹅优质课件下载3\6878e2465f8.jpg"/>
          <p:cNvPicPr/>
          <p:nvPr/>
        </p:nvPicPr>
        <p:blipFill>
          <a:blip r:embed="rId2"/>
          <a:stretch/>
        </p:blipFill>
        <p:spPr>
          <a:xfrm>
            <a:off x="-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WordArt 8"/>
          <p:cNvSpPr txBox="1"/>
          <p:nvPr/>
        </p:nvSpPr>
        <p:spPr>
          <a:xfrm>
            <a:off x="214200" y="404640"/>
            <a:ext cx="421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0440">
                  <a:solidFill>
                    <a:srgbClr val="ddeaf2"/>
                  </a:solidFill>
                  <a:miter/>
                </a:ln>
                <a:gradFill rotWithShape="0">
                  <a:gsLst>
                    <a:gs pos="0">
                      <a:srgbClr val="f1fdff"/>
                    </a:gs>
                    <a:gs pos="100000">
                      <a:srgbClr val="f1fdff"/>
                    </a:gs>
                  </a:gsLst>
                  <a:lin ang="5400000"/>
                </a:gradFill>
                <a:latin typeface="华文行楷"/>
              </a:rPr>
              <a:t>人教课标版小学语文四年级上册</a:t>
            </a:r>
            <a:endParaRPr b="1" lang="en-US" sz="2800" spc="1" strike="noStrike">
              <a:ln w="10440">
                <a:solidFill>
                  <a:srgbClr val="ddeaf2"/>
                </a:solidFill>
                <a:miter/>
              </a:ln>
              <a:gradFill rotWithShape="0">
                <a:gsLst>
                  <a:gs pos="0">
                    <a:srgbClr val="f1fdff"/>
                  </a:gs>
                  <a:gs pos="100000">
                    <a:srgbClr val="f1fd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34080" y="249408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白鹅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9" descr=""/>
          <p:cNvPicPr/>
          <p:nvPr/>
        </p:nvPicPr>
        <p:blipFill>
          <a:blip r:embed="rId2"/>
          <a:stretch/>
        </p:blipFill>
        <p:spPr>
          <a:xfrm>
            <a:off x="1805040" y="658800"/>
            <a:ext cx="5997600" cy="1011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F:\ppt\705\新课标人教版第七册语文白鹅优质课件下载3\PCHOMEdwzr0104te19s960x639.jpg"/>
          <p:cNvPicPr/>
          <p:nvPr/>
        </p:nvPicPr>
        <p:blipFill>
          <a:blip r:embed="rId3"/>
          <a:srcRect l="3350" t="0" r="9362" b="8083"/>
          <a:stretch/>
        </p:blipFill>
        <p:spPr>
          <a:xfrm>
            <a:off x="1873080" y="1720800"/>
            <a:ext cx="5835960" cy="4608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8"/>
          <p:cNvSpPr/>
          <p:nvPr/>
        </p:nvSpPr>
        <p:spPr>
          <a:xfrm>
            <a:off x="5724360" y="3716280"/>
            <a:ext cx="363564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丰子恺 </a:t>
            </a:r>
            <a:r>
              <a:rPr b="1" lang="en-US" sz="2200" spc="-1" strike="noStrike">
                <a:solidFill>
                  <a:srgbClr val="ff0066"/>
                </a:solidFill>
                <a:latin typeface="黑体"/>
                <a:ea typeface="黑体"/>
              </a:rPr>
              <a:t>(1898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  <a:ea typeface="黑体"/>
              </a:rPr>
              <a:t>—</a:t>
            </a:r>
            <a:r>
              <a:rPr b="1" lang="en-US" sz="2200" spc="-1" strike="noStrike">
                <a:solidFill>
                  <a:srgbClr val="ff0066"/>
                </a:solidFill>
                <a:latin typeface="黑体"/>
                <a:ea typeface="黑体"/>
              </a:rPr>
              <a:t>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著名画家、艺术教育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黑体"/>
                <a:ea typeface="黑体"/>
              </a:rPr>
              <a:t>我国美育教育的先驱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9" descr="F:\ppt\705\新课标人教版第七册语文白鹅优质课件下载3\m_1262790273555.jpg"/>
          <p:cNvPicPr/>
          <p:nvPr/>
        </p:nvPicPr>
        <p:blipFill>
          <a:blip r:embed="rId2"/>
          <a:stretch/>
        </p:blipFill>
        <p:spPr>
          <a:xfrm>
            <a:off x="590400" y="692280"/>
            <a:ext cx="4122720" cy="5761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F:\ppt\705\新课标人教版第七册语文白鹅优质课件下载3\1396945116133.jpg"/>
          <p:cNvPicPr/>
          <p:nvPr/>
        </p:nvPicPr>
        <p:blipFill>
          <a:blip r:embed="rId3"/>
          <a:stretch/>
        </p:blipFill>
        <p:spPr>
          <a:xfrm>
            <a:off x="5848200" y="974880"/>
            <a:ext cx="244656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Frame18"/>
          <p:cNvPicPr/>
          <p:nvPr/>
        </p:nvPicPr>
        <p:blipFill>
          <a:blip r:embed="rId2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7272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隶书"/>
              </a:rPr>
              <a:t>自读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  <a:ea typeface="隶书"/>
              </a:rPr>
              <a:t>3-7</a:t>
            </a: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隶书"/>
              </a:rPr>
              <a:t>自然段，学习步骤如下：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7280" y="2781360"/>
            <a:ext cx="69012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画一画，画出表现白鹅高傲的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读一读，有滋有味地读好画出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品一品，仔细体会其中的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3" descr="e9"/>
          <p:cNvPicPr/>
          <p:nvPr/>
        </p:nvPicPr>
        <p:blipFill>
          <a:blip r:embed="rId2"/>
          <a:stretch/>
        </p:blipFill>
        <p:spPr>
          <a:xfrm>
            <a:off x="5148360" y="1773360"/>
            <a:ext cx="2808360" cy="388764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"/>
          <p:cNvSpPr/>
          <p:nvPr/>
        </p:nvSpPr>
        <p:spPr>
          <a:xfrm>
            <a:off x="1371600" y="9907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971640" y="981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凡有生客进来，鹅必然厉声叫嚣；甚至篱笆外有人走路，它也要引吭大叫，不亚于狗的狂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4140360" y="2421000"/>
            <a:ext cx="69840" cy="6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17"/>
          <p:cNvGrpSpPr/>
          <p:nvPr/>
        </p:nvGrpSpPr>
        <p:grpSpPr>
          <a:xfrm>
            <a:off x="1228680" y="2938320"/>
            <a:ext cx="1293840" cy="73080"/>
            <a:chOff x="1228680" y="2938320"/>
            <a:chExt cx="1293840" cy="73080"/>
          </a:xfrm>
        </p:grpSpPr>
        <p:sp>
          <p:nvSpPr>
            <p:cNvPr id="469" name="Oval 4"/>
            <p:cNvSpPr/>
            <p:nvPr/>
          </p:nvSpPr>
          <p:spPr>
            <a:xfrm>
              <a:off x="1878120" y="293832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"/>
            <p:cNvSpPr/>
            <p:nvPr/>
          </p:nvSpPr>
          <p:spPr>
            <a:xfrm>
              <a:off x="2452680" y="294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"/>
            <p:cNvSpPr/>
            <p:nvPr/>
          </p:nvSpPr>
          <p:spPr>
            <a:xfrm>
              <a:off x="1228680" y="293832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8"/>
          <p:cNvGrpSpPr/>
          <p:nvPr/>
        </p:nvGrpSpPr>
        <p:grpSpPr>
          <a:xfrm>
            <a:off x="1187280" y="5011560"/>
            <a:ext cx="1366920" cy="73080"/>
            <a:chOff x="1187280" y="5011560"/>
            <a:chExt cx="1366920" cy="73080"/>
          </a:xfrm>
        </p:grpSpPr>
        <p:sp>
          <p:nvSpPr>
            <p:cNvPr id="473" name="Oval 8"/>
            <p:cNvSpPr/>
            <p:nvPr/>
          </p:nvSpPr>
          <p:spPr>
            <a:xfrm>
              <a:off x="1187280" y="50148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"/>
            <p:cNvSpPr/>
            <p:nvPr/>
          </p:nvSpPr>
          <p:spPr>
            <a:xfrm>
              <a:off x="1908000" y="501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0"/>
            <p:cNvSpPr/>
            <p:nvPr/>
          </p:nvSpPr>
          <p:spPr>
            <a:xfrm>
              <a:off x="2484360" y="501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Oval 11"/>
          <p:cNvSpPr/>
          <p:nvPr/>
        </p:nvSpPr>
        <p:spPr>
          <a:xfrm>
            <a:off x="4140360" y="4365720"/>
            <a:ext cx="69840" cy="6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539640" y="907920"/>
            <a:ext cx="7993080" cy="67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5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如果鹅会说汉语，猜猜它会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  见到生客进来，它会用严厉的声音大声叫喊：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                   </a:t>
            </a: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　　　　　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　当篱笆外有人走路时，它会放大喉咙大吼道：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 　　　　　　　　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>
            <a:off x="1692360" y="342900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"/>
          <p:cNvSpPr/>
          <p:nvPr/>
        </p:nvSpPr>
        <p:spPr>
          <a:xfrm>
            <a:off x="1619280" y="515772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428760" y="13500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  </a:t>
            </a:r>
            <a:r>
              <a:rPr b="1" lang="zh-CN" sz="4400" spc="-1" strike="noStrike">
                <a:solidFill>
                  <a:srgbClr val="006633"/>
                </a:solidFill>
                <a:latin typeface="Arial"/>
                <a:ea typeface="楷体_GB2312"/>
              </a:rPr>
              <a:t>鸭的步调急速，有局促不安之相；鹅的步调从容；大模大样的，颇像京剧里的净角出场。</a:t>
            </a:r>
            <a:r>
              <a:rPr b="1" lang="zh-CN" sz="3600" spc="-1" strike="noStrike">
                <a:solidFill>
                  <a:srgbClr val="006633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6633"/>
                </a:solidFill>
                <a:latin typeface="Arial"/>
                <a:ea typeface="隶书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23"/>
          <p:cNvGrpSpPr/>
          <p:nvPr/>
        </p:nvGrpSpPr>
        <p:grpSpPr>
          <a:xfrm>
            <a:off x="4643280" y="1989000"/>
            <a:ext cx="646200" cy="69840"/>
            <a:chOff x="4643280" y="1989000"/>
            <a:chExt cx="646200" cy="69840"/>
          </a:xfrm>
        </p:grpSpPr>
        <p:sp>
          <p:nvSpPr>
            <p:cNvPr id="483" name="Oval 9"/>
            <p:cNvSpPr/>
            <p:nvPr/>
          </p:nvSpPr>
          <p:spPr>
            <a:xfrm>
              <a:off x="46432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4"/>
            <p:cNvSpPr/>
            <p:nvPr/>
          </p:nvSpPr>
          <p:spPr>
            <a:xfrm>
              <a:off x="521964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22"/>
          <p:cNvGrpSpPr/>
          <p:nvPr/>
        </p:nvGrpSpPr>
        <p:grpSpPr>
          <a:xfrm>
            <a:off x="6343560" y="1989000"/>
            <a:ext cx="1757520" cy="69840"/>
            <a:chOff x="6343560" y="1989000"/>
            <a:chExt cx="1757520" cy="69840"/>
          </a:xfrm>
        </p:grpSpPr>
        <p:sp>
          <p:nvSpPr>
            <p:cNvPr id="486" name="Oval 15"/>
            <p:cNvSpPr/>
            <p:nvPr/>
          </p:nvSpPr>
          <p:spPr>
            <a:xfrm>
              <a:off x="634356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6"/>
            <p:cNvSpPr/>
            <p:nvPr/>
          </p:nvSpPr>
          <p:spPr>
            <a:xfrm>
              <a:off x="70228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7"/>
            <p:cNvSpPr/>
            <p:nvPr/>
          </p:nvSpPr>
          <p:spPr>
            <a:xfrm>
              <a:off x="803124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8"/>
            <p:cNvSpPr/>
            <p:nvPr/>
          </p:nvSpPr>
          <p:spPr>
            <a:xfrm>
              <a:off x="74548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24" descr="鹅28"/>
          <p:cNvPicPr/>
          <p:nvPr/>
        </p:nvPicPr>
        <p:blipFill>
          <a:blip r:embed="rId2"/>
          <a:stretch/>
        </p:blipFill>
        <p:spPr>
          <a:xfrm>
            <a:off x="5148360" y="3860640"/>
            <a:ext cx="3544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5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95280" y="3207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00a2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京剧是我国的国粹，其中有五种角色：生、旦、净、末、丑。“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净角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”是京剧中的一种角色，通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花脸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脸谱2"/>
          <p:cNvPicPr/>
          <p:nvPr/>
        </p:nvPicPr>
        <p:blipFill>
          <a:blip r:embed="rId2"/>
          <a:stretch/>
        </p:blipFill>
        <p:spPr>
          <a:xfrm>
            <a:off x="971640" y="2606760"/>
            <a:ext cx="1728720" cy="1685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脸谱4"/>
          <p:cNvPicPr/>
          <p:nvPr/>
        </p:nvPicPr>
        <p:blipFill>
          <a:blip r:embed="rId3"/>
          <a:stretch/>
        </p:blipFill>
        <p:spPr>
          <a:xfrm>
            <a:off x="6156360" y="263520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净角2"/>
          <p:cNvPicPr/>
          <p:nvPr/>
        </p:nvPicPr>
        <p:blipFill>
          <a:blip r:embed="rId4"/>
          <a:stretch/>
        </p:blipFill>
        <p:spPr>
          <a:xfrm>
            <a:off x="3419640" y="4797360"/>
            <a:ext cx="1944360" cy="17496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脸谱7"/>
          <p:cNvPicPr/>
          <p:nvPr/>
        </p:nvPicPr>
        <p:blipFill>
          <a:blip r:embed="rId5"/>
          <a:stretch/>
        </p:blipFill>
        <p:spPr>
          <a:xfrm>
            <a:off x="971640" y="48182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1" descr="脸谱8"/>
          <p:cNvPicPr/>
          <p:nvPr/>
        </p:nvPicPr>
        <p:blipFill>
          <a:blip r:embed="rId6"/>
          <a:stretch/>
        </p:blipFill>
        <p:spPr>
          <a:xfrm>
            <a:off x="6156360" y="48182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2" descr="净角"/>
          <p:cNvPicPr/>
          <p:nvPr/>
        </p:nvPicPr>
        <p:blipFill>
          <a:blip r:embed="rId7"/>
          <a:stretch/>
        </p:blipFill>
        <p:spPr>
          <a:xfrm>
            <a:off x="3419640" y="2635200"/>
            <a:ext cx="19429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4E0D5-BAC5-4B2E-A530-5E9C51E956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84360" y="476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它常傲然地站着，看见人走来也毫不相让；有时非但不让，竟伸过颈子来咬你一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23"/>
          <p:cNvGrpSpPr/>
          <p:nvPr/>
        </p:nvGrpSpPr>
        <p:grpSpPr>
          <a:xfrm>
            <a:off x="971640" y="3213000"/>
            <a:ext cx="646200" cy="71280"/>
            <a:chOff x="971640" y="3213000"/>
            <a:chExt cx="646200" cy="71280"/>
          </a:xfrm>
        </p:grpSpPr>
        <p:sp>
          <p:nvSpPr>
            <p:cNvPr id="503" name="Oval 9"/>
            <p:cNvSpPr/>
            <p:nvPr/>
          </p:nvSpPr>
          <p:spPr>
            <a:xfrm>
              <a:off x="971640" y="3214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0"/>
            <p:cNvSpPr/>
            <p:nvPr/>
          </p:nvSpPr>
          <p:spPr>
            <a:xfrm>
              <a:off x="1548000" y="3213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8"/>
          <p:cNvGrpSpPr/>
          <p:nvPr/>
        </p:nvGrpSpPr>
        <p:grpSpPr>
          <a:xfrm>
            <a:off x="3132000" y="1198440"/>
            <a:ext cx="719280" cy="69840"/>
            <a:chOff x="3132000" y="1198440"/>
            <a:chExt cx="719280" cy="69840"/>
          </a:xfrm>
        </p:grpSpPr>
        <p:sp>
          <p:nvSpPr>
            <p:cNvPr id="506" name="Oval 11"/>
            <p:cNvSpPr/>
            <p:nvPr/>
          </p:nvSpPr>
          <p:spPr>
            <a:xfrm>
              <a:off x="3132000" y="1198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2"/>
            <p:cNvSpPr/>
            <p:nvPr/>
          </p:nvSpPr>
          <p:spPr>
            <a:xfrm>
              <a:off x="3781440" y="1198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15" descr="鹅15"/>
          <p:cNvPicPr/>
          <p:nvPr/>
        </p:nvPicPr>
        <p:blipFill>
          <a:blip r:embed="rId2"/>
          <a:stretch/>
        </p:blipFill>
        <p:spPr>
          <a:xfrm>
            <a:off x="4932360" y="4221000"/>
            <a:ext cx="3544920" cy="18558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7" descr="鹅走路的步态"/>
          <p:cNvPicPr/>
          <p:nvPr/>
        </p:nvPicPr>
        <p:blipFill>
          <a:blip r:embed="rId3"/>
          <a:stretch/>
        </p:blipFill>
        <p:spPr>
          <a:xfrm>
            <a:off x="5435640" y="836640"/>
            <a:ext cx="2587680" cy="332100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20"/>
          <p:cNvGrpSpPr/>
          <p:nvPr/>
        </p:nvGrpSpPr>
        <p:grpSpPr>
          <a:xfrm>
            <a:off x="3203640" y="2567160"/>
            <a:ext cx="718560" cy="69840"/>
            <a:chOff x="3203640" y="2567160"/>
            <a:chExt cx="718560" cy="69840"/>
          </a:xfrm>
        </p:grpSpPr>
        <p:sp>
          <p:nvSpPr>
            <p:cNvPr id="511" name="Oval 21"/>
            <p:cNvSpPr/>
            <p:nvPr/>
          </p:nvSpPr>
          <p:spPr>
            <a:xfrm>
              <a:off x="3203640" y="2567160"/>
              <a:ext cx="6948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2"/>
            <p:cNvSpPr/>
            <p:nvPr/>
          </p:nvSpPr>
          <p:spPr>
            <a:xfrm>
              <a:off x="3852720" y="2567160"/>
              <a:ext cx="6948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564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3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5:53Z</dcterms:modified>
  <cp:revision>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