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6C0-5152-423A-9693-94C0DF1B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0E0-9A75-4CBC-B97C-EE49B54C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9E1E-F1BB-4C47-B18F-F6D87465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824-FFAF-4A58-BF5B-2DFBD6D2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F6D-C976-43C3-BB0B-9AAB6AFB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128-D362-4198-B5D2-143BA4CF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E26-56D1-4746-A992-1FECEB58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FCDB-E98A-4B07-BE69-1D3CEED2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683-CC1E-4BC9-8AA9-B8ABB575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656-A177-4BC0-860B-6E94C0A1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3DBA-D3FB-4945-9909-45676E6F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B1A-E445-4B64-A42F-5E5056F1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2D01-0BDF-454A-A56D-9969F86F0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2925720"/>
            <a:ext cx="46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4520" y="141300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百分数的意义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26"/>
          <p:cNvSpPr/>
          <p:nvPr/>
        </p:nvSpPr>
        <p:spPr>
          <a:xfrm>
            <a:off x="1554120" y="681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042920" y="47628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下面各题应把什么看作单位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476360" y="1628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甲的           是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4427640" y="1844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643280" y="1341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572000" y="1916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12400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1547640" y="299736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乙是甲的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5292720" y="3284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5508720" y="270828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5508720" y="328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1619280" y="4437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乙的         相当于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4067280" y="4724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4211640" y="41497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4119480" y="4640400"/>
            <a:ext cx="88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1619280" y="5661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宽是长的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4932360" y="59500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5292720" y="537372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5292720" y="5805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3059280" y="2276640"/>
            <a:ext cx="5760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3851280" y="3645000"/>
            <a:ext cx="57636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4"/>
          <p:cNvSpPr/>
          <p:nvPr/>
        </p:nvSpPr>
        <p:spPr>
          <a:xfrm>
            <a:off x="2987640" y="5013360"/>
            <a:ext cx="6476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3995640" y="6237360"/>
            <a:ext cx="5050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508644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258920" y="69228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丽比小华重         。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5651640" y="981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867280" y="476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867280" y="1052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187280" y="206064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杨树比柳树多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5796000" y="2349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5940360" y="1773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012000" y="242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1116000" y="3429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汽车行了全程的    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>
            <a:off x="630072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6516720" y="3284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6516720" y="3860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116000" y="494172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项工程每天完成 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637236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6516720" y="4653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6372360" y="5373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4211640" y="1268280"/>
            <a:ext cx="7920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>
            <a:off x="4067280" y="2637000"/>
            <a:ext cx="72072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4427640" y="4005360"/>
            <a:ext cx="8650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4"/>
          <p:cNvSpPr/>
          <p:nvPr/>
        </p:nvSpPr>
        <p:spPr>
          <a:xfrm>
            <a:off x="2627280" y="5516640"/>
            <a:ext cx="172872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763640" y="112536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足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1403280" y="2276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篮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349236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637236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0"/>
          <p:cNvSpPr/>
          <p:nvPr/>
        </p:nvSpPr>
        <p:spPr>
          <a:xfrm>
            <a:off x="6372360" y="2781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1"/>
          <p:cNvSpPr/>
          <p:nvPr/>
        </p:nvSpPr>
        <p:spPr>
          <a:xfrm>
            <a:off x="709308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2"/>
          <p:cNvSpPr/>
          <p:nvPr/>
        </p:nvSpPr>
        <p:spPr>
          <a:xfrm>
            <a:off x="6372360" y="162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6372360" y="206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4"/>
          <p:cNvSpPr/>
          <p:nvPr/>
        </p:nvSpPr>
        <p:spPr>
          <a:xfrm>
            <a:off x="6372360" y="2349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39"/>
          <p:cNvGrpSpPr/>
          <p:nvPr/>
        </p:nvGrpSpPr>
        <p:grpSpPr>
          <a:xfrm>
            <a:off x="3492360" y="620640"/>
            <a:ext cx="2879640" cy="863640"/>
            <a:chOff x="3492360" y="620640"/>
            <a:chExt cx="2879640" cy="863640"/>
          </a:xfrm>
        </p:grpSpPr>
        <p:sp>
          <p:nvSpPr>
            <p:cNvPr id="99" name="Line 7"/>
            <p:cNvSpPr/>
            <p:nvPr/>
          </p:nvSpPr>
          <p:spPr>
            <a:xfrm>
              <a:off x="4211640" y="141264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8"/>
            <p:cNvSpPr/>
            <p:nvPr/>
          </p:nvSpPr>
          <p:spPr>
            <a:xfrm>
              <a:off x="3492360" y="13413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9"/>
            <p:cNvSpPr/>
            <p:nvPr/>
          </p:nvSpPr>
          <p:spPr>
            <a:xfrm>
              <a:off x="4932360" y="13413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>
              <a:off x="5651280" y="13413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>
              <a:off x="6372000" y="13413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37"/>
            <p:cNvGrpSpPr/>
            <p:nvPr/>
          </p:nvGrpSpPr>
          <p:grpSpPr>
            <a:xfrm>
              <a:off x="3492360" y="620640"/>
              <a:ext cx="2879280" cy="863640"/>
              <a:chOff x="3492360" y="620640"/>
              <a:chExt cx="2879280" cy="863640"/>
            </a:xfrm>
          </p:grpSpPr>
          <p:sp>
            <p:nvSpPr>
              <p:cNvPr id="105" name="Line 5"/>
              <p:cNvSpPr/>
              <p:nvPr/>
            </p:nvSpPr>
            <p:spPr>
              <a:xfrm>
                <a:off x="3496680" y="1484280"/>
                <a:ext cx="71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6"/>
              <p:cNvSpPr/>
              <p:nvPr/>
            </p:nvSpPr>
            <p:spPr>
              <a:xfrm>
                <a:off x="4215240" y="1484280"/>
                <a:ext cx="71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0"/>
              <p:cNvSpPr/>
              <p:nvPr/>
            </p:nvSpPr>
            <p:spPr>
              <a:xfrm>
                <a:off x="4935240" y="1484280"/>
                <a:ext cx="71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2"/>
              <p:cNvSpPr/>
              <p:nvPr/>
            </p:nvSpPr>
            <p:spPr>
              <a:xfrm>
                <a:off x="5653440" y="1484280"/>
                <a:ext cx="71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AutoShape 27"/>
              <p:cNvSpPr/>
              <p:nvPr/>
            </p:nvSpPr>
            <p:spPr>
              <a:xfrm rot="16200000">
                <a:off x="4750200" y="-277200"/>
                <a:ext cx="360360" cy="2876400"/>
              </a:xfrm>
              <a:custGeom>
                <a:avLst/>
                <a:gdLst>
                  <a:gd name="textAreaLeft" fmla="*/ 0 w 360360"/>
                  <a:gd name="textAreaRight" fmla="*/ 129960 w 360360"/>
                  <a:gd name="textAreaTop" fmla="*/ 74880 h 2876400"/>
                  <a:gd name="textAreaBottom" fmla="*/ 2801520 h 2876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28"/>
              <p:cNvSpPr/>
              <p:nvPr/>
            </p:nvSpPr>
            <p:spPr>
              <a:xfrm>
                <a:off x="4359600" y="620640"/>
                <a:ext cx="1293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个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ext Box 30"/>
          <p:cNvSpPr/>
          <p:nvPr/>
        </p:nvSpPr>
        <p:spPr>
          <a:xfrm>
            <a:off x="4788000" y="1700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？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8"/>
          <p:cNvGrpSpPr/>
          <p:nvPr/>
        </p:nvGrpSpPr>
        <p:grpSpPr>
          <a:xfrm>
            <a:off x="3492360" y="1952640"/>
            <a:ext cx="3600360" cy="1189080"/>
            <a:chOff x="3492360" y="1952640"/>
            <a:chExt cx="3600360" cy="1189080"/>
          </a:xfrm>
        </p:grpSpPr>
        <p:sp>
          <p:nvSpPr>
            <p:cNvPr id="113" name="Line 15"/>
            <p:cNvSpPr/>
            <p:nvPr/>
          </p:nvSpPr>
          <p:spPr>
            <a:xfrm>
              <a:off x="3492360" y="2781360"/>
              <a:ext cx="28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29"/>
            <p:cNvSpPr/>
            <p:nvPr/>
          </p:nvSpPr>
          <p:spPr>
            <a:xfrm rot="16200000">
              <a:off x="4986000" y="458640"/>
              <a:ext cx="612720" cy="3600360"/>
            </a:xfrm>
            <a:custGeom>
              <a:avLst/>
              <a:gdLst>
                <a:gd name="textAreaLeft" fmla="*/ 0 w 612720"/>
                <a:gd name="textAreaRight" fmla="*/ 221040 w 612720"/>
                <a:gd name="textAreaTop" fmla="*/ 93600 h 3600360"/>
                <a:gd name="textAreaBottom" fmla="*/ 3506760 h 36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31"/>
            <p:cNvSpPr/>
            <p:nvPr/>
          </p:nvSpPr>
          <p:spPr>
            <a:xfrm rot="5400000">
              <a:off x="6587640" y="2636640"/>
              <a:ext cx="289080" cy="72072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32"/>
          <p:cNvSpPr/>
          <p:nvPr/>
        </p:nvSpPr>
        <p:spPr>
          <a:xfrm>
            <a:off x="5508720" y="3357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比足球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3"/>
          <p:cNvSpPr/>
          <p:nvPr/>
        </p:nvSpPr>
        <p:spPr>
          <a:xfrm>
            <a:off x="752472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766764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5"/>
          <p:cNvSpPr/>
          <p:nvPr/>
        </p:nvSpPr>
        <p:spPr>
          <a:xfrm>
            <a:off x="7667640" y="3716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6"/>
          <p:cNvSpPr/>
          <p:nvPr/>
        </p:nvSpPr>
        <p:spPr>
          <a:xfrm>
            <a:off x="1908000" y="1700280"/>
            <a:ext cx="100836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4"/>
          <p:cNvGrpSpPr/>
          <p:nvPr/>
        </p:nvGrpSpPr>
        <p:grpSpPr>
          <a:xfrm>
            <a:off x="3492360" y="620640"/>
            <a:ext cx="2879640" cy="863640"/>
            <a:chOff x="3492360" y="620640"/>
            <a:chExt cx="2879640" cy="863640"/>
          </a:xfrm>
        </p:grpSpPr>
        <p:sp>
          <p:nvSpPr>
            <p:cNvPr id="122" name="Line 5"/>
            <p:cNvSpPr/>
            <p:nvPr/>
          </p:nvSpPr>
          <p:spPr>
            <a:xfrm>
              <a:off x="3496680" y="1484280"/>
              <a:ext cx="71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"/>
            <p:cNvSpPr/>
            <p:nvPr/>
          </p:nvSpPr>
          <p:spPr>
            <a:xfrm>
              <a:off x="4215240" y="1484280"/>
              <a:ext cx="71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4935240" y="1484280"/>
              <a:ext cx="71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>
              <a:off x="5653440" y="1484280"/>
              <a:ext cx="71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9"/>
            <p:cNvSpPr/>
            <p:nvPr/>
          </p:nvSpPr>
          <p:spPr>
            <a:xfrm rot="16200000">
              <a:off x="4750560" y="-277560"/>
              <a:ext cx="360360" cy="28767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74880 h 2876760"/>
                <a:gd name="textAreaBottom" fmla="*/ 2801880 h 287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4359600" y="620640"/>
              <a:ext cx="129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？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3492360" y="1952640"/>
            <a:ext cx="3600360" cy="1189080"/>
            <a:chOff x="3492360" y="1952640"/>
            <a:chExt cx="3600360" cy="1189080"/>
          </a:xfrm>
        </p:grpSpPr>
        <p:sp>
          <p:nvSpPr>
            <p:cNvPr id="129" name="Line 12"/>
            <p:cNvSpPr/>
            <p:nvPr/>
          </p:nvSpPr>
          <p:spPr>
            <a:xfrm>
              <a:off x="3492360" y="2781360"/>
              <a:ext cx="28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3"/>
            <p:cNvSpPr/>
            <p:nvPr/>
          </p:nvSpPr>
          <p:spPr>
            <a:xfrm rot="16200000">
              <a:off x="4986000" y="458640"/>
              <a:ext cx="612720" cy="3600360"/>
            </a:xfrm>
            <a:custGeom>
              <a:avLst/>
              <a:gdLst>
                <a:gd name="textAreaLeft" fmla="*/ 0 w 612720"/>
                <a:gd name="textAreaRight" fmla="*/ 221040 w 612720"/>
                <a:gd name="textAreaTop" fmla="*/ 93600 h 3600360"/>
                <a:gd name="textAreaBottom" fmla="*/ 3506760 h 36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4"/>
            <p:cNvSpPr/>
            <p:nvPr/>
          </p:nvSpPr>
          <p:spPr>
            <a:xfrm rot="5400000">
              <a:off x="6587640" y="2636640"/>
              <a:ext cx="289080" cy="72072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9"/>
          <p:cNvSpPr/>
          <p:nvPr/>
        </p:nvSpPr>
        <p:spPr>
          <a:xfrm>
            <a:off x="349236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6372360" y="134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>
            <a:off x="5003640" y="1413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3"/>
          <p:cNvSpPr/>
          <p:nvPr/>
        </p:nvSpPr>
        <p:spPr>
          <a:xfrm>
            <a:off x="428472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4"/>
          <p:cNvSpPr/>
          <p:nvPr/>
        </p:nvSpPr>
        <p:spPr>
          <a:xfrm>
            <a:off x="5651640" y="1413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5"/>
          <p:cNvSpPr/>
          <p:nvPr/>
        </p:nvSpPr>
        <p:spPr>
          <a:xfrm>
            <a:off x="3492360" y="256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6"/>
          <p:cNvSpPr/>
          <p:nvPr/>
        </p:nvSpPr>
        <p:spPr>
          <a:xfrm>
            <a:off x="637236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7"/>
          <p:cNvSpPr/>
          <p:nvPr/>
        </p:nvSpPr>
        <p:spPr>
          <a:xfrm>
            <a:off x="421164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8"/>
          <p:cNvSpPr/>
          <p:nvPr/>
        </p:nvSpPr>
        <p:spPr>
          <a:xfrm>
            <a:off x="493236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9"/>
          <p:cNvSpPr/>
          <p:nvPr/>
        </p:nvSpPr>
        <p:spPr>
          <a:xfrm>
            <a:off x="565164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3"/>
          <p:cNvSpPr/>
          <p:nvPr/>
        </p:nvSpPr>
        <p:spPr>
          <a:xfrm>
            <a:off x="637236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4"/>
          <p:cNvSpPr/>
          <p:nvPr/>
        </p:nvSpPr>
        <p:spPr>
          <a:xfrm>
            <a:off x="70930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5"/>
          <p:cNvSpPr/>
          <p:nvPr/>
        </p:nvSpPr>
        <p:spPr>
          <a:xfrm>
            <a:off x="4572000" y="1557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1835280" y="9079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篮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7"/>
          <p:cNvSpPr/>
          <p:nvPr/>
        </p:nvSpPr>
        <p:spPr>
          <a:xfrm>
            <a:off x="1835280" y="2276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足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8"/>
          <p:cNvSpPr/>
          <p:nvPr/>
        </p:nvSpPr>
        <p:spPr>
          <a:xfrm>
            <a:off x="6372360" y="17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9"/>
          <p:cNvSpPr/>
          <p:nvPr/>
        </p:nvSpPr>
        <p:spPr>
          <a:xfrm>
            <a:off x="637236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0"/>
          <p:cNvSpPr/>
          <p:nvPr/>
        </p:nvSpPr>
        <p:spPr>
          <a:xfrm>
            <a:off x="5580000" y="33577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比篮球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1"/>
          <p:cNvSpPr/>
          <p:nvPr/>
        </p:nvSpPr>
        <p:spPr>
          <a:xfrm>
            <a:off x="7524720" y="37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7740720" y="306864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3"/>
          <p:cNvSpPr/>
          <p:nvPr/>
        </p:nvSpPr>
        <p:spPr>
          <a:xfrm>
            <a:off x="7740720" y="3716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4"/>
          <p:cNvSpPr/>
          <p:nvPr/>
        </p:nvSpPr>
        <p:spPr>
          <a:xfrm>
            <a:off x="2050920" y="1484280"/>
            <a:ext cx="79236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684360" y="549360"/>
            <a:ext cx="51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比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0" y="1413000"/>
            <a:ext cx="100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校的果园里有梨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棵，苹果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826920" y="2349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苹果树比梨树多多少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826920" y="321300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梨树比苹果树少多少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826920" y="4005360"/>
            <a:ext cx="9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梨树的棵树是苹果树的几分之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755640" y="479736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苹果树的棵树是梨树的几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F79-18E5-4098-AC81-6C55907DFB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395280" y="47628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一班有学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，其中男生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。男生人数占全班的几分之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468360" y="2637000"/>
            <a:ext cx="90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一班有学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，男生占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生有多少人？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7524720" y="2997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740720" y="2349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7740720" y="2997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395280" y="4869000"/>
            <a:ext cx="9505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一班有女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，占全班的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班共有学生多少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7956720" y="5157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8172360" y="4581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8172360" y="522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4720" y="63104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05:08:57Z</dcterms:created>
  <dc:creator/>
  <dc:description/>
  <dc:language>en-US</dc:language>
  <cp:lastModifiedBy/>
  <dcterms:modified xsi:type="dcterms:W3CDTF">2015-07-04T08:14:14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