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F18-1A2D-49AA-A163-290B74ED1B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98A3-81E7-4B9F-B41F-292C9427F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CB22-B64E-45C8-BDA2-6EAED4D9D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DF9F-8F99-4D32-9E0D-BFEAD0B22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D1C58-EEDC-444D-A862-22DFCBDB7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528F3-D9A4-493B-AA21-F039FB3D9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809BC-0417-4C76-B5E3-15944FCCB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43236-0131-4C0C-8CAE-601160AB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9E27-2950-4A61-A1F2-BC0CB8FF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4FC3-DF86-4FB1-8F1F-D378F7057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AEEA-DC54-4691-9459-C03981415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7BE68-3C3C-48E3-8671-F72B6CCA1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9E0F9-3FC2-4BD8-9285-8BBFE07DA603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AutoShape 3"/>
          <p:cNvGrpSpPr/>
          <p:nvPr/>
        </p:nvGrpSpPr>
        <p:grpSpPr>
          <a:xfrm>
            <a:off x="457200" y="1274760"/>
            <a:ext cx="5973840" cy="4595760"/>
            <a:chOff x="457200" y="1274760"/>
            <a:chExt cx="5973840" cy="4595760"/>
          </a:xfrm>
        </p:grpSpPr>
        <p:pic>
          <p:nvPicPr>
            <p:cNvPr id="43" name="AutoShape 3" descr=""/>
            <p:cNvPicPr/>
            <p:nvPr/>
          </p:nvPicPr>
          <p:blipFill>
            <a:blip r:embed="rId1"/>
            <a:stretch/>
          </p:blipFill>
          <p:spPr>
            <a:xfrm>
              <a:off x="457200" y="1274760"/>
              <a:ext cx="5973840" cy="459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474840" y="1766880"/>
              <a:ext cx="4759200" cy="361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AutoShape 7"/>
          <p:cNvSpPr/>
          <p:nvPr/>
        </p:nvSpPr>
        <p:spPr>
          <a:xfrm>
            <a:off x="6622920" y="292896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00000"/>
                </a:solidFill>
                <a:latin typeface="黑体"/>
                <a:ea typeface="黑体"/>
              </a:rPr>
              <a:t>双击添加文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" name="圆角矩形 14"/>
          <p:cNvGrpSpPr/>
          <p:nvPr/>
        </p:nvGrpSpPr>
        <p:grpSpPr>
          <a:xfrm>
            <a:off x="835200" y="2182680"/>
            <a:ext cx="4120920" cy="841320"/>
            <a:chOff x="835200" y="2182680"/>
            <a:chExt cx="4120920" cy="841320"/>
          </a:xfrm>
        </p:grpSpPr>
        <p:pic>
          <p:nvPicPr>
            <p:cNvPr id="47" name="圆角矩形 14" descr=""/>
            <p:cNvPicPr/>
            <p:nvPr/>
          </p:nvPicPr>
          <p:blipFill>
            <a:blip r:embed="rId2"/>
            <a:stretch/>
          </p:blipFill>
          <p:spPr>
            <a:xfrm>
              <a:off x="835200" y="2182680"/>
              <a:ext cx="412092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904680" y="2252520"/>
              <a:ext cx="39906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" name="圆角矩形 15"/>
          <p:cNvGrpSpPr/>
          <p:nvPr/>
        </p:nvGrpSpPr>
        <p:grpSpPr>
          <a:xfrm>
            <a:off x="853920" y="3181320"/>
            <a:ext cx="4102200" cy="841320"/>
            <a:chOff x="853920" y="3181320"/>
            <a:chExt cx="4102200" cy="841320"/>
          </a:xfrm>
        </p:grpSpPr>
        <p:pic>
          <p:nvPicPr>
            <p:cNvPr id="50" name="圆角矩形 15" descr=""/>
            <p:cNvPicPr/>
            <p:nvPr/>
          </p:nvPicPr>
          <p:blipFill>
            <a:blip r:embed="rId3"/>
            <a:stretch/>
          </p:blipFill>
          <p:spPr>
            <a:xfrm>
              <a:off x="853920" y="3181320"/>
              <a:ext cx="410220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923760" y="3252600"/>
              <a:ext cx="39672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2" name="圆角矩形 16"/>
          <p:cNvGrpSpPr/>
          <p:nvPr/>
        </p:nvGrpSpPr>
        <p:grpSpPr>
          <a:xfrm>
            <a:off x="828720" y="4181400"/>
            <a:ext cx="4097160" cy="841320"/>
            <a:chOff x="828720" y="4181400"/>
            <a:chExt cx="4097160" cy="841320"/>
          </a:xfrm>
        </p:grpSpPr>
        <p:pic>
          <p:nvPicPr>
            <p:cNvPr id="53" name="圆角矩形 16" descr=""/>
            <p:cNvPicPr/>
            <p:nvPr/>
          </p:nvPicPr>
          <p:blipFill>
            <a:blip r:embed="rId4"/>
            <a:stretch/>
          </p:blipFill>
          <p:spPr>
            <a:xfrm>
              <a:off x="828720" y="4181400"/>
              <a:ext cx="4097160" cy="841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895320" y="4252680"/>
              <a:ext cx="39672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" name="Text Box 58"/>
          <p:cNvSpPr/>
          <p:nvPr/>
        </p:nvSpPr>
        <p:spPr>
          <a:xfrm>
            <a:off x="1071720" y="235728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您要的内容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58"/>
          <p:cNvSpPr/>
          <p:nvPr/>
        </p:nvSpPr>
        <p:spPr>
          <a:xfrm>
            <a:off x="1143000" y="335772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您要的内容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8"/>
          <p:cNvSpPr/>
          <p:nvPr/>
        </p:nvSpPr>
        <p:spPr>
          <a:xfrm>
            <a:off x="1071720" y="4357800"/>
            <a:ext cx="36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黑体"/>
              </a:rPr>
              <a:t>点击此处添加您要的内容文字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8"/>
          <p:cNvSpPr/>
          <p:nvPr/>
        </p:nvSpPr>
        <p:spPr>
          <a:xfrm>
            <a:off x="7624800" y="219240"/>
            <a:ext cx="103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黑体"/>
              </a:rPr>
              <a:t>包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84360" y="5805360"/>
            <a:ext cx="69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下载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55640" y="1557360"/>
            <a:ext cx="460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2000" spc="-1" strike="noStrike">
                <a:solidFill>
                  <a:srgbClr val="1c1c1c"/>
                </a:solidFill>
                <a:latin typeface="Arial"/>
              </a:rPr>
              <a:t>http://www.eeppt.co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2800" y="54936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包含关系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素材下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5f5f5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DF8AA-5E07-4E67-AB48-A4EEB226CF5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5T07:04:58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0T06:13:11Z</dcterms:modified>
  <cp:revision>13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