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A43D-DB15-41DE-BA09-E104C4BC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DEC5-C11E-43F6-839F-49466DCC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B899-BF57-4DED-A2ED-E0B8B9BAE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ACB2-1C0C-4947-9918-F34F382A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4C73-9F45-4FCC-ADEC-3CA79956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E40E-83D7-40A2-A5FD-A1D71530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1710-543F-4E0A-AF2C-DCF311D3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9ECE-E287-425A-9C01-E753511E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C243-DA4A-4D23-9B01-93ABDC9B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A274-7760-40AA-99F7-A96B219A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BD95-AA4F-4D02-BED6-7CF8D699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C8A0-BA99-4E07-9D52-9E09701E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30C3-AB74-4DEE-8A12-35EE9E354D2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4F7F-9EAC-41E2-BA76-350205446A2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42"/>
          <p:cNvGrpSpPr/>
          <p:nvPr/>
        </p:nvGrpSpPr>
        <p:grpSpPr>
          <a:xfrm>
            <a:off x="171360" y="2247840"/>
            <a:ext cx="2584440" cy="2817720"/>
            <a:chOff x="171360" y="2247840"/>
            <a:chExt cx="2584440" cy="2817720"/>
          </a:xfrm>
        </p:grpSpPr>
        <p:sp>
          <p:nvSpPr>
            <p:cNvPr id="44" name="椭圆 43"/>
            <p:cNvSpPr/>
            <p:nvPr/>
          </p:nvSpPr>
          <p:spPr>
            <a:xfrm>
              <a:off x="419400" y="2247840"/>
              <a:ext cx="2127240" cy="21272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Box 44"/>
            <p:cNvSpPr/>
            <p:nvPr/>
          </p:nvSpPr>
          <p:spPr>
            <a:xfrm>
              <a:off x="171360" y="4484160"/>
              <a:ext cx="258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Broadway BT"/>
                  <a:ea typeface="微软雅黑"/>
                </a:rPr>
                <a:t>自我分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矩形 61"/>
          <p:cNvSpPr/>
          <p:nvPr/>
        </p:nvSpPr>
        <p:spPr>
          <a:xfrm>
            <a:off x="2646360" y="2503440"/>
            <a:ext cx="979560" cy="2160720"/>
          </a:xfrm>
          <a:prstGeom prst="pie">
            <a:avLst/>
          </a:prstGeom>
          <a:noFill/>
          <a:ln w="25560">
            <a:solidFill>
              <a:srgbClr val="7f7f7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46"/>
          <p:cNvSpPr/>
          <p:nvPr/>
        </p:nvSpPr>
        <p:spPr>
          <a:xfrm>
            <a:off x="3770280" y="1557360"/>
            <a:ext cx="5040360" cy="18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47"/>
          <p:cNvSpPr/>
          <p:nvPr/>
        </p:nvSpPr>
        <p:spPr>
          <a:xfrm>
            <a:off x="3876840" y="1657440"/>
            <a:ext cx="4824360" cy="1671480"/>
          </a:xfrm>
          <a:prstGeom prst="rect">
            <a:avLst/>
          </a:prstGeom>
          <a:solidFill>
            <a:srgbClr val="add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8"/>
          <p:cNvSpPr/>
          <p:nvPr/>
        </p:nvSpPr>
        <p:spPr>
          <a:xfrm>
            <a:off x="4649760" y="1727280"/>
            <a:ext cx="3994200" cy="15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9"/>
          <p:cNvSpPr/>
          <p:nvPr/>
        </p:nvSpPr>
        <p:spPr>
          <a:xfrm>
            <a:off x="3043080" y="1989000"/>
            <a:ext cx="1440000" cy="100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0"/>
          <p:cNvSpPr/>
          <p:nvPr/>
        </p:nvSpPr>
        <p:spPr>
          <a:xfrm>
            <a:off x="7224840" y="2014560"/>
            <a:ext cx="1295280" cy="10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1"/>
          <p:cNvSpPr/>
          <p:nvPr/>
        </p:nvSpPr>
        <p:spPr>
          <a:xfrm>
            <a:off x="4803840" y="1971720"/>
            <a:ext cx="230832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以往可以复制的成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以往可以总结的经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我强项和弱项分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2"/>
          <p:cNvSpPr/>
          <p:nvPr/>
        </p:nvSpPr>
        <p:spPr>
          <a:xfrm>
            <a:off x="3079800" y="2205000"/>
            <a:ext cx="13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经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3"/>
          <p:cNvSpPr/>
          <p:nvPr/>
        </p:nvSpPr>
        <p:spPr>
          <a:xfrm>
            <a:off x="3770280" y="3718080"/>
            <a:ext cx="5040360" cy="18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4"/>
          <p:cNvSpPr/>
          <p:nvPr/>
        </p:nvSpPr>
        <p:spPr>
          <a:xfrm>
            <a:off x="3876840" y="3816360"/>
            <a:ext cx="4824360" cy="1673280"/>
          </a:xfrm>
          <a:prstGeom prst="rect">
            <a:avLst/>
          </a:prstGeom>
          <a:solidFill>
            <a:srgbClr val="93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5"/>
          <p:cNvSpPr/>
          <p:nvPr/>
        </p:nvSpPr>
        <p:spPr>
          <a:xfrm>
            <a:off x="4649760" y="3886200"/>
            <a:ext cx="3994200" cy="155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6"/>
          <p:cNvSpPr/>
          <p:nvPr/>
        </p:nvSpPr>
        <p:spPr>
          <a:xfrm>
            <a:off x="3043080" y="4149720"/>
            <a:ext cx="1440000" cy="100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7"/>
          <p:cNvSpPr/>
          <p:nvPr/>
        </p:nvSpPr>
        <p:spPr>
          <a:xfrm>
            <a:off x="3151080" y="4365720"/>
            <a:ext cx="12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经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8"/>
          <p:cNvSpPr/>
          <p:nvPr/>
        </p:nvSpPr>
        <p:spPr>
          <a:xfrm>
            <a:off x="7207200" y="4175280"/>
            <a:ext cx="1330200" cy="10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9"/>
          <p:cNvSpPr/>
          <p:nvPr/>
        </p:nvSpPr>
        <p:spPr>
          <a:xfrm>
            <a:off x="4803840" y="4132440"/>
            <a:ext cx="230832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谁是我学习的对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我的性格和能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思考怎样充分利用资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609300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112320" y="0"/>
            <a:ext cx="5452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ffff"/>
                </a:solidFill>
                <a:latin typeface="Arial"/>
                <a:ea typeface="宋体"/>
              </a:rPr>
              <a:t>并列关系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500" spc="-1" strike="noStrike">
                <a:solidFill>
                  <a:srgbClr val="ffffff"/>
                </a:solidFill>
                <a:latin typeface="Arial"/>
                <a:ea typeface="宋体"/>
              </a:rPr>
              <a:t>素材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27D8-CAA1-454E-8052-AB80103C7D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8:36:59Z</dcterms:modified>
  <cp:revision>95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