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26D-CD3E-439B-B7A9-18A86A20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D10-F375-44FF-9541-4D4895DE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1FB-56E0-41A1-B185-03F659B0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E57-5309-4A3B-BD4A-18804CAA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C80-5FDC-48B3-910B-76AFF4E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F30-4FC9-467C-9F24-5E7412B9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641-0634-4AE3-9BDD-01B201A7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F6E-45AF-4EB3-A0B5-B4A348B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71D-E686-40C1-995E-3E337EA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2B7-482F-460B-97A3-F8A2FE0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63E-48A4-4061-AA13-2FC77A4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DDE-3EEE-44AA-8C90-B57C3E1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1F5-C7CA-411C-BBDD-4DD9AF33AB6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273F-8395-4A0C-B1B5-CA084F36D4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7040" y="0"/>
            <a:ext cx="47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白色小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AE5-E918-4E21-880E-B845D6EB3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4"/>
          <a:stretch/>
        </p:blipFill>
        <p:spPr>
          <a:xfrm>
            <a:off x="2556000" y="909720"/>
            <a:ext cx="2571480" cy="257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7:29Z</dcterms:modified>
  <cp:revision>1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