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65E6-E7BF-4B21-8A98-4E7A5D3D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258-BA5D-4294-9E41-1FB97BCE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49B-569D-41DF-9FF6-C7E59E95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FA5-53EC-4694-8AA7-5145E0C1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7F0-0F1D-4AA6-A716-2653E8CD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99F-F096-43FA-BEFE-88A74D90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A1A-18B5-456D-B0A0-9BC1C616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5DE-036F-443C-ADFD-4FA3407B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02A-C9C0-47D4-A840-B8E7F4D3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F5C-B129-4CDC-B510-8A7F193C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742-D9FC-4C96-A4F8-A2A94FF2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23E-A013-4B23-A15A-5640AE57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1E1A-BA8A-4B6C-BF14-4F61A59594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:\work\第二\方片时钟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3"/>
          <p:cNvSpPr/>
          <p:nvPr/>
        </p:nvSpPr>
        <p:spPr>
          <a:xfrm>
            <a:off x="752400" y="1849320"/>
            <a:ext cx="2206800" cy="422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787320" y="1874880"/>
            <a:ext cx="2127240" cy="168120"/>
          </a:xfrm>
          <a:prstGeom prst="roundRect">
            <a:avLst>
              <a:gd name="adj" fmla="val 28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6184800" y="1849320"/>
            <a:ext cx="2206800" cy="4222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6219720" y="1870200"/>
            <a:ext cx="2127240" cy="136440"/>
          </a:xfrm>
          <a:prstGeom prst="roundRect">
            <a:avLst>
              <a:gd name="adj" fmla="val 28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5"/>
          <p:cNvSpPr/>
          <p:nvPr/>
        </p:nvSpPr>
        <p:spPr>
          <a:xfrm>
            <a:off x="596880" y="2405160"/>
            <a:ext cx="24084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2441520" y="5086440"/>
            <a:ext cx="2206800" cy="423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2476440" y="5106960"/>
            <a:ext cx="2129040" cy="136440"/>
          </a:xfrm>
          <a:prstGeom prst="roundRect">
            <a:avLst>
              <a:gd name="adj" fmla="val 28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2604960" y="5118120"/>
            <a:ext cx="1843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7"/>
          <p:cNvSpPr/>
          <p:nvPr/>
        </p:nvSpPr>
        <p:spPr>
          <a:xfrm>
            <a:off x="6365880" y="1870200"/>
            <a:ext cx="1843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7"/>
          <p:cNvSpPr/>
          <p:nvPr/>
        </p:nvSpPr>
        <p:spPr>
          <a:xfrm>
            <a:off x="934920" y="1859040"/>
            <a:ext cx="1843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6105600" y="2405160"/>
            <a:ext cx="240804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4508640" y="5011560"/>
            <a:ext cx="240804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 rot="3304200">
            <a:off x="3274560" y="1643040"/>
            <a:ext cx="2830680" cy="283356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 flipH="1" rot="18319200">
            <a:off x="3116880" y="1644480"/>
            <a:ext cx="2832120" cy="2832120"/>
          </a:xfrm>
          <a:prstGeom prst="pi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 flipV="1">
            <a:off x="3181320" y="1796760"/>
            <a:ext cx="2830680" cy="2830320"/>
          </a:xfrm>
          <a:prstGeom prst="pi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957480" y="3757680"/>
            <a:ext cx="12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80"/>
          <p:cNvSpPr/>
          <p:nvPr/>
        </p:nvSpPr>
        <p:spPr>
          <a:xfrm>
            <a:off x="4221000" y="2705040"/>
            <a:ext cx="831960" cy="83016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TransBW_003"/>
          <p:cNvPicPr/>
          <p:nvPr/>
        </p:nvPicPr>
        <p:blipFill>
          <a:blip r:embed="rId8"/>
          <a:stretch/>
        </p:blipFill>
        <p:spPr>
          <a:xfrm>
            <a:off x="4227480" y="270684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2"/>
          <p:cNvSpPr/>
          <p:nvPr/>
        </p:nvSpPr>
        <p:spPr>
          <a:xfrm>
            <a:off x="4749840" y="2389320"/>
            <a:ext cx="124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165480" y="2389320"/>
            <a:ext cx="124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89"/>
          <p:cNvSpPr/>
          <p:nvPr/>
        </p:nvSpPr>
        <p:spPr>
          <a:xfrm>
            <a:off x="4087800" y="4197240"/>
            <a:ext cx="1035000" cy="45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491"/>
          <p:cNvSpPr/>
          <p:nvPr/>
        </p:nvSpPr>
        <p:spPr>
          <a:xfrm rot="7507200">
            <a:off x="2971800" y="2200680"/>
            <a:ext cx="1035000" cy="45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492"/>
          <p:cNvSpPr/>
          <p:nvPr/>
        </p:nvSpPr>
        <p:spPr>
          <a:xfrm rot="1155600">
            <a:off x="3552480" y="4160520"/>
            <a:ext cx="1320840" cy="390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493"/>
          <p:cNvSpPr/>
          <p:nvPr/>
        </p:nvSpPr>
        <p:spPr>
          <a:xfrm rot="15138600">
            <a:off x="5448600" y="2616840"/>
            <a:ext cx="1035360" cy="376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498"/>
          <p:cNvSpPr/>
          <p:nvPr/>
        </p:nvSpPr>
        <p:spPr>
          <a:xfrm rot="20626200">
            <a:off x="4349880" y="4162320"/>
            <a:ext cx="1319040" cy="390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499"/>
          <p:cNvSpPr/>
          <p:nvPr/>
        </p:nvSpPr>
        <p:spPr>
          <a:xfrm rot="15002400">
            <a:off x="5317920" y="2291760"/>
            <a:ext cx="1035000" cy="45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6156360" y="196920"/>
            <a:ext cx="2759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饼图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 http://www.eeppt.com</dc:creator>
  <dc:description/>
  <cp:keywords>幻灯片之家 http:/www.eeppt.com</cp:keywords>
  <dc:language>en-US</dc:language>
  <cp:lastModifiedBy/>
  <cp:lastPrinted>2113-01-01T00:00:00Z</cp:lastPrinted>
  <dcterms:modified xsi:type="dcterms:W3CDTF">2015-07-09T11:36:25Z</dcterms:modified>
  <cp:revision>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图表制作5</vt:lpwstr>
  </property>
  <property fmtid="{D5CDD505-2E9C-101B-9397-08002B2CF9AE}" pid="4" name="Version">
    <vt:r8>1</vt:r8>
  </property>
</Properties>
</file>