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C5B3-26BB-434F-A2FA-EA7852BC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3F8-F196-4306-BBD5-2897F3C4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D272-29EF-4FC1-B226-6B58EDC0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B803-6DB2-4603-956E-02922AB2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3709-5F57-4AAC-B4D4-678DF0B9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8EC4-8FDD-48DC-8534-88051986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D414-787A-4213-B2FD-C008F005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D5F9-106A-4391-AC70-170F364F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04C6-395D-4086-812A-4C03E868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25E3-2CDF-4F78-B699-EF51E768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78E8-5FC5-4E9D-91F0-F14F23CA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86A5-A765-4EBC-B002-6A31D70A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189" b="0"/>
          <a:stretch/>
        </p:blipFill>
        <p:spPr>
          <a:xfrm>
            <a:off x="-3240" y="0"/>
            <a:ext cx="9147240" cy="532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PPT1"/>
          <p:cNvPicPr/>
          <p:nvPr/>
        </p:nvPicPr>
        <p:blipFill>
          <a:blip r:embed="rId3"/>
          <a:stretch/>
        </p:blipFill>
        <p:spPr>
          <a:xfrm>
            <a:off x="539640" y="5445000"/>
            <a:ext cx="2160720" cy="5763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rcRect l="0" t="11661" r="0" b="20381"/>
          <a:stretch/>
        </p:blipFill>
        <p:spPr>
          <a:xfrm>
            <a:off x="971640" y="404640"/>
            <a:ext cx="7561080" cy="23749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5940360" y="333360"/>
            <a:ext cx="2862360" cy="3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4ac"/>
                </a:solidFill>
                <a:latin typeface="Myriad Pro"/>
              </a:rPr>
              <a:t>Click to edit the title text format</a:t>
            </a:r>
            <a:endParaRPr b="0" lang="en-US" sz="2600" spc="-1" strike="noStrike">
              <a:solidFill>
                <a:srgbClr val="0064ac"/>
              </a:solidFill>
              <a:latin typeface="Myriad Pro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3a3a3a"/>
              </a:buClr>
              <a:buFont typeface="Helvetica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3a3a"/>
                </a:solidFill>
                <a:latin typeface="Myriad Pro"/>
              </a:rPr>
              <a:t>Click to edit the outline text format</a:t>
            </a:r>
            <a:endParaRPr b="0" lang="en-US" sz="2000" spc="-1" strike="noStrike">
              <a:solidFill>
                <a:srgbClr val="3a3a3a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3a3a3a"/>
              </a:buClr>
              <a:buFont typeface="Helvetic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3a3a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3a3a3a"/>
              </a:solidFill>
              <a:latin typeface="Myriad Pro"/>
            </a:endParaRPr>
          </a:p>
          <a:p>
            <a:pPr lvl="2" marL="1143000" indent="-228600">
              <a:spcBef>
                <a:spcPts val="400"/>
              </a:spcBef>
              <a:buClr>
                <a:srgbClr val="3a3a3a"/>
              </a:buClr>
              <a:buFont typeface="Helvetica CE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3a3a"/>
                </a:solidFill>
                <a:latin typeface="Myriad Pro"/>
              </a:rPr>
              <a:t>Third Outline Level</a:t>
            </a:r>
            <a:endParaRPr b="0" lang="en-US" sz="1600" spc="-1" strike="noStrike">
              <a:solidFill>
                <a:srgbClr val="3a3a3a"/>
              </a:solidFill>
              <a:latin typeface="Myriad Pro"/>
            </a:endParaRPr>
          </a:p>
          <a:p>
            <a:pPr lvl="3" marL="1600200" indent="-228600">
              <a:spcBef>
                <a:spcPts val="349"/>
              </a:spcBef>
              <a:buClr>
                <a:srgbClr val="3a3a3a"/>
              </a:buClr>
              <a:buFont typeface="Helvetica CE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3a3a"/>
                </a:solidFill>
                <a:latin typeface="Myriad Pro"/>
              </a:rPr>
              <a:t>Fourth Outline Level</a:t>
            </a:r>
            <a:endParaRPr b="0" lang="en-US" sz="1400" spc="-1" strike="noStrike">
              <a:solidFill>
                <a:srgbClr val="3a3a3a"/>
              </a:solidFill>
              <a:latin typeface="Myriad Pro"/>
            </a:endParaRPr>
          </a:p>
          <a:p>
            <a:pPr lvl="4" marL="2057400" indent="-228600">
              <a:spcBef>
                <a:spcPts val="349"/>
              </a:spcBef>
              <a:buClr>
                <a:srgbClr val="3a3a3a"/>
              </a:buClr>
              <a:buFont typeface="Helvetica C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3a3a"/>
                </a:solidFill>
                <a:latin typeface="Myriad Pro"/>
              </a:rPr>
              <a:t>Fifth Outline Level</a:t>
            </a:r>
            <a:endParaRPr b="0" lang="en-US" sz="1400" spc="-1" strike="noStrike">
              <a:solidFill>
                <a:srgbClr val="3a3a3a"/>
              </a:solidFill>
              <a:latin typeface="Myriad Pro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Helvetic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3a3a"/>
                </a:solidFill>
                <a:latin typeface="Myriad Pro"/>
              </a:rPr>
              <a:t>Sixth Outline Level</a:t>
            </a:r>
            <a:endParaRPr b="0" lang="en-US" sz="1400" spc="-1" strike="noStrike">
              <a:solidFill>
                <a:srgbClr val="3a3a3a"/>
              </a:solidFill>
              <a:latin typeface="Myriad Pro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Helvetic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3a3a"/>
                </a:solidFill>
                <a:latin typeface="Myriad Pro"/>
              </a:rPr>
              <a:t>Seventh Outline Level</a:t>
            </a:r>
            <a:endParaRPr b="0" lang="en-US" sz="1400" spc="-1" strike="noStrike">
              <a:solidFill>
                <a:srgbClr val="3a3a3a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0A96-0EE4-4D31-9681-79A5AAE16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3333"/>
          <p:cNvPicPr/>
          <p:nvPr/>
        </p:nvPicPr>
        <p:blipFill>
          <a:blip r:embed="rId2"/>
          <a:srcRect l="0" t="0" r="35270" b="0"/>
          <a:stretch/>
        </p:blipFill>
        <p:spPr>
          <a:xfrm>
            <a:off x="2556000" y="6273720"/>
            <a:ext cx="6264000" cy="3952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8029440" y="6423120"/>
            <a:ext cx="4320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F1AE-6746-4704-A51A-42C19F073C9F}" type="slidenum">
              <a:rPr b="0" lang="en-US" sz="1400" spc="-1" strike="noStrike">
                <a:solidFill>
                  <a:srgbClr val="0064ac"/>
                </a:solidFill>
                <a:latin typeface="Myriad Pro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PPT1"/>
          <p:cNvPicPr/>
          <p:nvPr/>
        </p:nvPicPr>
        <p:blipFill>
          <a:blip r:embed="rId3"/>
          <a:stretch/>
        </p:blipFill>
        <p:spPr>
          <a:xfrm>
            <a:off x="654120" y="6237360"/>
            <a:ext cx="1677960" cy="473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17360" y="981000"/>
            <a:ext cx="23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保险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4360" y="876240"/>
            <a:ext cx="49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pt素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sucai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3645000"/>
            <a:ext cx="768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中国风ppt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zhongguofen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475F-9075-41DE-B083-4672014A82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3T06:49:2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6:14:03Z</dcterms:modified>
  <cp:revision>150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