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2D4-7862-4631-989A-C28A2BC2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D5F-9B9E-4912-B2E5-18013C1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85F-7288-4303-B6CC-2AEC13A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0C2-83E1-4826-B68D-EE639425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F5C-DE13-40E5-81D1-8BC9F00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480-14F3-48D5-8EFD-AF383BA8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113-08B2-44BE-9439-CF602596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7D1-9333-4BCA-95C4-0449BE86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2D9-CBE6-42B0-BD89-CF7E8ECF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FEF-0A1E-4C05-961D-27A471C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B08-B10A-4A27-8027-BCE504B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2E7-B11B-4B5E-8DA7-42F5C17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453-0308-4020-8A5F-8AAAC3B0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Cj04191060000[1]"/>
          <p:cNvPicPr/>
          <p:nvPr/>
        </p:nvPicPr>
        <p:blipFill>
          <a:blip r:embed="rId2"/>
          <a:stretch/>
        </p:blipFill>
        <p:spPr>
          <a:xfrm>
            <a:off x="7093080" y="4724280"/>
            <a:ext cx="1323720" cy="1559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042920" y="981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北师大版 五年级 语文 下册 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4680" y="2492280"/>
            <a:ext cx="4144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灯光》课件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57200" y="1773360"/>
            <a:ext cx="799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　    他又划着一根火柴，点燃了烟，又望了一眼图画，深情地说：“赶明儿胜利了，咱们也能用上电灯，让孩子们都在那样亮和灯光底下学习，该多好啊！”他把头靠胸墙上，望着漆黑的夜空，完全陷入对未来的憧憬里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7160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郝副营长：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完全陷入对未来的憧憬里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”，他在憧憬什么呢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细读感悟"/>
          <p:cNvPicPr/>
          <p:nvPr/>
        </p:nvPicPr>
        <p:blipFill>
          <a:blip r:embed="rId2"/>
          <a:stretch/>
        </p:blipFill>
        <p:spPr>
          <a:xfrm>
            <a:off x="468360" y="836640"/>
            <a:ext cx="21780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900000" y="17733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这位年轻的战友不顾自己的性命，为了让孩子们能够在电灯底下学习，他自己却没有来得及见一见电灯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细读感悟"/>
          <p:cNvPicPr/>
          <p:nvPr/>
        </p:nvPicPr>
        <p:blipFill>
          <a:blip r:embed="rId2"/>
          <a:stretch/>
        </p:blipFill>
        <p:spPr>
          <a:xfrm>
            <a:off x="468360" y="836640"/>
            <a:ext cx="2178000" cy="582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692360" y="39337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对这句话是怎样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45480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116000" y="191628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在天安门前璀璨的华灯下面，我又想起这位亲爱的战友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细读感悟"/>
          <p:cNvPicPr/>
          <p:nvPr/>
        </p:nvPicPr>
        <p:blipFill>
          <a:blip r:embed="rId2"/>
          <a:stretch/>
        </p:blipFill>
        <p:spPr>
          <a:xfrm>
            <a:off x="468360" y="836640"/>
            <a:ext cx="2178000" cy="582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00771220420712_2"/>
          <p:cNvPicPr/>
          <p:nvPr/>
        </p:nvPicPr>
        <p:blipFill>
          <a:blip r:embed="rId3"/>
          <a:srcRect l="102" t="6247" r="0" b="0"/>
          <a:stretch/>
        </p:blipFill>
        <p:spPr>
          <a:xfrm>
            <a:off x="1249200" y="3430440"/>
            <a:ext cx="6778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31-B6B5-45AD-A64F-497431A65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8360" y="476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楷体_GB2312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2280" y="1295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战斗间隙，郝副营长划着（   ），借着（      ）看一本书，书上的插图画的是（              ）。他充满了对未来的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守敌的围墙被炸开一个（    ），突击连马上（       ），后续部队在黑暗里（           ），在这（        ）的时刻，郝副营长划着火柴，点燃了（      ），（    ）为后续部队照亮了前进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战斗胜利了，现在孩子们能够在（        ）学习，可他却没有来得及见一见（    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410080" y="27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缺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57200" y="32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了进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57200" y="2147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盏吊着的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9343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867280" y="3214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找不到突破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400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33520" y="169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微弱的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295280" y="3595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钧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40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40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858000" y="5119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底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4864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71640" y="2349360"/>
            <a:ext cx="3364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1557360"/>
            <a:ext cx="75614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学习本课生字新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抓住重点词句读懂课文，理解先烈对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的美好憧憬和为此做出的贡献，懂得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的幸福生活来之不易，更倍加珍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62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1835280" y="1989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140360" y="119700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王愿坚是当代著名的作家。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1945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年参加八路军。在抗日战争和解放战争中，当过随军记者，解放后创作了不少革命历史题材小说。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闪闪的红星</a:t>
            </a: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这部电影的编剧就有他一个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0081212001"/>
          <p:cNvPicPr/>
          <p:nvPr/>
        </p:nvPicPr>
        <p:blipFill>
          <a:blip r:embed="rId2"/>
          <a:srcRect l="0" t="0" r="314" b="7198"/>
          <a:stretch/>
        </p:blipFill>
        <p:spPr>
          <a:xfrm>
            <a:off x="684360" y="112536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无标题"/>
          <p:cNvPicPr/>
          <p:nvPr/>
        </p:nvPicPr>
        <p:blipFill>
          <a:blip r:embed="rId2"/>
          <a:stretch/>
        </p:blipFill>
        <p:spPr>
          <a:xfrm>
            <a:off x="2190600" y="1857240"/>
            <a:ext cx="47628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创设情境"/>
          <p:cNvPicPr/>
          <p:nvPr/>
        </p:nvPicPr>
        <p:blipFill>
          <a:blip r:embed="rId3"/>
          <a:stretch/>
        </p:blipFill>
        <p:spPr>
          <a:xfrm>
            <a:off x="684360" y="981000"/>
            <a:ext cx="2001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1c7f188a26g214"/>
          <p:cNvPicPr/>
          <p:nvPr/>
        </p:nvPicPr>
        <p:blipFill>
          <a:blip r:embed="rId2"/>
          <a:stretch/>
        </p:blipFill>
        <p:spPr>
          <a:xfrm>
            <a:off x="2124000" y="1916280"/>
            <a:ext cx="4919760" cy="368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创设情境"/>
          <p:cNvPicPr/>
          <p:nvPr/>
        </p:nvPicPr>
        <p:blipFill>
          <a:blip r:embed="rId3"/>
          <a:stretch/>
        </p:blipFill>
        <p:spPr>
          <a:xfrm>
            <a:off x="684360" y="981000"/>
            <a:ext cx="2001600" cy="5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132000" y="184464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默读课文，边读边想：课文哪些地方是写现在，哪些地方是写往事的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小女孩"/>
          <p:cNvPicPr/>
          <p:nvPr/>
        </p:nvPicPr>
        <p:blipFill>
          <a:blip r:embed="rId2"/>
          <a:stretch/>
        </p:blipFill>
        <p:spPr>
          <a:xfrm>
            <a:off x="971640" y="2349360"/>
            <a:ext cx="1966680" cy="327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初读感知"/>
          <p:cNvPicPr/>
          <p:nvPr/>
        </p:nvPicPr>
        <p:blipFill>
          <a:blip r:embed="rId3"/>
          <a:stretch/>
        </p:blipFill>
        <p:spPr>
          <a:xfrm>
            <a:off x="684360" y="105264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260360" y="4149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谁来说说事情的起因、经过、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332000" y="213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全文一头一尾是写现在，中间大部分是写往事。即第一、二自然段和最后自然段写的是现在，其余写的都是往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初读感知"/>
          <p:cNvPicPr/>
          <p:nvPr/>
        </p:nvPicPr>
        <p:blipFill>
          <a:blip r:embed="rId2"/>
          <a:stretch/>
        </p:blipFill>
        <p:spPr>
          <a:xfrm>
            <a:off x="684360" y="105264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26920" y="1628640"/>
            <a:ext cx="46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73"/>
                </a:solidFill>
                <a:latin typeface="Arial"/>
                <a:ea typeface="黑体"/>
              </a:rPr>
              <a:t>精读往事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细读感悟"/>
          <p:cNvPicPr/>
          <p:nvPr/>
        </p:nvPicPr>
        <p:blipFill>
          <a:blip r:embed="rId2"/>
          <a:stretch/>
        </p:blipFill>
        <p:spPr>
          <a:xfrm>
            <a:off x="468360" y="836640"/>
            <a:ext cx="2178000" cy="58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826920" y="2276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找出描写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灯光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262673"/>
                </a:solidFill>
                <a:latin typeface="楷体_GB2312"/>
                <a:ea typeface="楷体_GB2312"/>
              </a:rPr>
              <a:t>的句子，用笔勾画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26920" y="29242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广场上千万盏灯静静地照耀着天安门广场周围的宏伟建筑，使人心头感到光明，感到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5086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为什么看到这上千万盏灯，心头感到光明，感到温暖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900000" y="177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  <a:ea typeface="楷体_GB2312"/>
              </a:rPr>
              <a:t>书上有一幅插图，画的是一盏吊着的电灯，一个孩子正在灯下聚精会神地读书。他注视着那幅图，默默地沉思着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细读感悟"/>
          <p:cNvPicPr/>
          <p:nvPr/>
        </p:nvPicPr>
        <p:blipFill>
          <a:blip r:embed="rId2"/>
          <a:stretch/>
        </p:blipFill>
        <p:spPr>
          <a:xfrm>
            <a:off x="468360" y="836640"/>
            <a:ext cx="2178000" cy="58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11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6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