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14C-9964-46AD-9AB6-D4B2D6A0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7A4-E6D0-481E-81B8-2BA5DB28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67F5-27A4-4D37-8A4A-03372A7F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1869-2C4A-4C40-965D-A16EE9EC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93BF-D8F2-4393-888F-7644823A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CFDF-1AE5-4C98-8FC3-DA557F33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3229-9F8D-4722-BD54-0D63620D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896A-9711-4893-B59F-6EC86EE7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BE5-8E9A-4BEA-BD79-5D1B3D4C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9E1F-2B95-4E41-A887-1E55923B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70B-FB30-45B3-86FC-D699C247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77F-5931-48AA-9334-462A5422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FC0B-1A10-48FC-8D71-A2353D3172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7080" y="1600200"/>
            <a:ext cx="4724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ACK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14800" y="23623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5734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4869000"/>
            <a:ext cx="47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动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321300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2D2-5B92-42F3-B8E8-40D91835CB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kids"/>
          <p:cNvPicPr/>
          <p:nvPr/>
        </p:nvPicPr>
        <p:blipFill>
          <a:blip r:embed="rId2"/>
          <a:stretch/>
        </p:blipFill>
        <p:spPr>
          <a:xfrm>
            <a:off x="2057400" y="1371600"/>
            <a:ext cx="4761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09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6:31:11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