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94B-9610-4BE5-B417-EDAE22CB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BC6-477D-42E2-8E15-E3AC0C3E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BF9-49ED-4D07-8FBE-B1D4B6EB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6E1-450B-4C8A-B623-4622E21A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27C-931B-4C59-9345-681C2C6B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E3F-1B65-4B8E-8B79-1C568916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4D3-B791-4E5D-A9AF-8E56B1E5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F66-4D75-41BF-9C63-0935AF41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A56-DD2F-4228-819F-3737177A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A97-2BC9-4D1C-8853-31C463BD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49D-06FE-42DA-86B3-A33C48C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FE7-34DF-430B-B353-6A1AAA0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69B9-2C4B-4CD6-8101-20B34E9154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-441720"/>
            <a:ext cx="7848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5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978600" y="6369120"/>
            <a:ext cx="20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mic Sans MS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omic Sans MS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1131840" y="76500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倒数的认识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2492280"/>
                <a:ext cx="1676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513240" y="2492280"/>
                <a:ext cx="2117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72360" y="2492280"/>
                <a:ext cx="15429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8"/>
          <p:cNvSpPr/>
          <p:nvPr/>
        </p:nvSpPr>
        <p:spPr>
          <a:xfrm>
            <a:off x="2556000" y="27496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435640" y="270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81200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89F-085A-48DC-9126-1AA45E4474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3960" y="1989000"/>
            <a:ext cx="7696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乘积是</a:t>
            </a:r>
            <a:r>
              <a:rPr b="1" lang="en-US" sz="6600" spc="-1" strike="noStrike">
                <a:solidFill>
                  <a:srgbClr val="703dff"/>
                </a:solidFill>
                <a:latin typeface="宋体"/>
              </a:rPr>
              <a:t>1</a:t>
            </a: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的两个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互为倒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5600" y="198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乘积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219120" y="19890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65600" y="3198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互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2"/>
          <p:cNvSpPr/>
          <p:nvPr/>
        </p:nvSpPr>
        <p:spPr>
          <a:xfrm>
            <a:off x="250920" y="62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85680"/>
            <a:ext cx="4321080" cy="157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345960"/>
            <a:ext cx="9352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1735200"/>
            <a:ext cx="2519280" cy="113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68720" y="1735200"/>
            <a:ext cx="2232000" cy="111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64000" y="1692360"/>
            <a:ext cx="4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39640" y="2959200"/>
            <a:ext cx="2519640" cy="113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068720" y="2959200"/>
            <a:ext cx="2232000" cy="111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380200" y="2930400"/>
            <a:ext cx="377640" cy="1060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205092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求一个数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除外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的倒数，只要把这个数的分子、分母调换位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6834240" y="6369120"/>
            <a:ext cx="21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5" descr=""/>
          <p:cNvPicPr/>
          <p:nvPr/>
        </p:nvPicPr>
        <p:blipFill>
          <a:blip r:embed="rId1"/>
          <a:stretch/>
        </p:blipFill>
        <p:spPr>
          <a:xfrm>
            <a:off x="316080" y="698400"/>
            <a:ext cx="7448400" cy="586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48:02Z</dcterms:created>
  <dc:creator/>
  <dc:description/>
  <dc:language>en-US</dc:language>
  <cp:lastModifiedBy/>
  <dcterms:modified xsi:type="dcterms:W3CDTF">2015-07-04T13:36:07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