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ED5-9E82-4726-90BC-B441FDDB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14E-293D-4771-B08E-901652F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539-E35D-419F-A85A-3C9A0F07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240-B0AB-44ED-8EEE-FE3DDFFE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426-99CC-46E6-AB18-A35B68CE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112-0E74-4B43-A424-DB2C3192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C44-3C48-4106-B86B-7B17DE43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AA3-CE50-49D2-BA73-E15E7CCA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C78-60F8-45CA-BF17-7BBA0D9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3FF-63B4-4318-B966-AA4D02C3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239-55F2-4478-8265-C4C381E0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F07-7E73-4E75-829F-885E322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B036-6AD4-42BA-BCAB-DBF42B34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32_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32000" y="2349360"/>
            <a:ext cx="6781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3680" y="292572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动手做做看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3"/>
          <p:cNvGrpSpPr/>
          <p:nvPr/>
        </p:nvGrpSpPr>
        <p:grpSpPr>
          <a:xfrm>
            <a:off x="4572000" y="0"/>
            <a:ext cx="4824360" cy="3123000"/>
            <a:chOff x="4572000" y="0"/>
            <a:chExt cx="4824360" cy="3123000"/>
          </a:xfrm>
        </p:grpSpPr>
        <p:sp>
          <p:nvSpPr>
            <p:cNvPr id="93" name="AutoShape 4"/>
            <p:cNvSpPr/>
            <p:nvPr/>
          </p:nvSpPr>
          <p:spPr>
            <a:xfrm>
              <a:off x="4572000" y="0"/>
              <a:ext cx="4824360" cy="2897280"/>
            </a:xfrm>
            <a:prstGeom prst="wedgeRectCallout">
              <a:avLst>
                <a:gd name="adj1" fmla="val -57865"/>
                <a:gd name="adj2" fmla="val 38875"/>
              </a:avLst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"/>
            <p:cNvSpPr/>
            <p:nvPr/>
          </p:nvSpPr>
          <p:spPr>
            <a:xfrm>
              <a:off x="4643280" y="0"/>
              <a:ext cx="4500720" cy="31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我不是哄骗你们 。我是想让你们知道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。 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6"/>
          <p:cNvSpPr/>
          <p:nvPr/>
        </p:nvSpPr>
        <p:spPr>
          <a:xfrm>
            <a:off x="4643280" y="1052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科学家的话，也不一定都是对的，要动手做做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720" y="61657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图像-11"/>
          <p:cNvPicPr/>
          <p:nvPr/>
        </p:nvPicPr>
        <p:blipFill>
          <a:blip r:embed="rId1"/>
          <a:srcRect l="24810" t="0" r="0" b="0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84360" y="18900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想一想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152360" y="1557360"/>
            <a:ext cx="799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听了朗志万的话，伊琳娜为什么笑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图片2"/>
          <p:cNvPicPr/>
          <p:nvPr/>
        </p:nvPicPr>
        <p:blipFill>
          <a:blip r:embed="rId2"/>
          <a:stretch/>
        </p:blipFill>
        <p:spPr>
          <a:xfrm>
            <a:off x="684360" y="1125360"/>
            <a:ext cx="1584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Fr6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900000" y="290952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阅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马过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把读后的感受说给爸爸妈妈或小朋友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动手做做看：杯子里装满水，在上面放上一张纸，然后把杯子倒过来，水会不会洒出来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908000" y="836640"/>
            <a:ext cx="59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作业套餐（任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942840" y="270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pic_254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362-C594-42DD-A3F5-D6F16B4B5F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179280" y="0"/>
            <a:ext cx="4248000" cy="3527280"/>
            <a:chOff x="179280" y="0"/>
            <a:chExt cx="4248000" cy="3527280"/>
          </a:xfrm>
        </p:grpSpPr>
        <p:sp>
          <p:nvSpPr>
            <p:cNvPr id="54" name="AutoShape 5"/>
            <p:cNvSpPr/>
            <p:nvPr/>
          </p:nvSpPr>
          <p:spPr>
            <a:xfrm>
              <a:off x="179280" y="0"/>
              <a:ext cx="4248000" cy="3527280"/>
            </a:xfrm>
            <a:prstGeom prst="wedgeRectCallout">
              <a:avLst>
                <a:gd name="adj1" fmla="val 65546"/>
                <a:gd name="adj2" fmla="val 41898"/>
              </a:avLst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250560" y="0"/>
              <a:ext cx="410544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一个杯子里装满了水</a:t>
              </a: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再放进别的东西</a:t>
              </a: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水就会漫出来。如果放进一条金鱼，却不是这样。这是为什么？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1"/>
          <p:cNvGrpSpPr/>
          <p:nvPr/>
        </p:nvGrpSpPr>
        <p:grpSpPr>
          <a:xfrm>
            <a:off x="6372360" y="-171360"/>
            <a:ext cx="2771640" cy="2276280"/>
            <a:chOff x="6372360" y="-171360"/>
            <a:chExt cx="2771640" cy="2276280"/>
          </a:xfrm>
        </p:grpSpPr>
        <p:sp>
          <p:nvSpPr>
            <p:cNvPr id="59" name="AutoShape 5"/>
            <p:cNvSpPr/>
            <p:nvPr/>
          </p:nvSpPr>
          <p:spPr>
            <a:xfrm>
              <a:off x="6372360" y="-171360"/>
              <a:ext cx="2771640" cy="2276280"/>
            </a:xfrm>
            <a:prstGeom prst="cloudCallout">
              <a:avLst>
                <a:gd name="adj1" fmla="val 13745"/>
                <a:gd name="adj2" fmla="val 2069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6767640" y="0"/>
              <a:ext cx="237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因为金鱼身上有鳞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0"/>
          <p:cNvGrpSpPr/>
          <p:nvPr/>
        </p:nvGrpSpPr>
        <p:grpSpPr>
          <a:xfrm>
            <a:off x="0" y="765000"/>
            <a:ext cx="4140360" cy="2158920"/>
            <a:chOff x="0" y="765000"/>
            <a:chExt cx="4140360" cy="2158920"/>
          </a:xfrm>
        </p:grpSpPr>
        <p:sp>
          <p:nvSpPr>
            <p:cNvPr id="62" name="AutoShape 7"/>
            <p:cNvSpPr/>
            <p:nvPr/>
          </p:nvSpPr>
          <p:spPr>
            <a:xfrm>
              <a:off x="0" y="765000"/>
              <a:ext cx="4140360" cy="2158920"/>
            </a:xfrm>
            <a:prstGeom prst="cloudCallout">
              <a:avLst>
                <a:gd name="adj1" fmla="val 54486"/>
                <a:gd name="adj2" fmla="val 1394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11280" y="1125360"/>
              <a:ext cx="345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一定是金鱼把水喝下去了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Fr6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042920" y="112536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妈妈说：“不能    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动手做做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291280" y="112536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971640" y="3500280"/>
            <a:ext cx="7619760" cy="825120"/>
            <a:chOff x="971640" y="3500280"/>
            <a:chExt cx="7619760" cy="825120"/>
          </a:xfrm>
        </p:grpSpPr>
        <p:sp>
          <p:nvSpPr>
            <p:cNvPr id="69" name="Text Box 6"/>
            <p:cNvSpPr/>
            <p:nvPr/>
          </p:nvSpPr>
          <p:spPr>
            <a:xfrm>
              <a:off x="971640" y="3500280"/>
              <a:ext cx="761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妈妈说：“不能        想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你动手做做看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!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>
              <a:off x="5148000" y="4149720"/>
              <a:ext cx="115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9"/>
          <p:cNvSpPr/>
          <p:nvPr/>
        </p:nvSpPr>
        <p:spPr>
          <a:xfrm>
            <a:off x="5364000" y="3357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0638"/>
                </a:solidFill>
                <a:latin typeface="Arial"/>
              </a:rPr>
              <a:t>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200451722148823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467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990720" y="6858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杯子装满了水，再放进别的东西，水就会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90720" y="2743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伊琳娜找来一条金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它放进一个装满水的杯子里。哎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朗志万说的不一样 。水漫出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219320" y="6172200"/>
            <a:ext cx="761760" cy="4572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2514600" y="6172200"/>
            <a:ext cx="762120" cy="4572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219320" y="129528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Fr6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187280" y="2349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想一想，伊琳娜为什么生气？又为什么笑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187280" y="126828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自学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520" y="59929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219320" y="129528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r6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258920" y="1557360"/>
            <a:ext cx="6858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“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怎么可以提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的问题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来       我们小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友呢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?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851280" y="263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哄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916360" y="1557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6,6,-16)"/>
                                      </p:to>
                                    </p:se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35:1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56:52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