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E2F-0D39-432F-AF37-62FF0A60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6CB-2D86-477E-8F18-E141A85C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BCE-601F-4093-865E-38BB3085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E51-CF50-4C3B-989F-684B2EB1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3D1-65D3-4171-A848-2ED73A1A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1E5-CD49-4DD8-AC5E-D97334CB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B74-2059-4DBA-8FB5-53BB4C8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1CC-5640-405A-8390-517D4579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16F-2B55-470E-A460-741130FC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B4B-88F6-49E5-96CF-5320CA8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8E6-AB7C-45E2-B4D2-D7D5BCBC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57C-0025-4D8C-85E8-06773AF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5191-9BBF-4CD7-A037-4EFB2BE5A2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2F66-21AA-45B0-BDF2-C81119E744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4977000" y="2967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0c0"/>
                </a:solidFill>
                <a:latin typeface="方正清刻本悦宋简体"/>
                <a:ea typeface="方正清刻本悦宋简体"/>
              </a:rPr>
              <a:t>浪漫心形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ake Me To Your Heart" descr=""/>
          <p:cNvPicPr/>
          <p:nvPr/>
        </p:nvPicPr>
        <p:blipFill>
          <a:blip r:embed="rId1"/>
          <a:stretch/>
        </p:blipFill>
        <p:spPr>
          <a:xfrm>
            <a:off x="-1106640" y="44830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3240" y="8636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动态卡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表 6" descr=""/>
          <p:cNvPicPr/>
          <p:nvPr/>
        </p:nvPicPr>
        <p:blipFill>
          <a:blip r:embed="rId1"/>
          <a:stretch/>
        </p:blipFill>
        <p:spPr>
          <a:xfrm>
            <a:off x="1595520" y="-345960"/>
            <a:ext cx="8999280" cy="75517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9"/>
          <p:cNvSpPr/>
          <p:nvPr/>
        </p:nvSpPr>
        <p:spPr>
          <a:xfrm>
            <a:off x="2781000" y="7373880"/>
            <a:ext cx="6629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L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V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7e6e6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S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J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ST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A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W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R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L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Y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U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D 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SOM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W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H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O GI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V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S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IT 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H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 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D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E</a:t>
            </a:r>
            <a:r>
              <a:rPr b="0" lang="en-US" sz="1800" spc="-1" strike="noStrike">
                <a:solidFill>
                  <a:srgbClr val="5b9bd5"/>
                </a:solidFill>
                <a:latin typeface="Eras Light ITC"/>
                <a:ea typeface="张海山锐线体2.0"/>
              </a:rPr>
              <a:t>F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ffc000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a5a5a5"/>
                </a:solidFill>
                <a:latin typeface="Eras Light ITC"/>
                <a:ea typeface="张海山锐线体2.0"/>
              </a:rPr>
              <a:t>T</a:t>
            </a:r>
            <a:r>
              <a:rPr b="0" lang="en-US" sz="1800" spc="-1" strike="noStrike">
                <a:solidFill>
                  <a:srgbClr val="4472c4"/>
                </a:solidFill>
                <a:latin typeface="Eras Light ITC"/>
                <a:ea typeface="张海山锐线体2.0"/>
              </a:rPr>
              <a:t>I</a:t>
            </a:r>
            <a:r>
              <a:rPr b="0" lang="en-US" sz="1800" spc="-1" strike="noStrike">
                <a:solidFill>
                  <a:srgbClr val="70ad47"/>
                </a:solidFill>
                <a:latin typeface="Eras Light ITC"/>
                <a:ea typeface="张海山锐线体2.0"/>
              </a:rPr>
              <a:t>O</a:t>
            </a:r>
            <a:r>
              <a:rPr b="0" lang="en-US" sz="1800" spc="-1" strike="noStrike">
                <a:solidFill>
                  <a:srgbClr val="ed7d31"/>
                </a:solidFill>
                <a:latin typeface="Eras Light ITC"/>
                <a:ea typeface="张海山锐线体2.0"/>
              </a:rPr>
              <a:t>N</a:t>
            </a:r>
            <a:r>
              <a:rPr b="0" lang="en-US" sz="1800" spc="-1" strike="noStrike">
                <a:solidFill>
                  <a:srgbClr val="0070c0"/>
                </a:solidFill>
                <a:latin typeface="Eras Light ITC"/>
                <a:ea typeface="张海山锐线体2.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"/>
          <p:cNvSpPr/>
          <p:nvPr/>
        </p:nvSpPr>
        <p:spPr>
          <a:xfrm>
            <a:off x="3141000" y="5645160"/>
            <a:ext cx="59101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Trajan"/>
                <a:ea typeface="张海山锐线体2.0"/>
              </a:rPr>
              <a:t>L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V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J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A </a:t>
            </a:r>
            <a:r>
              <a:rPr b="0" lang="en-US" sz="1600" spc="-1" strike="noStrike">
                <a:solidFill>
                  <a:srgbClr val="00b0f0"/>
                </a:solidFill>
                <a:latin typeface="Trajan"/>
                <a:ea typeface="张海山锐线体2.0"/>
              </a:rPr>
              <a:t>W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R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L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00b050"/>
                </a:solidFill>
                <a:latin typeface="Trajan"/>
                <a:ea typeface="张海山锐线体2.0"/>
              </a:rPr>
              <a:t>Y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U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F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D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92d050"/>
                </a:solidFill>
                <a:latin typeface="Trajan"/>
                <a:ea typeface="张海山锐线体2.0"/>
              </a:rPr>
              <a:t>M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W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H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G</a:t>
            </a:r>
            <a:r>
              <a:rPr b="0" lang="en-US" sz="1600" spc="-1" strike="noStrike">
                <a:solidFill>
                  <a:srgbClr val="92d050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00b050"/>
                </a:solidFill>
                <a:latin typeface="Trajan"/>
                <a:ea typeface="张海山锐线体2.0"/>
              </a:rPr>
              <a:t>V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H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Trajan"/>
                <a:ea typeface="张海山锐线体2.0"/>
              </a:rPr>
              <a:t> 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D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E</a:t>
            </a:r>
            <a:r>
              <a:rPr b="0" lang="en-US" sz="1600" spc="-1" strike="noStrike">
                <a:solidFill>
                  <a:srgbClr val="ed7d31"/>
                </a:solidFill>
                <a:latin typeface="Trajan"/>
                <a:ea typeface="张海山锐线体2.0"/>
              </a:rPr>
              <a:t>F</a:t>
            </a:r>
            <a:r>
              <a:rPr b="0" lang="en-US" sz="1600" spc="-1" strike="noStrike">
                <a:solidFill>
                  <a:srgbClr val="4472c4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00b0f0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70ad47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44546a"/>
                </a:solidFill>
                <a:latin typeface="Trajan"/>
                <a:ea typeface="张海山锐线体2.0"/>
              </a:rPr>
              <a:t>T</a:t>
            </a:r>
            <a:r>
              <a:rPr b="0" lang="en-US" sz="1600" spc="-1" strike="noStrike">
                <a:solidFill>
                  <a:srgbClr val="0070c0"/>
                </a:solidFill>
                <a:latin typeface="Trajan"/>
                <a:ea typeface="张海山锐线体2.0"/>
              </a:rPr>
              <a:t>I</a:t>
            </a:r>
            <a:r>
              <a:rPr b="0" lang="en-US" sz="1600" spc="-1" strike="noStrike">
                <a:solidFill>
                  <a:srgbClr val="ffc000"/>
                </a:solidFill>
                <a:latin typeface="Trajan"/>
                <a:ea typeface="张海山锐线体2.0"/>
              </a:rPr>
              <a:t>O</a:t>
            </a:r>
            <a:r>
              <a:rPr b="0" lang="en-US" sz="1600" spc="-1" strike="noStrike">
                <a:solidFill>
                  <a:srgbClr val="5b9bd5"/>
                </a:solidFill>
                <a:latin typeface="Trajan"/>
                <a:ea typeface="张海山锐线体2.0"/>
              </a:rPr>
              <a:t>N</a:t>
            </a:r>
            <a:r>
              <a:rPr b="0" lang="en-US" sz="1600" spc="-1" strike="noStrike">
                <a:solidFill>
                  <a:srgbClr val="a5a5a5"/>
                </a:solidFill>
                <a:latin typeface="Trajan"/>
                <a:ea typeface="张海山锐线体2.0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2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表 6" descr=""/>
          <p:cNvPicPr/>
          <p:nvPr/>
        </p:nvPicPr>
        <p:blipFill>
          <a:blip r:embed="rId1"/>
          <a:stretch/>
        </p:blipFill>
        <p:spPr>
          <a:xfrm>
            <a:off x="2666880" y="15840"/>
            <a:ext cx="6858000" cy="6789600"/>
          </a:xfrm>
          <a:prstGeom prst="rect">
            <a:avLst/>
          </a:prstGeom>
          <a:ln w="0">
            <a:noFill/>
          </a:ln>
        </p:spPr>
      </p:pic>
      <p:sp>
        <p:nvSpPr>
          <p:cNvPr id="49" name="任意多边形 5"/>
          <p:cNvSpPr/>
          <p:nvPr/>
        </p:nvSpPr>
        <p:spPr>
          <a:xfrm>
            <a:off x="2622600" y="5997600"/>
            <a:ext cx="6946920" cy="183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表 6" descr=""/>
          <p:cNvPicPr/>
          <p:nvPr/>
        </p:nvPicPr>
        <p:blipFill>
          <a:blip r:embed="rId1"/>
          <a:stretch/>
        </p:blipFill>
        <p:spPr>
          <a:xfrm>
            <a:off x="1881360" y="0"/>
            <a:ext cx="8429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7520" y="3645000"/>
            <a:ext cx="1025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524-C6EF-471A-9B0D-A0FDF515E84C}" type="slidenum">
              <a:t>5</a:t>
            </a:fld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表 6" descr=""/>
          <p:cNvPicPr/>
          <p:nvPr/>
        </p:nvPicPr>
        <p:blipFill>
          <a:blip r:embed="rId1"/>
          <a:stretch/>
        </p:blipFill>
        <p:spPr>
          <a:xfrm>
            <a:off x="2651040" y="-15840"/>
            <a:ext cx="6889680" cy="6891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表 6" descr=""/>
          <p:cNvPicPr/>
          <p:nvPr/>
        </p:nvPicPr>
        <p:blipFill>
          <a:blip r:embed="rId1"/>
          <a:stretch/>
        </p:blipFill>
        <p:spPr>
          <a:xfrm>
            <a:off x="1325520" y="249120"/>
            <a:ext cx="9541080" cy="635976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2"/>
          <p:cNvSpPr/>
          <p:nvPr/>
        </p:nvSpPr>
        <p:spPr>
          <a:xfrm>
            <a:off x="5929920" y="5254560"/>
            <a:ext cx="330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方正宋一简体"/>
                <a:ea typeface="方正宋一简体"/>
              </a:rPr>
              <a:t>爱情是遇见你以后发生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14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表 6" descr=""/>
          <p:cNvPicPr/>
          <p:nvPr/>
        </p:nvPicPr>
        <p:blipFill>
          <a:blip r:embed="rId1"/>
          <a:stretch/>
        </p:blipFill>
        <p:spPr>
          <a:xfrm>
            <a:off x="1901880" y="-765000"/>
            <a:ext cx="8388360" cy="838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5:0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32:05Z</dcterms:modified>
  <cp:revision>1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