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45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45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45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45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45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45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45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45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45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45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7148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5092560" y="2494080"/>
            <a:ext cx="4051440" cy="43639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332560" y="6558120"/>
            <a:ext cx="85968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CF9E3B2D-FDEF-4F5C-86AD-1B13BFD03CA6}" type="slidenum">
              <a:rPr b="0" lang="en-US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zhongguofeng/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63817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29240" y="1197000"/>
            <a:ext cx="312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电信经典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使用规范说明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1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1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1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1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1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1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1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1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1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1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1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16000" y="3645000"/>
            <a:ext cx="7688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中国风ppt模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eppt.com/moban/zhongguofen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2T02:33:01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08:05:43Z</dcterms:modified>
  <cp:revision>7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